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334FE-4C79-4C93-B8EF-1644FFC6B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9CAFF-C3E0-4325-994B-DBBE95D5F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C64CC-61FA-4A35-A489-2E8E564B8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E04C8-FD5D-4B85-A657-BF40588F9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E2FDD-96A3-4CC4-B547-2283C636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A5AF0-FE01-460E-A2F0-F556D5756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BB9DB-898C-4C47-AD7E-49ADC0F04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6D865-7C03-4AE2-A8E6-667A54F86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FDAA7-41F6-418E-A10A-9251AEC4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9A71-F7C2-4DA8-BF0F-920C9807D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699B8-CC07-4F38-B8D7-0517ED67A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E3801-C605-474A-A66C-AA0CBD57C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FDB2-3C5C-46F5-B286-A20B5AB1F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راب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200400"/>
            <a:ext cx="6400800" cy="1752480"/>
          </a:xfrm>
          <a:prstGeom prst="rect">
            <a:avLst/>
          </a:prstGeom>
          <a:noFill/>
          <a:ln w="0">
            <a:noFill/>
          </a:ln>
          <a:effectLst>
            <a:outerShdw dist="36147"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إبراهيم/الآيات </a:t>
            </a:r>
            <a:r>
              <a:rPr b="0" lang="en-US" sz="3200" spc="-1" strike="noStrike">
                <a:solidFill>
                  <a:srgbClr val="000000"/>
                </a:solidFill>
                <a:latin typeface="Times New Roman"/>
              </a:rPr>
              <a:t>42</a:t>
            </a:r>
            <a:r>
              <a:rPr b="0" lang="en-US" sz="3200" spc="-1" strike="noStrike">
                <a:solidFill>
                  <a:srgbClr val="000000"/>
                </a:solidFill>
                <a:latin typeface="Times New Roman"/>
              </a:rPr>
              <a:t>-</a:t>
            </a:r>
            <a:r>
              <a:rPr b="0" lang="en-US" sz="3200" spc="-1" strike="noStrike">
                <a:solidFill>
                  <a:srgbClr val="000000"/>
                </a:solidFill>
                <a:latin typeface="Times New Roman"/>
              </a:rPr>
              <a:t>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05160" y="380880"/>
            <a:ext cx="3733560" cy="60984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1600200"/>
            <a:ext cx="9144000" cy="6324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حْسَبَنَّ اللَّهَ غَافِلًا عَمَّا يَعْمَلُ الظَّالِمُونَ إِنَّمَا يُؤَخِّرُهُمْ لِيَوْمٍ تَشْخَصُ فِيهِ الْأَبْصَارُ     (</a:t>
            </a:r>
            <a:r>
              <a:rPr b="0" lang="ar-SA" sz="3200" spc="-1" strike="noStrike">
                <a:solidFill>
                  <a:srgbClr val="000000"/>
                </a:solidFill>
                <a:latin typeface="Times New Roman"/>
                <a:ea typeface="Traditional Arabic"/>
              </a:rPr>
              <a:t>42</a:t>
            </a:r>
            <a:r>
              <a:rPr b="0" lang="ar-SA" sz="3200" spc="-1" strike="noStrike">
                <a:solidFill>
                  <a:srgbClr val="000000"/>
                </a:solidFill>
                <a:latin typeface="Times New Roman"/>
                <a:ea typeface="Traditional Arabic"/>
              </a:rPr>
              <a:t>) مُهْطِعِينَ مُقْنِعِي رُءُوسِهِمْ لَا يَرْتَدُّ إِلَيْهِمْ طَرْفُهُمْ وَأَفْئِدَتُهُمْ هَوَاءٌ (</a:t>
            </a:r>
            <a:r>
              <a:rPr b="0" lang="ar-SA" sz="3200" spc="-1" strike="noStrike">
                <a:solidFill>
                  <a:srgbClr val="000000"/>
                </a:solidFill>
                <a:latin typeface="Times New Roman"/>
                <a:ea typeface="Traditional Arabic"/>
              </a:rPr>
              <a:t>43</a:t>
            </a:r>
            <a:r>
              <a:rPr b="0" lang="ar-SA" sz="3200" spc="-1" strike="noStrike">
                <a:solidFill>
                  <a:srgbClr val="000000"/>
                </a:solidFill>
                <a:latin typeface="Times New Roman"/>
                <a:ea typeface="Traditional Arabic"/>
              </a:rPr>
              <a:t>) وَأَنْذِرِ النَّاسَ يَوْمَ يَأْتِيهِمُ الْعَذَابُ فَيَقُولُ الَّذِينَ ظَلَمُوا رَبَّنَا أَخِّرْنَا إِلَى أَجَلٍ قَرِيبٍ نُجِبْ دَعْوَتَكَ وَنَتَّبِعِ الرُّسُلَ أَوَلَمْ تَكُونُوا أَقْسَمْتُمْ مِنْ قَبْلُ مَا لَكُمْ مِنْ زَوَالٍ (</a:t>
            </a:r>
            <a:r>
              <a:rPr b="0" lang="ar-SA" sz="3200" spc="-1" strike="noStrike">
                <a:solidFill>
                  <a:srgbClr val="000000"/>
                </a:solidFill>
                <a:latin typeface="Times New Roman"/>
                <a:ea typeface="Traditional Arabic"/>
              </a:rPr>
              <a:t>44</a:t>
            </a:r>
            <a:r>
              <a:rPr b="0" lang="ar-SA" sz="3200" spc="-1" strike="noStrike">
                <a:solidFill>
                  <a:srgbClr val="000000"/>
                </a:solidFill>
                <a:latin typeface="Times New Roman"/>
                <a:ea typeface="Traditional Arabic"/>
              </a:rPr>
              <a:t>) وَسَكَنْتُمْ فِي مَسَاكِنِ الَّذِينَ ظَلَمُوا أَنْفُسَهُمْ وَتَبَيَّنَ لَكُمْ كَيْفَ فَعَلْنَا بِهِمْ وَضَرَبْنَا لَكُمُ الْأَمْثَالَ (</a:t>
            </a:r>
            <a:r>
              <a:rPr b="0" lang="ar-SA" sz="3200" spc="-1" strike="noStrike">
                <a:solidFill>
                  <a:srgbClr val="000000"/>
                </a:solidFill>
                <a:latin typeface="Times New Roman"/>
                <a:ea typeface="Traditional Arabic"/>
              </a:rPr>
              <a:t>45</a:t>
            </a:r>
            <a:r>
              <a:rPr b="0" lang="ar-SA" sz="3200" spc="-1" strike="noStrike">
                <a:solidFill>
                  <a:srgbClr val="000000"/>
                </a:solidFill>
                <a:latin typeface="Times New Roman"/>
                <a:ea typeface="Traditional Arabic"/>
              </a:rPr>
              <a:t>) وَقَدْ مَكَرُوا مَكْرَهُمْ وَعِنْدَ اللَّهِ مَكْرُهُمْ وَإِنْ كَانَ مَكْرُهُمْ لِتَزُولَ مِنْهُ الْجِبَالُ (</a:t>
            </a:r>
            <a:r>
              <a:rPr b="0" lang="ar-SA" sz="3200" spc="-1" strike="noStrike">
                <a:solidFill>
                  <a:srgbClr val="000000"/>
                </a:solidFill>
                <a:latin typeface="Times New Roman"/>
                <a:ea typeface="Traditional Arabic"/>
              </a:rPr>
              <a:t>46</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152280" y="533520"/>
          <a:ext cx="8991360" cy="7100640"/>
        </p:xfrm>
        <a:graphic>
          <a:graphicData uri="http://schemas.openxmlformats.org/drawingml/2006/table">
            <a:tbl>
              <a:tblPr/>
              <a:tblGrid>
                <a:gridCol w="4496040"/>
                <a:gridCol w="449532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53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غمض من هول ما تراه في ذلك اليو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سرعين وقيل المهطع:الذي ينظر في ذل ًّ وخشوع.</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قنع:الذي يرفع رأسه ويقبل ببصره على ما بين يديه،والمعنى:رافعي رؤوسهم ينظرون في ذ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رجع إليهم أبصارهم من شدة النظر فهي شاخصة النظر،قد شغلهم ما بين أيد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وبهم خاوية خالية ليس فيها شيء لكثرة الوجل والخوف.</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شخيص فيه الأبصا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هطع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قنعي رؤوس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رتد إليهم طرف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فئدتهم هواء</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3640" cy="6857640"/>
        </p:xfrm>
        <a:graphic>
          <a:graphicData uri="http://schemas.openxmlformats.org/drawingml/2006/table">
            <a:tbl>
              <a:tblPr/>
              <a:tblGrid>
                <a:gridCol w="4571640"/>
                <a:gridCol w="4572000"/>
              </a:tblGrid>
              <a:tr h="685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وف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هو يوم القيامة وإنما خصه بذكر العذاب وإن كان فيه ثواب؛لأن الكلام خرج مخرج التهديد للعصا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هلنا مدة يسيرة،فالذين ظلموا سألوا الرجوع إلى الدنيا حين ظهر لهم الحق 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الإسلا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حلفتم في الدني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كم لا تعبثون ولا تنتقلون من الدنيا إلى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كفر والعصيان وهو قوم نوح وعاد وثمود وغيره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نذر النا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م يأتيهم العذا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بنا أخرنا إلى أجل قريب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جبْ دعوت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ولم تكونوا أقسم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لكم من زو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مساكن الذين ظلموا أنفس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43640" cy="6857640"/>
        </p:xfrm>
        <a:graphic>
          <a:graphicData uri="http://schemas.openxmlformats.org/drawingml/2006/table">
            <a:tbl>
              <a:tblPr/>
              <a:tblGrid>
                <a:gridCol w="4571640"/>
                <a:gridCol w="4572000"/>
              </a:tblGrid>
              <a:tr h="685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رفتم عقوبتنا إيا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ينا أن مثلكم كمثل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شرك بالله وتكذيب الرسل والمعان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جزاء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د كادت الجبال تزول من مكرهم،وقيل:ضربت مثلاً لأمر النبي-صلى الله عليه وسلم-وثبوت دينه كثبوت الجبال الراسية.والمعنى:لو بلغ كيدهم إلى إزالة الجبال لما زال أمر الإسلا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بين لكم كيف فعلنا ب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ضربنا لكم الأمث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د مكروا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عند الله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تزول منه الجبا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fontScale="85000"/>
          </a:bodyPr>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ن تأخير العقوبة عن الظالمين وتركهم  يتقبلون في البلاد آمنين مطمئنين ويتمتعون بحظوظ الدنيا وأرزقها لا يدل هذا على حسن حالهم وليس ذلك إهمالاً لعقوبتهم أو غفلة عنهم، فالله يمتعهم بكثير من الملذات ولا يجعل عقوبتهم وإنما يمهلهم ليوم شديد الهول ترتفع فيه أبصار أهل الموقف وتبقى مفتوحة لا تطرف من شدة الفزع والاضطراب.</a:t>
            </a:r>
            <a:endParaRPr b="0" lang="en-US" sz="3200" spc="-1" strike="noStrike">
              <a:solidFill>
                <a:srgbClr val="000000"/>
              </a:solidFill>
              <a:latin typeface="Times New Roman"/>
            </a:endParaRPr>
          </a:p>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يوم العقاب يأتي الناس مسرعين إلى الداعي الذي يدعوهم إلى الحشر،رافعي رؤوسهم إلى السماء من غير التفات إلى شيء وأفئدتهم فارغة مضطربة لا حول فيها ولا ثبات،قد بلغت الحناجر من شدة ما يرونه من هول موقف الحساب.</a:t>
            </a:r>
            <a:endParaRPr b="0" lang="en-US" sz="3200" spc="-1" strike="noStrike">
              <a:solidFill>
                <a:srgbClr val="000000"/>
              </a:solidFill>
              <a:latin typeface="Times New Roman"/>
            </a:endParaRPr>
          </a:p>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حينما يرى الظالمون العذاب يسألون ربهم الرجوع إلى الدنيا وأن يمهلهم أمداً قريباً لكى يتبعوا الرسل ويجيبوا دعوتهم ويخلصو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عبادة لربهم فحينئذ يقال لهم-على سبيل التوبيخ-:ألم تحلفوا في الدنيا أنكم إذا متم لا تخرجون لبعث ولا حساب؟فالآن تسألون التأخير للتوبة حين نزل بكم من العذاب ما نزل،فذوقوا وبال أمركم،فينقطع بعد ذلك رجاؤهم ولا يتكلمون بعدها.</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عدم اعتبار الظالمين بالعقوبات التي حلي بمن سبقهم،فقد سكنوا في مساكنهم،وعرفوا مآلهم وعاقبتهم،وتبن لهم فعل بهم لما عصوا الرسل وكذبوهم ومع ذلك لم يعتبروا بأيام الله فيهم،ولم يتعظوا بما حصل بسبب ظلمهم.</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قد كان مكر الكفار بنصرة الباطل والترويج له مكراً عظيماً كادت الجبال الراسيات أن تزول بسببه عن أماكنها،ولكن الله رد كيدهم في نحرهم، فرجع كيدهم عليهم ولم يغن عنهم من الله شيئاً.</a:t>
            </a:r>
            <a:endParaRPr b="0" lang="en-US" sz="3200" spc="-1" strike="noStrike">
              <a:solidFill>
                <a:srgbClr val="000000"/>
              </a:solidFill>
              <a:latin typeface="Times New Roman"/>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360"/>
            <a:ext cx="5486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0" y="533520"/>
            <a:ext cx="9144000" cy="6324480"/>
          </a:xfrm>
          <a:prstGeom prst="rect">
            <a:avLst/>
          </a:prstGeom>
          <a:noFill/>
          <a:ln w="0">
            <a:noFill/>
          </a:ln>
        </p:spPr>
        <p:txBody>
          <a:bodyPr lIns="90000" rIns="90000" tIns="46800" bIns="46800"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شخص فيه الأبصار،مقنعي رؤوسهم،وأفئدتهم هواء،مالكم من زوال،تزول منه الجبال.</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ما حال الناس في يوم القيامة؟ومتى يسأل الظالمون ربهم الرجوع إلى الدنيا؟ولماذا؟</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نتيجة عدم اعتبار الظالمين بالعقوبات التي حلت بمن سبقهم؟</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لماذا وصف الله مكر الكفار بأنه كادت تزول منه الجبال؟</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اكتب كلمة (صح)أو(خطأ)أمام العبارات الآتية مع التصحيح:</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أخير العقوبة عن الظالمين يدل على حسن حالهم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 يوم القيامة يأتي الناس مسرعين إلى المحشر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د الله كيد الكافرين في نحورهم فرجع عليهم       (    )</a:t>
            </a:r>
            <a:endParaRPr b="0" lang="en-US" sz="3200" spc="-1" strike="noStrike">
              <a:solidFill>
                <a:srgbClr val="000000"/>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9:10:44Z</dcterms:created>
  <dc:creator>cultural-office</dc:creator>
  <dc:description/>
  <dc:language>en-US</dc:language>
  <cp:lastModifiedBy>cultural-office</cp:lastModifiedBy>
  <dcterms:modified xsi:type="dcterms:W3CDTF">2008-01-19T12:06:52Z</dcterms:modified>
  <cp:revision>9</cp:revision>
  <dc:subject/>
  <dc:title>الدرس الرابع</dc:title>
</cp:coreProperties>
</file>