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CRASHBUZ.WAV" ContentType="audio/x-wav"/>
  <Override PartName="/ppt/media/image3.wmf" ContentType="image/x-wmf"/>
  <Override PartName="/ppt/media/a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121C-BC39-4AD5-8655-D2F8E003F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37B4-C932-498B-A287-7B7AC394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E81F-738E-40BB-9CE6-3EF5FA62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F03-A039-4F3A-A868-B4D0FD5D9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657BE-C8AF-4B9E-991A-5A2A64F4D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1C78-C22D-42F0-A358-7866D3919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48C1-2D01-419C-8E6F-A77804AC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37BF-1736-4DAF-859D-4CF22BB12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67FDD-A98A-49C2-8738-FD22111C8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8721-A8EC-48DE-8270-99DD80E7B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7C7A-F9DD-49BD-AD83-61D10456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74A8-7E6D-4685-9527-69B9E87EB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DF716-ECF1-46F9-87B8-9CCFB96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F0BE0-D177-428C-89CC-DC4BD6BD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FF50E-E440-4E68-B4F7-4D9763796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E9441-DEFC-4648-AE1E-8E884B35B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46608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372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52C5C-B3BD-411A-927D-25C8EFF4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4335-3383-4198-B849-F21A9082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1277-7A35-41A5-833D-F1390C1BE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E103-709D-47B5-A8AF-0F10D1AFD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761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18FA-902B-4E94-9EC4-321D787FD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14CD-FE98-47E3-8745-5C1102FD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076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46C6-F1B4-44C4-BA19-9988FA285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8517-3E16-4C53-A5D4-2BD9BD1A3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CF14A-9AD5-43EE-909C-EAF598171E91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33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99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D0973-D50B-43F8-8D39-1D933C65A179}" type="slidenum">
              <a:rPr b="0" lang="ar-SA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33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33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9933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9933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33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9933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9933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33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CRASHBUZ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a.wav"/><Relationship Id="rId2" Type="http://schemas.openxmlformats.org/officeDocument/2006/relationships/audio" Target="../media/a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692280"/>
            <a:ext cx="3528720" cy="165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الفصل الثامن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421000"/>
            <a:ext cx="7778520" cy="277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latin typeface="Arial Black"/>
              </a:rPr>
              <a:t>السماء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116000" y="1268280"/>
            <a:ext cx="7099200" cy="288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ماذا يُوجَدُ في السَّماءِ؟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11280" y="1484280"/>
            <a:ext cx="810108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4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ff00"/>
                </a:solidFill>
                <a:latin typeface="Times New Roman"/>
              </a:rPr>
              <a:t>فِي اللَّيْلِ، يُمْكِنُني رُؤْيَةُ الْغُيومِ، وَالْقَمَرِ، وَالنُّجومِ.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050920" y="3933720"/>
            <a:ext cx="309744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26920" y="2852640"/>
            <a:ext cx="7812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أَجْسامٌ مُضِيْئَةٌ، تُكَوِّنُ أَشْكالاً جَمِيْلَةً في السَّماءِ. تَبْدو النُّجومُ صَغيرَةً جدًّا؛ لأَنَّها بَعيدةٌ جِدًّا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627280" y="907920"/>
            <a:ext cx="4032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8800" spc="-1" strike="noStrike">
                <a:solidFill>
                  <a:srgbClr val="ff00ff"/>
                </a:solidFill>
                <a:latin typeface="Times New Roman"/>
              </a:rPr>
              <a:t>النُّجومُ</a:t>
            </a:r>
            <a:r>
              <a:rPr b="1" lang="ar-SA" sz="66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68360" y="4437000"/>
            <a:ext cx="3240000" cy="227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RASHBUZ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411280" y="836640"/>
            <a:ext cx="496908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993300"/>
                </a:solidFill>
                <a:latin typeface="Times New Roman"/>
              </a:rPr>
              <a:t>الشَّمْسُ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16000" y="227664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أَقْرَبُ النَّجومِ إِلى الأَرْضِ. وَهِيَ تُضيءُ السَّماءَ وَالأَرْضَ أَثْناءَ النَّهارِ. فَسُبْحَانَ اللهِ خَالِقِ كُلِّ شَيءٍ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68360" y="4797360"/>
            <a:ext cx="27748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042920" y="1484280"/>
            <a:ext cx="7812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ي النَّهارِ، يَكونُ ضَوْءُ الشَّمْسِ ساطِعًا جِدًّا، فَلا أسْتَطِيْعُ رُؤْيَةَ نُجُوْمٍ أُخْرى. لَكِنَّ هَذِهِ النُّجومَ مَوْجودَةٌ في السَّماءِ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84360" y="4149720"/>
            <a:ext cx="388764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03640" y="115920"/>
            <a:ext cx="3673440" cy="1152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cc9900"/>
              </a:gs>
              <a:gs pos="50000">
                <a:srgbClr val="ff9900"/>
              </a:gs>
              <a:gs pos="100000">
                <a:srgbClr val="cc9900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ماذا يوجد فى السماء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1413000"/>
            <a:ext cx="8388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يُوْجَدُ فِي السَّمَاءِ أَجْسَامٌ كَبِيْرَةٌ، لا يُمْكِنُني رُؤْيَتُهَا بِسُهُوْلَةٍ أَثْنَاءَ اللَّيْلِ، تُسَمَّى كَوَاكِبَ. تَدُوْرُ الكَوَاكِب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أَرْضُ كَوْكَبٌ يَدُوْرُ حَوْلَ الشَّمْس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فَالسَّمَاءُ بِنَاءٌ مُحْكَمٌ أَتْقَنَ الْخَالِقُ صُنْعَهُ بِقُدْرَتِهِ وَحِكْمَتِهِ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قَالَ تَعَالَى: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" 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ءأنتم أشد خلقا أم السماء بنها " النازعات</a:t>
            </a:r>
            <a:r>
              <a:rPr b="1" lang="ar-SA" sz="4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755640" y="189000"/>
            <a:ext cx="194328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55640" y="2637000"/>
            <a:ext cx="7956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الشَّمْسُ وَالنُّجومُ الأُخْرى تُصْدِرُ حَرارَةً وَضَوْءاً</a:t>
            </a: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ff00"/>
                </a:solidFill>
                <a:latin typeface="Times New Roman"/>
              </a:rPr>
              <a:t>حَرَارَةُ الشَّمْسِ وَضَوْؤهَا يُسَخِّنَانِ الْهَواءَ، وَالْيَابِسَةَ، وَالْماءَ</a:t>
            </a:r>
            <a:r>
              <a:rPr b="1" lang="ar-SA" sz="40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en-US" sz="40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33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0160" y="836640"/>
            <a:ext cx="81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ff00ff"/>
                </a:solidFill>
                <a:latin typeface="Times New Roman"/>
              </a:rPr>
              <a:t>ما أَهَمِّيَّةُ الشَّمْسِ؟</a:t>
            </a:r>
            <a:endParaRPr b="0" lang="en-US" sz="7200" spc="-1" strike="noStrike">
              <a:solidFill>
                <a:srgbClr val="99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53:08Z</dcterms:modified>
  <cp:revision>45</cp:revision>
  <dc:subject/>
  <dc:title>PowerPoint Presentation</dc:title>
</cp:coreProperties>
</file>