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EEBIT.WAV" ContentType="audio/x-wav"/>
  <Override PartName="/ppt/media/CLICKER.WAV" ContentType="audio/x-wav"/>
  <Override PartName="/ppt/media/image2.wmf" ContentType="image/x-wmf"/>
  <Override PartName="/ppt/media/CHEEPCH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48E-DF6C-44C0-AC06-61B4AE52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6BA-5A1E-4718-BECA-1F3BC23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B22-1D3F-4BF4-B84B-638EDC24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0DD-5AD1-4727-9922-446432D7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D76-497F-41F2-8503-C007BDED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D3D-98EB-48CB-AC39-7D5AEBB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0ABD-1F2C-4ACD-9597-AE4CF53C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1773-19C3-4242-8EE1-CCDC34F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C75F-DE0C-4B48-B6AB-7121EBF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5AB9-C310-4702-A457-46AF74A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C4B-8F36-4417-B88B-C37DB9E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5F8-1839-491C-AE6D-7B3C088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36B-488A-4B17-A217-F4EB233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EFE-26EA-41B4-A84A-EE37B88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4B2-12D5-445E-960E-26B2B69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DB62-CC2B-4895-9F39-2D7253EB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C6B9-3B4D-4717-BFD3-7534B9A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770-09E7-43F9-9C3C-8771208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3AA-5901-4DB7-92F6-410F85CB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228-1B61-4455-B947-2FAE31C6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57F-59BE-4573-9726-EB42415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7DC-7D2A-4BA3-8129-C31A420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B46-0D17-4D71-8148-7607235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B98-AD2B-43E6-BF64-2930E53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EED-857C-4D27-919F-DA8087BCBD65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40E5-3636-4B0F-ABAB-7D7BFB7359AC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EBIT.WAV"/><Relationship Id="rId3" Type="http://schemas.openxmlformats.org/officeDocument/2006/relationships/audio" Target="../media/CLICK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765000"/>
            <a:ext cx="3136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99ccff">
                      <a:alpha val="50000"/>
                    </a:srgbClr>
                  </a:outerShdw>
                </a:effectLst>
                <a:latin typeface="Hesham Gornata"/>
              </a:rPr>
              <a:t>كيف يبدو القمر </a:t>
            </a:r>
            <a:endParaRPr b="1" lang="en-US" sz="72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99ccff">
                    <a:alpha val="5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66"/>
                </a:solidFill>
                <a:latin typeface="Times New Roman"/>
              </a:rPr>
              <a:t>الَْقمَرَ جِسْمٌ صَخْرِيٌّ يَدُوْرُ حَوْلَ الأَرْضِ.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61000"/>
            <a:ext cx="69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ـ من أين ياتى نور القمر؟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اَلْقَمَرُ لا يُصْدِرُ ضَوْءًا، لَكِنَّهُ يَبْدو مُنيرًا؛ لأَنَّ ضَوْءَ الشَّمْسِ يَسْقُطُ عَلَيْهِ. عِنْدَما يَدورُ الْقَمَرُ حَوْلَ الأَرْضِ يَتَغَيَّرُ شَكْلُ الجُزْءِ المُنِيْرِ مِنْهُ. لِهَذا، يَبْدُو الْقَمَرُ وَكَأَنَّ لَهُ أَشْكالاً مُخْتَلِفَةً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3256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ُسَمَّى أَشْكَالُ الْقَمَرِ الْمُخْتَلِفَةُ أَطْوارً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قال تعالى " والقمر قدرنه منازل حتى عاد كالعرجون القديم " يس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0800" y="1413000"/>
            <a:ext cx="50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00ff"/>
                </a:solidFill>
                <a:uFillTx/>
                <a:latin typeface="Times New Roman"/>
              </a:rPr>
              <a:t>أشكال القمر</a:t>
            </a: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6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50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نَحْنُ نَرَى الشَّمْسَ تَطْلُعُ فِي الصَّبَاحِ، وَتَخْتَفي فِي المَساءِ. يَحْدُثُ ذَلِكَ لأنَّ الأَرْضَ تَدُوْرُ حَوْلً نَفْسِهَا أمَامَ الشَّمْسِ. هَذِهِ الحَرَكَةُ تُكَوِّنُ اللَّيْلَ وَالنَّهار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يُمْكِنُني مَعْرِفَةُ أَنَّ الأَرْضَ تَتَحَرَّكُ بِالنَّظَرِ إِلى الظِّلال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696960" y="495360"/>
            <a:ext cx="1073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ما سَبَبُ حُدُوْثِ النَّهارِ وَاللَّيْلِ؟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98952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ns</cp:lastModifiedBy>
  <dcterms:modified xsi:type="dcterms:W3CDTF">2010-01-30T21:57:00Z</dcterms:modified>
  <cp:revision>38</cp:revision>
  <dc:subject/>
  <dc:title>PowerPoint Presentation</dc:title>
</cp:coreProperties>
</file>