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EEPCHP.WAV" ContentType="audio/x-wav"/>
  <Override PartName="/ppt/media/music.wav" ContentType="audio/x-wav"/>
  <Override PartName="/ppt/media/image1.wmf" ContentType="image/x-wmf"/>
  <Override PartName="/ppt/media/BWINGING.WAV" ContentType="audio/x-wav"/>
  <Override PartName="/ppt/media/suctio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2C0-2ECE-429E-B774-7699BCF6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D18-FA06-4928-8A69-F5CD2A8E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4FA-EF38-4BE0-B9FF-1693BB89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34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34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C3E-F656-4E41-BD1A-1AA45DF7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BDE4-3396-4392-9F70-779DDEA6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55E0-C3DE-4CCF-9196-84CE840E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61D5-2DE8-478E-8325-5BBBCED5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801A-C862-4802-AEA9-5F3E9868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8E93-09FA-4E4C-82C8-5CD77DE5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BD21-F473-4822-906E-31EE79C4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5486-94B7-4F42-926F-68CAAEA5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848-2C2D-400B-A948-8D4F4780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811A-4180-40E2-9F1C-3EFB6F25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5F7C-8C2D-42AF-A491-99449209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E2B2-FDCB-467A-9F69-2B127732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D516-C347-4B3E-B651-3999C816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32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34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32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34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A490-7504-4AB5-83FE-600FEBD1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289-968F-4A88-BA37-3F517285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283-1992-47B7-AEA5-C142D35C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2C6-9986-48D2-8445-5F93228E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6AE-F197-4696-8127-7D53F7A4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9E8-6E6C-4B47-ABB1-8A4E4E8F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BC3-4D5E-4F3D-966E-28C8569B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C4C8-E0CD-480B-A562-519752B4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E3B6-A38F-4E58-ABB4-69B5984FACF8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3EB7-8315-4BC9-8DDE-911514F1B48E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EEPCHP.WAV"/><Relationship Id="rId2" Type="http://schemas.openxmlformats.org/officeDocument/2006/relationships/audio" Target="../media/music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WINGING.WAV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71640" y="765000"/>
            <a:ext cx="3672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درس الثالث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71640" y="2997360"/>
            <a:ext cx="7632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latin typeface="Hesham AlSharq"/>
              </a:rPr>
              <a:t>كتابة علمية ( تغير الفصول )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43280" y="115920"/>
            <a:ext cx="4680000" cy="907920"/>
          </a:xfrm>
          <a:custGeom>
            <a:avLst/>
            <a:gdLst>
              <a:gd name="textAreaLeft" fmla="*/ 736920 w 4680000"/>
              <a:gd name="textAreaRight" fmla="*/ 3943080 w 4680000"/>
              <a:gd name="textAreaTop" fmla="*/ 113400 h 907920"/>
              <a:gd name="textAreaBottom" fmla="*/ 90828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فى الصورة الاولى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1172520"/>
            <a:ext cx="8064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(  فصل الربيع ) : يكون الطقس مشمسا  لِساعاتٍ طَويلَةٍ، فيُدْفِئُ الْيابِسَةَ وَالْهَواءَ وَالْماءَ. وتَنْمُو النَّباتاتُ. وَيَتوافَرُ لِلْحَيَواناتِ طَعامٌ كَثيرٌ. وَتَنْموَ صِغارُها، وَتُصْبِحُ أَكْبَرَ وَأَقْوى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4724280"/>
            <a:ext cx="38894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2637000"/>
            <a:ext cx="79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ـ ( فصل الشِّتاءُ) :  أَكْثَرُ الْفُصولِ بُرودَةً. يَكونُ الطَّقْسُ فِيْهِ مُشْمِسًا لِساعاتٍ قَليلَةٍ، وَتَتَسَاقَطُ فِيْه الأَمْطارُ، وَأَحْيانًا البَرَدُ والثُّلوج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620640"/>
            <a:ext cx="5112000" cy="908280"/>
          </a:xfrm>
          <a:custGeom>
            <a:avLst/>
            <a:gdLst>
              <a:gd name="textAreaLeft" fmla="*/ 804960 w 5112000"/>
              <a:gd name="textAreaRight" fmla="*/ 4307040 w 5112000"/>
              <a:gd name="textAreaTop" fmla="*/ 113400 h 908280"/>
              <a:gd name="textAreaBottom" fmla="*/ 908640 h 90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فى الصورة الثان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4724280"/>
            <a:ext cx="38894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978840"/>
            <a:ext cx="820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أوجه الأختلاف بين الصورت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فى الصورة الأولى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: الورود متفتحة والجو جميل و مشمس والسماء صافية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فى الصورة الثانية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: الجو بارد والجليد يتساقط والاشجار ليست مزهرة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63640" y="836640"/>
            <a:ext cx="6624720" cy="936720"/>
          </a:xfrm>
          <a:custGeom>
            <a:avLst/>
            <a:gdLst>
              <a:gd name="textAreaLeft" fmla="*/ 1043280 w 6624720"/>
              <a:gd name="textAreaRight" fmla="*/ 5581440 w 6624720"/>
              <a:gd name="textAreaTop" fmla="*/ 11700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البس فى فصل الربيع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34936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</a:rPr>
              <a:t>فى الربيع نلبس الملابس الخفيفة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WING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1368720" y="3015720"/>
            <a:ext cx="1188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فى فصل الشتاء نلبس الملابس الثقيلة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1052640"/>
            <a:ext cx="6624720" cy="936360"/>
          </a:xfrm>
          <a:custGeom>
            <a:avLst/>
            <a:gdLst>
              <a:gd name="textAreaLeft" fmla="*/ 1043280 w 6624720"/>
              <a:gd name="textAreaRight" fmla="*/ 5581440 w 6624720"/>
              <a:gd name="textAreaTop" fmla="*/ 11700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البس فى فصل الشتاء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29T10:38:28Z</dcterms:modified>
  <cp:revision>30</cp:revision>
  <dc:subject/>
  <dc:title>PowerPoint Presentation</dc:title>
</cp:coreProperties>
</file>