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2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4C4-44E3-44A8-9C47-09AAFA2D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B3D-3A07-4482-A89E-3F43921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566-D92C-4D2E-BD2F-27C258A7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2A2-AC32-4061-8352-1885D951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D44B-1CC3-4B51-8BF9-EB95224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3791-A8C1-47E7-96F7-01DEAD15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DCAB-9D0D-4C1C-A8AA-A619A7B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2BEB-1F58-47A2-9877-48B6475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67B2-DE9E-4715-8FAE-4CA7C039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3B8-061A-4D9C-8681-6221AC4A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8AD-E27E-4666-8285-98A06B3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608-666B-4FCC-889F-FFF3ADF5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26FC-A625-4ADD-A019-ECCEB07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8EB-D834-48CF-A03A-81E7D6A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6408-D095-4AA7-A5BE-5667C39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8363-C158-4C01-A95F-68C0A65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26A-6D2F-497A-93F6-5F64A566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3DD-13D0-4300-8E5C-DA9F484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651-E81D-4BAD-9C2D-2A34CEEA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B26-83EC-42F6-95FF-34600081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CCB-0702-4D8A-9D8A-C30B6109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1FF-34A5-4B9E-A653-F452DF9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97A-4821-4C17-A69E-C52E9EA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EF0-3F38-4D16-B9A9-03E5BE4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32A5-CAE9-4ED8-82E7-371E78D73DC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7727-554E-42D5-80C4-CC6B8549732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2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852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Hesham AlSharq"/>
              </a:rPr>
              <a:t>المواد الصلبة والسوائل والغازات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989000"/>
            <a:ext cx="72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ُ الصُّلْبَةُ لَها شَكْلٌ مُحَدَّدٌ. تَختلِفُ المَوادُ الصُّلْبَةُ بَعْضُها عَنْ بَعْضٍ في الشَّكْلِ والمَلْمَسِ وَكَمِّيَّةِ المَادَّةِ. يُمْكِنُ أَنْ أسْتَخْدِمَ الْمِسْطَرَةَ لِقِياسِ أَبْعادِ الْمَوادِّ الصُّلْبَةِ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76500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َا صِفَاتُ المَادَّةِ الصُّلْبَة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220500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َ السَّائِلَةُ لَيْسَ لَهَا شَكْلٌ مُحَدَّدٌ، إِذْ تأْخُذُ شَكْلَ الْوِعاءِ الذي تُوضَعُ فيهِ. يَنْسَابُ السَّائِلُ فَيَنْتَقِلُ مِنْ مَكَانٍ إِلى آخَرَ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6880" y="420840"/>
            <a:ext cx="787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ا صِفاتُ السَّوائِلِ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4653000"/>
            <a:ext cx="439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765000"/>
            <a:ext cx="77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ff"/>
                </a:solidFill>
                <a:latin typeface="Times New Roman"/>
              </a:rPr>
              <a:t>ما صِفاتُ الْغازات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َادَّةَ الْغَازِيَّةُ لَيْسَ لَها شَكْلٌ مُحَدَّدٌ، فالغَازُ يَنْتَشِرُ بِسُهولَةٍ يَتَكَوَّنُ الْهَواءُ الَّذِي أَتَنَفَّسُهُ مِنْ غاز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958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604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نا لا أرَى الْهَوَاءَ، وَلَكِنِّي أُحِسُّ بِهِ عِنْدَمَا يَكُوْنُ بارِدًا أَوْ دافِئًا، وَأُحِسُّ بِهِ وَهُوَ يَنْتَشِرُ مِنْ مَكانٍ إِلى آخَرَ. ويتكون الهواء من مجموعة كبيرة من الغازات مثل : غاز الأكسجين الذى يتنفسه الإنسان والحيوان وسائر المخلوقات على سطح الأرض وثانى أكسيد الكربون اللازم لعملية البناء الضوئى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411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6:35:42Z</dcterms:modified>
  <cp:revision>23</cp:revision>
  <dc:subject/>
  <dc:title>PowerPoint Presentation</dc:title>
</cp:coreProperties>
</file>