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cashreg.wav" ContentType="audio/x-wav"/>
  <Override PartName="/ppt/media/2.wav" ContentType="audio/x-wav"/>
  <Override PartName="/ppt/media/CHEEPCHP.WAV" ContentType="audio/x-wav"/>
  <Override PartName="/ppt/media/image3.jpeg" ContentType="image/jpeg"/>
  <Override PartName="/ppt/media/BINGBING.WAV" ContentType="audio/x-wav"/>
  <Override PartName="/ppt/media/image5.jpeg" ContentType="image/jpeg"/>
  <Override PartName="/ppt/media/suction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B373-2653-480F-A0BA-0ADDE59F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4E8C-8B0F-4773-AA41-B8D6F1F01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99B-6F05-45D0-B0A3-C2027BC37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D80-7128-4FBB-A0AE-518A59AC2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0012-A79F-4B8C-BDD8-C5FF6216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F247-0F2A-4F56-BEDE-474DBCAEE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1DD49-A624-4BAF-944B-4E5E42A19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A117E-B473-43A4-BDCB-5BED30DFA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856B2-1736-484A-A45C-DA7043917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83A4-1EA9-4845-B295-659C69B8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EFAFA-5BF3-457F-A3D5-03712632A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1676-7146-45A1-A102-E2E3A47A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227A9-28A8-45B9-B3AC-543CABDD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89CD-7F65-43D5-B744-79D49FF8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2802-7B54-445F-A118-4ED831F5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1263-7BFC-46F2-A732-2FBD817FF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8956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59800" y="182880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2189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8956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59800" y="3938040"/>
            <a:ext cx="22572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1EE8C-6578-4662-86B5-755AA1A0D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D6EF-0722-4FA7-AE17-4BE1E1F40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F297-84DA-4BA3-9087-C91E86A5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FEA1F-57FF-4FD5-AD08-F3B0B23C1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18960" y="53316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12C6-6D08-42A8-A29B-D3B18FCDF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7629-012D-4193-8C58-EE2D0614C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11040" y="393804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5ACC-0B66-42C1-B13C-95E081C8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896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11040" y="1828800"/>
            <a:ext cx="3420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8960" y="3938040"/>
            <a:ext cx="7010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8250-5723-4374-A8C3-60FE97D5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8960" y="5331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8960" y="182880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3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0D64-9493-4B25-B05E-EEB199BC5DB3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EG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E1475-831E-43E2-B95F-D263FF570455}" type="slidenum">
              <a:rPr b="0" lang="ar-S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ashreg.wav"/><Relationship Id="rId3" Type="http://schemas.openxmlformats.org/officeDocument/2006/relationships/audio" Target="../media/2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audio" Target="../media/CHEEPCHP.WAV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audio" Target="../media/BINGBING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audio" Target="../media/suction.wav"/><Relationship Id="rId4" Type="http://schemas.openxmlformats.org/officeDocument/2006/relationships/audio" Target="../media/suction.wav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2916360" y="836640"/>
            <a:ext cx="3384360" cy="112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ادوات علمية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360" y="3284640"/>
            <a:ext cx="810072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8000" spc="1" strike="noStrike">
                <a:ln w="2844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000000">
                      <a:alpha val="70000"/>
                    </a:srgbClr>
                  </a:outerShdw>
                </a:effectLst>
                <a:latin typeface="Hesham Fostat"/>
              </a:rPr>
              <a:t>المنظــار</a:t>
            </a:r>
            <a:endParaRPr b="1" lang="en-US" sz="8000" spc="1" strike="noStrike">
              <a:ln w="2844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000000">
                    <a:alpha val="70000"/>
                  </a:srgbClr>
                </a:outerShdw>
              </a:effectLst>
              <a:latin typeface="Hesham Fostat"/>
              <a:ea typeface="Hesham Fosta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2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9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79280" y="3284640"/>
            <a:ext cx="853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00"/>
                </a:solidFill>
                <a:latin typeface="Arial Narrow"/>
              </a:rPr>
              <a:t>اداة تساعدنا على رؤة الأشياء البعيدة جدا</a:t>
            </a:r>
            <a:r>
              <a:rPr b="0" lang="ar-SA" sz="4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419640" y="1341360"/>
            <a:ext cx="3527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ff00ff"/>
                </a:solidFill>
                <a:latin typeface="Arial Narrow"/>
              </a:rPr>
              <a:t>المنظا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2867040" cy="21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EEPCH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635280" y="1125360"/>
            <a:ext cx="42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ff00ff"/>
                </a:solidFill>
                <a:latin typeface="Arial Narrow"/>
              </a:rPr>
              <a:t>استخدامات المنظار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42920" y="1715040"/>
            <a:ext cx="7632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000000"/>
                </a:solidFill>
                <a:latin typeface="Arial"/>
                <a:cs typeface="Times New Roman"/>
              </a:rPr>
              <a:t>يستخدم المنظار المختلفة لرؤية الكواكب والنجوم ومعرفة أشياء جديدة عنها حيث يعمل المنظار على تقريب الأشياء البعيدة الى درجة كبيرة جدا 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556000" y="4508640"/>
            <a:ext cx="4249440" cy="211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INGB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32000" y="549360"/>
            <a:ext cx="6840360" cy="1439640"/>
          </a:xfrm>
          <a:custGeom>
            <a:avLst/>
            <a:gdLst>
              <a:gd name="textAreaLeft" fmla="*/ 855000 w 6840360"/>
              <a:gd name="textAreaRight" fmla="*/ 5985360 w 6840360"/>
              <a:gd name="textAreaTop" fmla="*/ 180000 h 1439640"/>
              <a:gd name="textAreaBottom" fmla="*/ 144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725" y="0"/>
                </a:lnTo>
                <a:arcTo wR="675" hR="675" stAng="16200000" swAng="5400000"/>
                <a:lnTo>
                  <a:pt x="5400" y="2700"/>
                </a:lnTo>
                <a:lnTo>
                  <a:pt x="16200" y="2700"/>
                </a:lnTo>
                <a:lnTo>
                  <a:pt x="162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8900" y="18900"/>
                </a:lnTo>
                <a:lnTo>
                  <a:pt x="18900" y="20925"/>
                </a:lnTo>
                <a:arcTo wR="675" hR="675" stAng="0" swAng="5400000"/>
                <a:lnTo>
                  <a:pt x="3375" y="21600"/>
                </a:lnTo>
                <a:arcTo wR="675" hR="675" stAng="5400000" swAng="5400000"/>
                <a:lnTo>
                  <a:pt x="27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5400" y="675"/>
                </a:moveTo>
                <a:arcTo wR="675" hR="675" stAng="0" swAng="5400000"/>
                <a:lnTo>
                  <a:pt x="3375" y="1350"/>
                </a:lnTo>
                <a:arcTo wR="675" hR="675" stAng="16200000" swAng="-5400000"/>
                <a:arcTo wR="675" hR="675" stAng="10800000" swAng="-5400000"/>
                <a:lnTo>
                  <a:pt x="5400" y="2700"/>
                </a:lnTo>
              </a:path>
              <a:path fill="none" w="21600" h="21600">
                <a:moveTo>
                  <a:pt x="16200" y="675"/>
                </a:moveTo>
                <a:arcTo wR="675" hR="675" stAng="10800000" swAng="-5400000"/>
                <a:lnTo>
                  <a:pt x="18225" y="1350"/>
                </a:lnTo>
                <a:arcTo wR="675" hR="675" stAng="16200000" swAng="5400000"/>
                <a:arcTo wR="675" hR="675" stAng="0" swAng="5400000"/>
                <a:lnTo>
                  <a:pt x="16200" y="2700"/>
                </a:lnTo>
              </a:path>
              <a:path fill="none" w="21600" h="21600">
                <a:moveTo>
                  <a:pt x="2700" y="2025"/>
                </a:moveTo>
                <a:lnTo>
                  <a:pt x="2700" y="18900"/>
                </a:lnTo>
              </a:path>
              <a:path fill="none" w="21600" h="21600">
                <a:moveTo>
                  <a:pt x="18900" y="2025"/>
                </a:moveTo>
                <a:lnTo>
                  <a:pt x="18900" y="18900"/>
                </a:lnTo>
              </a:path>
            </a:pathLst>
          </a:custGeom>
          <a:gradFill rotWithShape="0">
            <a:gsLst>
              <a:gs pos="0">
                <a:srgbClr val="cc9900"/>
              </a:gs>
              <a:gs pos="100000">
                <a:srgbClr val="cc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6000" spc="-1" strike="noStrike">
                <a:solidFill>
                  <a:srgbClr val="008000"/>
                </a:solidFill>
                <a:latin typeface="Arial Narrow"/>
              </a:rPr>
              <a:t>أنواع المناظير</a:t>
            </a:r>
            <a:r>
              <a:rPr b="0" lang="ar-SA" sz="6000" spc="-1" strike="noStrike">
                <a:solidFill>
                  <a:srgbClr val="008000"/>
                </a:solidFill>
                <a:latin typeface="Arial Narrow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421000"/>
            <a:ext cx="8748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يوجد انواع كثيرة من المناظير منها الكبير والصغير وتقسم حسب استخداماتها . وتوضع بعض المناظير فى الاقمار الصناعية</a:t>
            </a: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ar-SA" sz="4800" spc="-1" strike="noStrike">
                <a:solidFill>
                  <a:srgbClr val="000000"/>
                </a:solidFill>
                <a:latin typeface="Arial Narrow"/>
              </a:rPr>
              <a:t>.</a:t>
            </a:r>
            <a:r>
              <a:rPr b="0" lang="ar-SA" sz="4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4707000"/>
            <a:ext cx="230328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cOrPiOnE</cp:lastModifiedBy>
  <dcterms:modified xsi:type="dcterms:W3CDTF">2006-12-30T02:16:29Z</dcterms:modified>
  <cp:revision>32</cp:revision>
  <dc:subject/>
  <dc:title>PowerPoint Presentation</dc:title>
</cp:coreProperties>
</file>