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music.wav" ContentType="audio/x-wav"/>
  <Override PartName="/ppt/media/image3.wmf" ContentType="image/x-wmf"/>
  <Override PartName="/ppt/media/image5.wmf" ContentType="image/x-wmf"/>
  <Override PartName="/ppt/media/image6.wmf" ContentType="image/x-wmf"/>
  <Override PartName="/ppt/media/hammer.wav" ContentType="audio/x-wav"/>
  <Override PartName="/ppt/media/image7.wmf" ContentType="image/x-wmf"/>
  <Override PartName="/ppt/media/image8.wmf" ContentType="image/x-wmf"/>
  <Override PartName="/ppt/media/compres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F68-BED4-4793-A68C-B9F0983FD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C0D1-9997-42F1-953F-6ACECB18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7816-C676-4AF0-8839-F5C8BA801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093-D2C9-4A89-99D4-816713EDE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3A8E-A7AA-482A-B6C1-F9B52FBAB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317AC-9684-4809-B0D1-37684CB6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9C6F2-3440-4DA7-A147-A159484B1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4C3D-3EA9-44DD-AA45-6D132520B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2D56D-9BDF-4276-AAEA-4BA09FAE4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6DA8-D5DE-45B6-A511-3D42BBA1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782B9-9A1B-4DE6-9368-A4FDA539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33E6-1DC4-4664-8F05-1790A0226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A3633-6368-48C8-8B00-B88DC0A86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0A4DB-FA86-4DDF-A21D-2A41B4637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01653-4A9A-48A6-9A17-422C0B4BD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6A63-F11A-4966-AD2E-8CF40ECE6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91E24-0274-43BA-8279-1D737E14C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1EA5-2B1F-4E6E-BBD4-6534A0323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641A-D27B-4D27-99D9-F39FCFBD6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EB9-E9D9-4D09-B147-81CA8918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6076-84E2-43FA-BC86-E7AFA4F4B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6A3D-52A2-4148-A4F7-C5ECDAC7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27537-4387-40E9-814C-FF363A021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A9D4-C565-4744-A021-244216CCA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F6197-526B-4F44-89AA-0AF6B80E701F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a5002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5002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50021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EFCE7-7E4D-4909-96A1-12594B5916F9}" type="slidenum">
              <a:rPr b="0" lang="ar-SA" sz="14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a50021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a50021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a50021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music.wav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compress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684360" y="1700280"/>
            <a:ext cx="7978680" cy="35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Hesham Cortoba"/>
              </a:rPr>
              <a:t>الدفع والسحب 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usic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11280" y="2708280"/>
            <a:ext cx="7524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َحْتاجُ الأَشْياءُ إِلى قُوَّةٍ ما لِتُحَرِّكَها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الَقْوُةَّ هِيَ قُوَّةُ السَّحْبِ أَوْ قُوَّةُ الدَّفْعِ الَّتي تُحَرِّكُ الشَّيْءَ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22000" y="1413000"/>
            <a:ext cx="774144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ما الّذي يُحَرِّكُ الأَشْياءَ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3168720" cy="13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900000" y="2924280"/>
            <a:ext cx="640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تُحَرِّكُ قُوَّةُ الدَّفْعِ الشَّيْءَ بَعيداّ عَني، أَمّا قُوَّةُ السَّحْبِ فَتُحَرِّكُهُ بِاتَّجاهِي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89840" y="1341360"/>
            <a:ext cx="63788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قوة الدفع وقوة السحب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124000" y="4437000"/>
            <a:ext cx="41036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851280" y="411120"/>
            <a:ext cx="4357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عِنْدَما أتْرُكُ البَيضَةَ فإنَّها تَسْقُطُ، لأن الْجاذِبِيَّةَ تَسْحَبُهُا إِلى الأَرْضِ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403280" y="3716280"/>
            <a:ext cx="5905440" cy="26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971640" y="1484280"/>
            <a:ext cx="71294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َلْجاذِبِيَّةُ</a:t>
            </a: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 هِيَ الْقُوَّةُ الَّتي تَسْحَبُ الأَشْياءَ بِاتِّجاهِ الأَرْضِ. وولجاذبية مجموعة من القوانين وضعها العالم الكبير اسحق نيوتن .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40000" y="3860640"/>
            <a:ext cx="3168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26920" y="2421000"/>
            <a:ext cx="7236000" cy="35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تَخْتَلِفُ حَرَكَةُ الأَشْياءِ بِحَسَبِ مِقْدَارِ سَحْبِها، أَوْ مِقْدارِ دَفْعِها. يَحْتاجُ اَلشَّيْءُ الْخَفيفُ إِلى قُوَّةِ دَفْعٍ صَغِيرةٍ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،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بَيْنَما يَحْتَاجُ الشَّيْءُ الثَّقيلُ إِلى قُوَّةِ دَفْعٍ أَكْبَرَ لِيَتَحَرَّكَ</a:t>
            </a:r>
            <a:r>
              <a:rPr b="1" lang="ar-SA" sz="3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07400" y="1052640"/>
            <a:ext cx="687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600" spc="-1" strike="noStrike">
                <a:solidFill>
                  <a:srgbClr val="a50021"/>
                </a:solidFill>
                <a:latin typeface="Times New Roman"/>
              </a:rPr>
              <a:t>كَيْفَ تَخْتَلِفُ الْقُوَى؟</a:t>
            </a:r>
            <a:endParaRPr b="0" lang="en-US" sz="56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5013360"/>
            <a:ext cx="280836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35280" y="981000"/>
            <a:ext cx="68389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قُوَّةُ الدَّفْعِ الْكَبيرَةُ تُحَرِّكُ الشَّيْءَ بِسُرْعَةٍ أَكْبَرَ وَلِمَسافَةٍ أَطْوَلَ مِنْ قُوَّةِ الْدَّفْعِ الصَّغيرَةِ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3500280"/>
            <a:ext cx="532944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826920" y="2852640"/>
            <a:ext cx="77407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000000"/>
                </a:solidFill>
                <a:latin typeface="Times New Roman"/>
              </a:rPr>
              <a:t>هَلَ سَبَقَ لك أَنْ حَكَكَتَ أَقْدَامَكَ عَلى الأَرْضِ لتبطئ حَرَكَةَ المزلاجة؟ هَذا هُوَ الاِحْتِكاكُ. اَلاِحْتِكاكُ هُوَ الْقُوَّةُ الَّتي تُبَطِّئُ حَرَكَةَ الأَشْياءِ</a:t>
            </a: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.</a:t>
            </a:r>
            <a:r>
              <a:rPr b="1" lang="en-US" sz="42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53360" y="1052640"/>
            <a:ext cx="23630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200" spc="-1" strike="noStrike">
                <a:solidFill>
                  <a:srgbClr val="a50021"/>
                </a:solidFill>
                <a:latin typeface="Times New Roman"/>
              </a:rPr>
              <a:t>الاحتكاك</a:t>
            </a:r>
            <a:endParaRPr b="0" lang="en-US" sz="42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02:12Z</dcterms:modified>
  <cp:revision>51</cp:revision>
  <dc:subject/>
  <dc:title>PowerPoint Presentation</dc:title>
</cp:coreProperties>
</file>