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CRASHBUZ.WAV" ContentType="audio/x-wav"/>
  <Override PartName="/ppt/media/image3.wmf" ContentType="image/x-wmf"/>
  <Override PartName="/ppt/media/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ACF-19E2-4FBD-A0E4-5A5F5B72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E79-2BBA-41BD-812E-648A62E3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108-9D96-487B-BEFD-9CB63C27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1EEB-A7A4-4C4F-92F5-2364F026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3599-FCDC-4836-9609-34185497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BC66-EC54-4DD7-BCEF-D076D25E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D03B-445B-4746-82D3-152AF3AE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28EF-BCC9-4855-88E7-8A9B80F0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0032-62F4-456F-816A-E57749DD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589D-3873-4134-8DA3-113122FE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2C6B-48A1-4068-9879-BBFDDAB2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524-E9BA-4592-BFEA-3D02D344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4C52-E089-48D4-A9BB-5A8D7D0E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480F-3270-41D0-ACAB-E30E8B0D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12C3-2890-473E-B015-AE52A63C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234E-58F2-466C-A8AA-1FC0318A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6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372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6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372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3229-0D7F-4759-9C8A-466F0294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35B-7DC4-4B10-B05B-1BB3174E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A8A-52A8-4D09-9DEF-C6393DFD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AC5-6237-4924-8F3D-B37BFC42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3D2-32A7-48E8-B7D1-D91B79EB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0FB-5376-4E10-96D9-5D9BC242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33F-338F-47CC-B294-498256FA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B21-9C6B-44D5-9AC9-AED258D5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F0E9-853A-4512-A61E-5BEAAE1E0E3E}" type="slidenum">
              <a: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3BAF-C5AD-45E5-9824-1FC09D81F611}" type="slidenum">
              <a: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RASHBUZ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.wav"/><Relationship Id="rId2" Type="http://schemas.openxmlformats.org/officeDocument/2006/relationships/audio" Target="../media/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59280" y="692280"/>
            <a:ext cx="35287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الفصل الثامن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421000"/>
            <a:ext cx="7778520" cy="27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السماء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16000" y="1268280"/>
            <a:ext cx="709920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اذا يُوجَدُ في السَّماءِ؟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484280"/>
            <a:ext cx="8101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</a:rPr>
              <a:t>فِي اللَّيْلِ، يُمْكِنُني رُؤْيَةُ الْغُيومِ، وَالْقَمَرِ، وَالنُّجومِ.</a:t>
            </a:r>
            <a:endParaRPr b="0" lang="en-US" sz="66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3097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6920" y="2852640"/>
            <a:ext cx="781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أَجْسامٌ مُضِيْئَةٌ، تُكَوِّنُ أَشْكالاً جَمِيْلَةً في السَّماءِ. تَبْدو النُّجومُ صَغيرَةً جدًّا؛ لأَنَّها بَعيدةٌ جِدًّا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27280" y="907920"/>
            <a:ext cx="40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00ff"/>
                </a:solidFill>
                <a:latin typeface="Times New Roman"/>
              </a:rPr>
              <a:t>النُّجومُ</a:t>
            </a:r>
            <a:r>
              <a:rPr b="1" lang="ar-SA" sz="66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4437000"/>
            <a:ext cx="32400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RASHBU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11280" y="836640"/>
            <a:ext cx="496908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9900"/>
              </a:gs>
              <a:gs pos="50000">
                <a:srgbClr val="ff9900"/>
              </a:gs>
              <a:gs pos="100000">
                <a:srgbClr val="cc9900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993300"/>
                </a:solidFill>
                <a:latin typeface="Times New Roman"/>
              </a:rPr>
              <a:t>الشَّمْسُ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2276640"/>
            <a:ext cx="781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أَقْرَبُ النَّجومِ إِلى الأَرْضِ. وَهِيَ تُضيءُ السَّماءَ وَالأَرْضَ أَثْناءَ النَّهارِ. فَسُبْحَانَ اللهِ خَالِقِ كُلِّ شَيءٍ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27748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1484280"/>
            <a:ext cx="781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في النَّهارِ، يَكونُ ضَوْءُ الشَّمْسِ ساطِعًا جِدًّا، فَلا أسْتَطِيْعُ رُؤْيَةَ نُجُوْمٍ أُخْرى. لَكِنَّ هَذِهِ النُّجومَ مَوْجودَةٌ في السَّماءِ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388764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03640" y="115920"/>
            <a:ext cx="367344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9900"/>
              </a:gs>
              <a:gs pos="50000">
                <a:srgbClr val="ff9900"/>
              </a:gs>
              <a:gs pos="100000">
                <a:srgbClr val="cc9900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ماذا يوجد فى السماء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413000"/>
            <a:ext cx="8388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يُوْجَدُ فِي السَّمَاءِ أَجْسَامٌ كَبِيْرَةٌ، لا يُمْكِنُني رُؤْيَتُهَا بِسُهُوْلَةٍ أَثْنَاءَ اللَّيْلِ، تُسَمَّى كَوَاكِبَ. تَدُوْرُ الكَوَاكِبُ حَوْلَ الشَّمْسِ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أَرْضُ كَوْكَبٌ يَدُوْرُ حَوْلَ الشَّمْسِ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فَالسَّمَاءُ بِنَاءٌ مُحْكَمٌ أَتْقَنَ الْخَالِقُ صُنْعَهُ بِقُدْرَتِهِ وَحِكْمَتِهِ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قَالَ تَعَالَى: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" </a:t>
            </a:r>
            <a:r>
              <a:rPr b="1" lang="ar-SA" sz="4000" spc="-1" strike="noStrike">
                <a:solidFill>
                  <a:srgbClr val="ff00ff"/>
                </a:solidFill>
                <a:latin typeface="Times New Roman"/>
              </a:rPr>
              <a:t>ءأنتم أشد خلقا أم السماء بنها " النازعات</a:t>
            </a:r>
            <a:r>
              <a:rPr b="1" lang="ar-SA" sz="40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194328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55640" y="2637000"/>
            <a:ext cx="79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شَّمْسُ وَالنُّجومُ الأُخْرى تُصْدِرُ حَرارَةً وَضَوْءاً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حَرَارَةُ الشَّمْسِ وَضَوْؤهَا يُسَخِّنَانِ الْهَواءَ، وَالْيَابِسَةَ، وَالْماءَ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160" y="836640"/>
            <a:ext cx="81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ff"/>
                </a:solidFill>
                <a:latin typeface="Times New Roman"/>
              </a:rPr>
              <a:t>ما أَهَمِّيَّةُ الشَّمْسِ؟</a:t>
            </a:r>
            <a:endParaRPr b="0" lang="en-US" sz="72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29T10:53:08Z</dcterms:modified>
  <cp:revision>45</cp:revision>
  <dc:subject/>
  <dc:title>PowerPoint Presentation</dc:title>
</cp:coreProperties>
</file>