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music.wav" ContentType="audio/x-wav"/>
  <Override PartName="/ppt/media/image3.wmf" ContentType="image/x-wmf"/>
  <Override PartName="/ppt/media/image1.wmf" ContentType="image/x-wmf"/>
  <Override PartName="/ppt/media/CLICKER.WAV" ContentType="audio/x-wav"/>
  <Override PartName="/ppt/media/image2.wmf" ContentType="image/x-wmf"/>
  <Override PartName="/ppt/media/CNNTONE.WAV" ContentType="audio/x-wav"/>
  <Override PartName="/ppt/media/CLICKER(1).WAV" ContentType="audio/x-wav"/>
  <Override PartName="/ppt/media/BUTTON1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BFE-4BBC-415D-9F36-88A875C3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9CC-944E-4C50-9EBF-55D88D5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8C6-E0A4-4E18-8CD6-D8CEA66B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EFE-75AD-45AD-B3CF-C976EDD8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F385-6017-4CD1-A032-EF711E76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F7F9-ACEE-4BD8-89D0-93150F79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97EA-5A7C-4D5C-99CA-F60DE7F2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4727-AD4B-4A4D-879D-0C54C58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A752-10C9-498B-95EE-90E0700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DA7D-35F8-4DE0-85B3-5ED22B8B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5C5D-6A0B-451F-975D-304E7E51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64E-05A8-4164-A5A6-06196627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94C0-7286-44F4-815F-58445707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FE89-C7F3-4D50-925C-9CEBF64B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983C-493A-4896-A871-6AB287E1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45E0-8D7F-4674-83F7-0BA382F0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C8D5-6548-4787-8DCA-F61FBEE1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DFB-6F62-4907-BB07-4BB9160B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6AF-58AF-4D49-BD2B-0BAFD44F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035-A7CA-4141-8710-B4C9D1EC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08C-5499-4431-9C10-65FAAE1D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756-E82D-4E48-9593-56F9AA2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9CC-7F4D-4547-B73C-A0EDD0F2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41D-FB4D-4F23-84BB-BE5DCFF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471D-6FA8-41B6-9130-D85196311A94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F4AE-A968-422B-96EE-3E07F7B04EF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LICKER.WAV"/><Relationship Id="rId3" Type="http://schemas.openxmlformats.org/officeDocument/2006/relationships/audio" Target="../media/CLICKER(1)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BUTTON1.WAV"/><Relationship Id="rId3" Type="http://schemas.openxmlformats.org/officeDocument/2006/relationships/audio" Target="../media/BUTTON1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LICKER.WAV"/><Relationship Id="rId3" Type="http://schemas.openxmlformats.org/officeDocument/2006/relationships/audio" Target="../media/CLICKER.WAV"/><Relationship Id="rId4" Type="http://schemas.openxmlformats.org/officeDocument/2006/relationships/audio" Target="../media/CLICKER.WAV"/><Relationship Id="rId5" Type="http://schemas.openxmlformats.org/officeDocument/2006/relationships/audio" Target="../media/CLICKER.WAV"/><Relationship Id="rId6" Type="http://schemas.openxmlformats.org/officeDocument/2006/relationships/audio" Target="../media/CLICKER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134136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ساد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2890800"/>
            <a:ext cx="7777440" cy="33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9999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الحركة والطاقة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9999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260280"/>
            <a:ext cx="6985080" cy="1008000"/>
          </a:xfrm>
          <a:custGeom>
            <a:avLst/>
            <a:gdLst>
              <a:gd name="textAreaLeft" fmla="*/ 118800 w 6985080"/>
              <a:gd name="textAreaRight" fmla="*/ 6866280 w 698508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1496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035" y="21600"/>
                </a:lnTo>
                <a:arcTo wR="3600" hR="3600" stAng="10800000" swAng="5400000"/>
                <a:lnTo>
                  <a:pt x="1496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6600cc"/>
              </a:gs>
              <a:gs pos="100000">
                <a:srgbClr val="9999ff"/>
              </a:gs>
            </a:gsLst>
            <a:lin ang="8100000"/>
          </a:gra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كَيْفَ أحَدِّدُ مَوْقِعَ الشَّيْء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844640"/>
            <a:ext cx="70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هُوَ مَكانُ وُجودِ الشَّيْءِ بِالنِّسْبَةِ لشَيْءٍ آخَرَ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يُبَيِّنُ لَنَا ما إذا كانَ الشَّيْءُ قَريباً مِنَ شَيْءٍ آخَرَ أَمْ بَعيدًا عَنْهُ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2889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4112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كَما يُبَيِّنُ لَنَا الْمَوْقِعُ ما إذا كانَ الشَّيْءُ في الأَعْلى، أَمْ في الأَسْفَلِ، أَم إِلَى الْيَمينِ، أمْ إلى الْيَسارِ مِنْ شِيْءٍ آخَرَ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4181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765000"/>
            <a:ext cx="83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كَيْفَ تَتَحَرَّكُ الأَشْياءُ؟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طُرُقٍِ عِدَّةٍ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4104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249228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َحَْركَةَ هِيَ تَغَيُّرُ مَوْقِعَ الشَّيْء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692280"/>
            <a:ext cx="8207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َحرَّكُ الأَشْياءُ فِي خَطٍّ مُسْتَقِيمٍ إلى الأَمامِ أَوْ إِلَى الْخَلْفِ أَوْ في شَكْلٍ دائِريّ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حَركُ الأَشْياءُ أيْضًا فِي خَطٍّ مُتَعَرِّج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سُرْع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بَعْضَ الأَجْسَامِ تَتَحَرَّكُ بِسُرْعَةٍ كَبِير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وبَعْضُهَا يَتَحَرَّكُ بِبُطْء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1520" y="4365720"/>
            <a:ext cx="2664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9:27:28Z</dcterms:modified>
  <cp:revision>43</cp:revision>
  <dc:subject/>
  <dc:title>PowerPoint Presentation</dc:title>
</cp:coreProperties>
</file>