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shreg.wav" ContentType="audio/x-wav"/>
  <Override PartName="/ppt/media/music.wav" ContentType="audio/x-wav"/>
  <Override PartName="/ppt/media/image3.wmf" ContentType="image/x-wmf"/>
  <Override PartName="/ppt/media/image1.wmf" ContentType="image/x-wmf"/>
  <Override PartName="/ppt/media/CLICKER.WAV" ContentType="audio/x-wav"/>
  <Override PartName="/ppt/media/image2.wmf" ContentType="image/x-wmf"/>
  <Override PartName="/ppt/media/CNNTONE.WAV" ContentType="audio/x-wav"/>
  <Override PartName="/ppt/media/CLICKER(1).WAV" ContentType="audio/x-wav"/>
  <Override PartName="/ppt/media/BUTTON1.WAV" ContentType="audio/x-wav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6E1-A344-4786-A57C-F5E9CCF3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115-5FAC-4FFF-8F60-10823BDD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E581-C7C6-4998-831A-344C330E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5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980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5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980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A8E-CB62-4010-9EBA-27DD6EE2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651D-ED96-4309-80F9-48A923C3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B84B-40CA-4733-B937-854AEF50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D8FE-66BE-42A6-B5C4-E167582D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1C8D-E56A-4126-8273-48FA66C6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44B5-192B-493F-9E23-D00DC85C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8B25-A926-40D3-BD83-B1460D3D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6286-232D-40C8-ADA9-6A52058E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3BA-0A5E-4277-A61D-27D5CB30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0383-DB69-48C9-848A-ECBA9865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4934-6F32-40EB-BF09-6556013C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F301-B49C-440F-A25F-50EFBBDF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A12F-8B87-4837-8B60-DE265FDF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5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980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5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980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9BB7-114E-40D6-B65D-4600CA03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2A9-0230-428D-BC60-BBA8E629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B84B-F5B8-4482-8F6C-14A8A200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D190-1ABA-46AD-BBAE-F950C31B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7346-1C22-410F-B2D0-07399FEB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B1B-BF5B-4295-AFC7-A5C72B52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23A-876A-429D-B88E-69C60708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B326-05D9-4430-BD9C-27221F31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09D0-FC84-4D5B-A845-66841874FBAF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24AC-CD94-4BB1-98BA-407EC50DACBD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music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LICKER.WAV"/><Relationship Id="rId3" Type="http://schemas.openxmlformats.org/officeDocument/2006/relationships/audio" Target="../media/CLICKER(1).WAV"/><Relationship Id="rId4" Type="http://schemas.openxmlformats.org/officeDocument/2006/relationships/audio" Target="../media/CLICKER(1)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BUTTON1.WAV"/><Relationship Id="rId3" Type="http://schemas.openxmlformats.org/officeDocument/2006/relationships/audio" Target="../media/BUTTON1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NNTON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LICKER.WAV"/><Relationship Id="rId3" Type="http://schemas.openxmlformats.org/officeDocument/2006/relationships/audio" Target="../media/CLICKER.WAV"/><Relationship Id="rId4" Type="http://schemas.openxmlformats.org/officeDocument/2006/relationships/audio" Target="../media/CLICKER.WAV"/><Relationship Id="rId5" Type="http://schemas.openxmlformats.org/officeDocument/2006/relationships/audio" Target="../media/CLICKER.WAV"/><Relationship Id="rId6" Type="http://schemas.openxmlformats.org/officeDocument/2006/relationships/audio" Target="../media/CLICKER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771640" y="1341360"/>
            <a:ext cx="4176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وحدة السادسة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2890800"/>
            <a:ext cx="7777440" cy="334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9999ff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00">
                      <a:alpha val="70000"/>
                    </a:srgbClr>
                  </a:outerShdw>
                </a:effectLst>
                <a:latin typeface="Arial Black"/>
              </a:rPr>
              <a:t>الحركة والطاقة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9999ff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53753" dir="2700000" blurRad="0" rotWithShape="0">
                  <a:srgbClr val="000000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03280" y="260280"/>
            <a:ext cx="6985080" cy="1008000"/>
          </a:xfrm>
          <a:custGeom>
            <a:avLst/>
            <a:gdLst>
              <a:gd name="textAreaLeft" fmla="*/ 118800 w 6985080"/>
              <a:gd name="textAreaRight" fmla="*/ 6866280 w 6985080"/>
              <a:gd name="textAreaTop" fmla="*/ 118800 h 1008000"/>
              <a:gd name="textAreaBottom" fmla="*/ 889200 h 1008000"/>
            </a:gdLst>
            <a:ahLst/>
            <a:rect l="textAreaLeft" t="textAreaTop" r="textAreaRight" b="textAreaBottom"/>
            <a:pathLst>
              <a:path w="1496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035" y="21600"/>
                </a:lnTo>
                <a:arcTo wR="3600" hR="3600" stAng="10800000" swAng="5400000"/>
                <a:lnTo>
                  <a:pt x="14963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6600cc"/>
              </a:gs>
              <a:gs pos="100000">
                <a:srgbClr val="9999ff"/>
              </a:gs>
            </a:gsLst>
            <a:lin ang="8100000"/>
          </a:gra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كَيْفَ أحَدِّدُ مَوْقِعَ الشَّيْءِ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1844640"/>
            <a:ext cx="702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الْمَوْقِعُ هُوَ مَكانُ وُجودِ الشَّيْءِ بِالنِّسْبَةِ لشَيْءٍ آخَرَ</a:t>
            </a: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الْمَوْقِعُ يُبَيِّنُ لَنَا ما إذا كانَ الشَّيْءُ قَريباً مِنَ شَيْءٍ آخَرَ أَمْ بَعيدًا عَنْهُ</a:t>
            </a: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4869000"/>
            <a:ext cx="2889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ER(1)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ER(1)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141120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كَما يُبَيِّنُ لَنَا الْمَوْقِعُ ما إذا كانَ الشَّيْءُ في الأَعْلى، أَمْ في الأَسْفَلِ، أَم إِلَى الْيَمينِ، أمْ إلى الْيَسارِ مِنْ شِيْءٍ آخَرَ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68360" y="4292640"/>
            <a:ext cx="418176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765000"/>
            <a:ext cx="83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000000"/>
                </a:solidFill>
                <a:latin typeface="Times New Roman"/>
              </a:rPr>
              <a:t>كَيْفَ تَتَحَرَّكُ الأَشْياءُ؟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000000"/>
                </a:solidFill>
                <a:latin typeface="Times New Roman"/>
              </a:rPr>
              <a:t>تَتَحَرَّكُ الأَشْياءُ بِطُرُقٍِ عِدَّةٍ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63640" y="3645000"/>
            <a:ext cx="54104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TT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2492280"/>
            <a:ext cx="84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000000"/>
                </a:solidFill>
                <a:latin typeface="Times New Roman"/>
              </a:rPr>
              <a:t>الَحَْركَةَ هِيَ تَغَيُّرُ مَوْقِعَ الشَّيْء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NNT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55640" y="692280"/>
            <a:ext cx="82072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تَتَحرَّكُ الأَشْياءُ فِي خَطٍّ مُسْتَقِيمٍ إلى الأَمامِ أَوْ إِلَى الْخَلْفِ أَوْ في شَكْلٍ دائِريٍّ</a:t>
            </a: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تَتحَركُ الأَشْياءُ أيْضًا فِي خَطٍّ مُتَعَرِّجٍ</a:t>
            </a: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تَتَحَرَّكُ الأَشْياءُ بِسُرْعاتٍ مُخْتَلِفَةٍ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بَعْضَ الأَجْسَامِ تَتَحَرَّكُ بِسُرْعَةٍ كَبِيرَةٍ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وبَعْضُهَا يَتَحَرَّكُ بِبُطْءٍ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1520" y="4365720"/>
            <a:ext cx="2664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9:27:28Z</dcterms:modified>
  <cp:revision>43</cp:revision>
  <dc:subject/>
  <dc:title>PowerPoint Presentation</dc:title>
</cp:coreProperties>
</file>