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suction.wav" ContentType="audio/x-wav"/>
  <Override PartName="/ppt/media/image6.jpeg" ContentType="image/jpeg"/>
  <Override PartName="/ppt/media/CLICKER.WAV" ContentType="audio/x-wav"/>
  <Override PartName="/ppt/media/image2.wmf" ContentType="image/x-wmf"/>
  <Override PartName="/ppt/media/image1.wmf" ContentType="image/x-wmf"/>
  <Override PartName="/ppt/media/water.wav" ContentType="audio/x-wav"/>
  <Override PartName="/ppt/media/image3.jpeg" ContentType="image/jpeg"/>
  <Override PartName="/ppt/media/image4.jpeg" ContentType="image/jpeg"/>
  <Override PartName="/ppt/media/image5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16AA-6387-4F35-B4D9-CA8696430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599B-8ACD-482A-8A9B-3E0E4A64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396E-2AF3-4963-8974-31ED664A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C12-7439-4F6E-8335-A1F56512B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E14B0-7505-43CA-B15E-2532BCA1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193DE-5A55-4B0C-B4CA-2CB1D50D1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D46FA-E14E-4D7B-8EF9-0DCCE3CF3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6DFC-AB07-485C-AEAD-259FCAD66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2F1EC-93C3-4354-BE3D-1FC5EC41A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4C46-3715-4D79-AE00-F5C4A73B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E48E-2828-47E9-809B-D0E2F99F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6351-D9DC-4855-9580-22E03117B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F0AD5-EB80-4B3C-B4AF-21F11359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084F4-3366-43FC-A950-8DB205AC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422FA-8FD6-4E7B-B343-3FE96526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7BF0C-2013-4DDA-8E86-6F3366791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132E-22F3-4F81-8985-F06EA83FD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8964-3195-49BA-88F8-5ECE2323D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5497-4804-4791-B9C0-4A624930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5D846-D805-4519-8D70-017D5C85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E765D-37A7-4233-8E79-525189A83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6A52-C740-4960-A131-D819D03F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C6BB-2F59-4B0F-8E88-3ACE04C8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DBFD-0B7B-4951-A5CC-BA18912C8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B1A7-64A9-45FF-B5B3-B8CDA613B707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FC913-7598-439B-9290-37427F29EBE6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suction.wav"/><Relationship Id="rId2" Type="http://schemas.openxmlformats.org/officeDocument/2006/relationships/audio" Target="../media/CLICKER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water.wav"/><Relationship Id="rId3" Type="http://schemas.openxmlformats.org/officeDocument/2006/relationships/audio" Target="../media/water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domiatwindow.net/images/articles/aF0TA2t55cFt.bmp&amp;imgrefurl=http://domiatwindow.net/articles.php%3Fid%3D241&amp;usg=__kJxymtL7r9Jk1FG_UB3kEIJ6qRo=&amp;h=420&amp;w=337&amp;sz=416&amp;hl=ar&amp;start=8&amp;tbnid=eIicBymXKMLk2M:&amp;tbnh=125&amp;tbnw=100&amp;prev=/images%3Fq%3D%25D9%2581%25D8%25B5%25D9%2584%2B%25D8%25A7%25D9%2584%25D8%25B5%25D9%258A%25D9%2581%26gbv%3D2%26hl%3Dar%26sa%3D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.eg/imgres?imgurl=http://www.alawael-magazine.com/site_image/Summer%2520Session%2520picture.bmp&amp;imgrefurl=http://www.alawael-magazine.com/page_view.php%3Fid%3D192&amp;usg=__RWuxhxgOKnvKgaTRT9hip1fFLUs=&amp;h=358&amp;w=360&amp;sz=127&amp;hl=ar&amp;start=1&amp;tbnid=3ddLrsnl6861UM:&amp;tbnh=120&amp;tbnw=121&amp;prev=/images%3Fq%3D%25D9%2581%25D8%25B5%25D9%2584%2B%25D8%25A7%25D9%2584%25D8%25B5%25D9%258A%25D9%2581%26gbv%3D2%26hl%3Dar%26sa%3D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google.com.eg/imgres?imgurl=http://members.abunawaf.com/balot/GRD3/40.jpg&amp;imgrefurl=http://www.abunawaf.com/post-5517.html&amp;usg=__IEC5cyIqzba2_j6ruLPQLQdPuow=&amp;h=600&amp;w=800&amp;sz=51&amp;hl=ar&amp;start=3&amp;um=1&amp;tbnid=mbTVnlx7ISEwcM:&amp;tbnh=107&amp;tbnw=143&amp;prev=/images%3Fq%3D%25D9%2581%25D8%25B5%25D9%2584%2B%25D8%25A7%25D9%2584%25D8%25B4%25D8%25AA%25D8%25A7%25D8%25A1%26hl%3Dar%26sa%3DN%26um%3D1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images.google.com.eg/imgres?imgurl=http://www.shlahi.com/vb/uploaded/490_1203681119.gif&amp;imgrefurl=http://mfhom.com/vb/t24894.html&amp;usg=__KI9OV0Bl5FNFjIZnIMtTmpKtRqY=&amp;h=640&amp;w=480&amp;sz=783&amp;hl=ar&amp;start=12&amp;um=1&amp;tbnid=NAhkNa9GbVGTKM:&amp;tbnh=137&amp;tbnw=103&amp;prev=/images%3Fq%3D%25D8%25A3%25D9%2585%25D8%25B7%25D8%25A7%25D8%25B1%26hl%3Dar%26um%3D1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348000" y="115920"/>
            <a:ext cx="299736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ccff"/>
                </a:solidFill>
                <a:latin typeface="Impact"/>
              </a:rPr>
              <a:t>الدرس الثانى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ccccff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755640" y="2779560"/>
            <a:ext cx="81360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50000">
                      <a:srgbClr val="ffffcc"/>
                    </a:gs>
                    <a:gs pos="100000">
                      <a:srgbClr val="3333cc"/>
                    </a:gs>
                  </a:gsLst>
                  <a:lin ang="8100000"/>
                </a:gradFill>
                <a:effectLst>
                  <a:outerShdw dist="153753" dir="2700000" blurRad="0" rotWithShape="0">
                    <a:srgbClr val="000000">
                      <a:alpha val="80000"/>
                    </a:srgbClr>
                  </a:outerShdw>
                </a:effectLst>
                <a:latin typeface="Hesham Bold"/>
              </a:rPr>
              <a:t>الفصول الأربعة</a:t>
            </a:r>
            <a:endParaRPr b="0" lang="en-US" sz="60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50000">
                    <a:srgbClr val="ffffcc"/>
                  </a:gs>
                  <a:gs pos="100000">
                    <a:srgbClr val="3333cc"/>
                  </a:gs>
                </a:gsLst>
                <a:lin ang="8100000"/>
              </a:gradFill>
              <a:effectLst>
                <a:outerShdw dist="153753" dir="2700000" blurRad="0" rotWithShape="0">
                  <a:srgbClr val="000000">
                    <a:alpha val="80000"/>
                  </a:srgbClr>
                </a:outerShdw>
              </a:effectLst>
              <a:latin typeface="Hesham Bold"/>
              <a:ea typeface="Hesham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LICK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340000" y="981000"/>
            <a:ext cx="388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ما الفصول الأربعة 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213372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يتغير الطقس خلال السنة فى كثير من الأماكن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763640" y="4005360"/>
            <a:ext cx="4753080" cy="25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at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468360" y="2084040"/>
            <a:ext cx="79912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ـ يكون الطقس مشمسا  لِساعاتٍ طَويلَةٍ، فيُدْفِئُ الْيابِسَةَ وَالْهَواءَ وَالْماءَ. وتَنْمُو النَّباتاتُ. وَيَتوافَرُ لِلْحَيَواناتِ طَعامٌ كَثيرٌ. وَتَنْموَ صِغارُها، وَتُصْبِحُ أَكْبَرَ وَأَقْوى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80840" y="765000"/>
            <a:ext cx="48927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600" spc="-1" strike="noStrike">
                <a:solidFill>
                  <a:srgbClr val="ff3300"/>
                </a:solidFill>
                <a:latin typeface="Times New Roman"/>
              </a:rPr>
              <a:t>فصل الربيع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836640"/>
            <a:ext cx="2087640" cy="17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68360" y="1917360"/>
            <a:ext cx="763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: الصيف هو فصل من فصول السنة الأربعة وهو أشد الفصول حرارة, يبدأ من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1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يونيو وينتهي في 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22</a:t>
            </a:r>
            <a:r>
              <a:rPr b="1" lang="ar-SA" sz="3600" spc="-1" strike="noStrike">
                <a:solidFill>
                  <a:srgbClr val="ffff00"/>
                </a:solidFill>
                <a:latin typeface="Times New Roman"/>
              </a:rPr>
              <a:t> سبتمبر في البلاد الواقعة شمال خط الأستواء, ويبدأ في ديسمبر وينتهي في مارس في البلاد الواقعة جنوب خط الأستواء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45800" y="1052640"/>
            <a:ext cx="360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3300"/>
                </a:solidFill>
                <a:latin typeface="Times New Roman"/>
              </a:rPr>
              <a:t>فصل الصيَّف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00000" y="5013360"/>
            <a:ext cx="2232000" cy="1582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00000" y="476280"/>
            <a:ext cx="18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71640" y="2228760"/>
            <a:ext cx="6985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َكونُ الطَّقْسُ مُشْمِسًا لِساعاتٍ أَقَلَّ مِنَ الصَّيْفِ، وَيُصْبِحُ الطَّقْسُ أَقَلَّ حَرَارَةً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69120" y="1000080"/>
            <a:ext cx="508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ْخَريفِ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556000" y="4508640"/>
            <a:ext cx="3311280" cy="19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755640" y="3044520"/>
            <a:ext cx="6770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كْثَرُ الْفُصولِ بُرودَةً. يَكونُ الطَّقْسُ فِيْهِ مُشْمِسًا لِساعاتٍ قَليلَةٍ، وَتَتَسَاقَطُ فِيْه الأَمْطارُ، وَأَحْيانًا البَرَدُ والثُّلوجُ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48120" y="476280"/>
            <a:ext cx="464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3300"/>
                </a:solidFill>
                <a:latin typeface="Times New Roman"/>
              </a:rPr>
              <a:t>فصل الشِّتاء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6720" y="1628640"/>
            <a:ext cx="2016000" cy="15084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9640" y="1484280"/>
            <a:ext cx="1657440" cy="13050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2916360" y="1557360"/>
            <a:ext cx="280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29T10:28:46Z</dcterms:modified>
  <cp:revision>37</cp:revision>
  <dc:subject/>
  <dc:title>PowerPoint Presentation</dc:title>
</cp:coreProperties>
</file>