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EEPCHP.WAV" ContentType="audio/x-wav"/>
  <Override PartName="/ppt/media/music.wav" ContentType="audio/x-wav"/>
  <Override PartName="/ppt/media/image1.wmf" ContentType="image/x-wmf"/>
  <Override PartName="/ppt/media/BWINGING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0EC-75B3-458A-9086-29A770F3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E0A-7382-42DB-9E03-81BF095A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4B9-DD32-4B79-B634-736E648B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ECB-5CF4-460C-935A-3EF5B90D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7905-DC70-4950-968A-62473A5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889-6454-4969-8A57-4E23AFD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7C9-A772-41DF-8CAE-6A90978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4EA-E092-48DC-80D9-FB72514C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001E-AFC3-4AC8-9F42-8D17DAC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E645-7EB8-40F5-8980-19BA567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29D-EA48-4B8B-AB6B-82B17B7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EC9-E326-45A1-90FA-B5EF852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9945-5B79-44DD-BF22-F97064F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E31C-F807-4BB0-82D3-FD128B1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6E4-85A9-433E-9495-5BD43D5F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6C01-74D8-410D-B5BE-ACC2D327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D6F-0D94-42D3-9B7C-A21B94A4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4E6-94D1-440B-9019-CEDC9D1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330-2D97-4C53-B81B-8BB9685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55A-00C5-41D5-8B64-BA271780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250-98D8-4B90-B293-4571CCD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EDB-5A58-47E6-8F4B-172EA07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AB8-953B-442D-8FB7-79A9898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BF-3699-4273-ABDA-3ADF271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434-FB40-4930-85DD-45DFFEFF74E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D8B6-5907-4236-9FE4-63CCF91A1A1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WINGING.WAV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765000"/>
            <a:ext cx="36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لث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2997360"/>
            <a:ext cx="763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Hesham AlSharq"/>
              </a:rPr>
              <a:t>كتابة علمية ( تغير الفصول )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115920"/>
            <a:ext cx="4680000" cy="907920"/>
          </a:xfrm>
          <a:custGeom>
            <a:avLst/>
            <a:gdLst>
              <a:gd name="textAreaLeft" fmla="*/ 736920 w 4680000"/>
              <a:gd name="textAreaRight" fmla="*/ 3943080 w 4680000"/>
              <a:gd name="textAreaTop" fmla="*/ 11340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اولى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7252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(  فصل الربيع ) :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63700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( فصل الشِّتاءُ) :  أَكْثَرُ الْفُصولِ بُرودَةً. يَكونُ الطَّقْسُ فِيْهِ مُشْمِسًا لِساعاتٍ قَليلَةٍ، وَتَتَسَاقَطُ فِيْه الأَمْطارُ، وَأَحْيانًا البَرَدُ والثُّلوج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5112000" cy="908280"/>
          </a:xfrm>
          <a:custGeom>
            <a:avLst/>
            <a:gdLst>
              <a:gd name="textAreaLeft" fmla="*/ 804960 w 5112000"/>
              <a:gd name="textAreaRight" fmla="*/ 4307040 w 5112000"/>
              <a:gd name="textAreaTop" fmla="*/ 113400 h 908280"/>
              <a:gd name="textAreaBottom" fmla="*/ 908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ث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97884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وجه الأختلاف بين الصورت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أولى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ورود متفتحة والجو جميل و مشمس والسماء صاف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ثان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جو بارد والجليد يتساقط والاشجار ليست مزهر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836640"/>
            <a:ext cx="6624720" cy="93672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ر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34936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فى الربيع نلبس الملابس الخفيفة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WING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68720" y="3015720"/>
            <a:ext cx="118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ى فصل الشتاء نلبس الملابس الثقيل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052640"/>
            <a:ext cx="6624720" cy="93636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شتاء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38:28Z</dcterms:modified>
  <cp:revision>30</cp:revision>
  <dc:subject/>
  <dc:title>PowerPoint Presentation</dc:title>
</cp:coreProperties>
</file>