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2.wav" ContentType="audio/x-wav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633F-0615-40BA-991B-F15282D97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257C-DA0C-451E-A1CD-E8B9221D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D66-2ADD-423F-A3E5-93985E442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EFCD-E9BC-4E67-96DB-62BB1102B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31267-8C90-44CD-82D5-E215C2323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509A-AE75-441B-A788-A95406472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2EC9-DE48-4AC6-A87B-2BE0662B4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0EC3-2BB2-42FF-9B1D-46595021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FB9C-5A4E-4A68-8692-78D3F57D3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D1402-E2D3-4A86-B432-863A614C0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E63F-3495-4A92-9AB3-5EDA7721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9492-7FBB-42BC-99BB-0BFAF1C0E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2C852-5891-4A3D-B5CC-D564676A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D9DC-DD35-4B90-B5FF-8BFF921F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11B9-9125-4215-9C73-98AF9D9E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6EA3-C534-4A70-838C-DC48D43D3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1F106-3B32-4FA9-9907-83CF50A62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7D93-D6C9-4E92-BFF8-DC47FCE7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225-FD0B-4088-AC56-8FFA7709C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4139-F392-4A1B-AEA3-B5F45B7D4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3EC2-0D31-4D26-B450-F7670B2B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AB29-1D82-4A09-A1AD-E57A977D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99AF-87C7-42F7-8997-FDB863873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4149-75AA-48DC-ADE0-ED84ED1FC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A67D-071B-4B38-A0F1-210E828C5D89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9467D-A67D-4AD9-A5BA-2A6EF646E39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2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900000" y="2852640"/>
            <a:ext cx="748836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Hesham AlSharq"/>
              </a:rPr>
              <a:t>المواد الصلبة والسوائل والغازات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55640" y="1989000"/>
            <a:ext cx="7236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ُ الصُّلْبَةُ لَها شَكْلٌ مُحَدَّدٌ. تَختلِفُ المَوادُ الصُّلْبَةُ بَعْضُها عَنْ بَعْضٍ في الشَّكْلِ والمَلْمَسِ وَكَمِّيَّةِ المَادَّةِ. يُمْكِنُ أَنْ أسْتَخْدِمَ الْمِسْطَرَةَ لِقِياسِ أَبْعادِ الْمَوادِّ الصُّلْبَةِ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5040" y="765000"/>
            <a:ext cx="659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َا صِفَاتُ المَادَّةِ الصُّلْبَة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00000" y="2205000"/>
            <a:ext cx="75596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ْمَادَّةَ السَّائِلَةُ لَيْسَ لَهَا شَكْلٌ مُحَدَّدٌ، إِذْ تأْخُذُ شَكْلَ الْوِعاءِ الذي تُوضَعُ فيهِ. يَنْسَابُ السَّائِلُ فَيَنْتَقِلُ مِنْ مَكَانٍ إِلى آخَرَ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136880" y="420840"/>
            <a:ext cx="7873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ما صِفاتُ السَّوائِلِ؟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4653000"/>
            <a:ext cx="439128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00000" y="765000"/>
            <a:ext cx="7740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cc00ff"/>
                </a:solidFill>
                <a:latin typeface="Times New Roman"/>
              </a:rPr>
              <a:t>ما صِفاتُ الْغازاتِ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المَادَّةَ الْغَازِيَّةُ لَيْسَ لَها شَكْلٌ مُحَدَّدٌ، فالغَازُ يَنْتَشِرُ بِسُهولَةٍ يَتَكَوَّنُ الْهَواءُ الَّذِي أَتَنَفَّسُهُ مِنْ غازاتٍ مُخْتَلِفَةٍ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771640" y="3716280"/>
            <a:ext cx="339588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cc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86040"/>
            <a:ext cx="8135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Times New Roman"/>
              </a:rPr>
              <a:t>أنا لا أرَى الْهَوَاءَ، وَلَكِنِّي أُحِسُّ بِهِ عِنْدَمَا يَكُوْنُ بارِدًا أَوْ دافِئًا، وَأُحِسُّ بِهِ وَهُوَ يَنْتَشِرُ مِنْ مَكانٍ إِلى آخَرَ. ويتكون الهواء من مجموعة كبيرة من الغازات مثل : غاز الأكسجين الذى يتنفسه الإنسان والحيوان وسائر المخلوقات على سطح الأرض وثانى أكسيد الكربون اللازم لعملية البناء الضوئى 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771640" y="4581360"/>
            <a:ext cx="341172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6:35:42Z</dcterms:modified>
  <cp:revision>23</cp:revision>
  <dc:subject/>
  <dc:title>PowerPoint Presentation</dc:title>
</cp:coreProperties>
</file>