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HEEPCHP.WAV" ContentType="audio/x-wav"/>
  <Override PartName="/ppt/media/music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DA1-D4EF-4660-8F12-8D995B63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108-F88F-4CF5-B5D1-D6587630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39C-2A88-49DD-AEFA-D6582CB7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88C-672E-4741-8ABF-7C38B96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4C4-B0C8-45D4-9AB0-B6C928BF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AE1B-9D18-46A2-ABDB-D409161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6920-1DAD-40C9-BD90-C4C0CA4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1E35-7F71-4313-BB69-B68B1E53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38F-58FF-470E-9E09-846C9E7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CA76-99D0-4F9B-9A7B-3E364DA2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E008-2878-49F0-9686-C5F62FB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DC5-8C66-43F7-BFB4-3D18B73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66C0-45FE-44D3-B32F-08A67281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B0FE-E806-4358-8C25-B098B109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F3A6-085A-4D2D-B162-0C78A90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8371-BB71-4E6E-A595-AA5148EF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214B-04EA-461E-BAE9-D5C1CE8A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DDA-003A-4B33-9228-67D8DC12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D03-8354-48CE-BE6A-BA4D55F8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49D-8BD0-4613-8ECE-CBDB550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02D-27FA-4081-9887-96E40E8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26C-DCE9-438C-99C1-66C6D40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F85-0793-410C-ADB0-7EAB5E1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6A3-F3C3-4B76-B5D4-D95EEC9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004-E8F9-4C1C-A7EB-72EA70D2B070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0632-4971-411C-86FC-E63EE591C46E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43280" y="907920"/>
            <a:ext cx="446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قراءة علمية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3573360"/>
            <a:ext cx="719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زجاج الملون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067760"/>
            <a:ext cx="763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الأَشْكالُ الَّتِي أَرَاهَا في الزُّجاجِ الْمُلَّوَنِ في الصُّورَة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عَدَدُ الدَّوائِرِ الّتي أَرَاهَا؟ وَما عَدَدُ الْمُسْتَطيلات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تَتَكَوَّنُ النَّوافِذُ الزُّجاجِيَّةُ الْمُلَوَّنَةُ مِنْ عِدَّةِ قِطَعٍ مِنَ الزُّجاجِ الْمُلَوَّنِ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عِنْدَما تَمُرُّ أَشِعَّةُ الشَّمْسِ مِنْ خِلالِ الزُّجاجِ الْمُلَوَّنِ، فَإِنَّني أرى الضَّوْءَ بأَلْوانٍ مُخْتَلِفَةٍ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619920"/>
            <a:ext cx="438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أُحَدِّدُ الأَشْكالَ.</a:t>
            </a:r>
            <a:endParaRPr b="0" lang="en-US" sz="5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60872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059360"/>
            <a:ext cx="3240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1:20:49Z</dcterms:modified>
  <cp:revision>34</cp:revision>
  <dc:subject/>
  <dc:title>PowerPoint Presentation</dc:title>
</cp:coreProperties>
</file>