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music.wav" ContentType="audio/x-wav"/>
  <Override PartName="/ppt/media/image3.wmf" ContentType="image/x-wmf"/>
  <Override PartName="/ppt/media/image5.wmf" ContentType="image/x-wmf"/>
  <Override PartName="/ppt/media/image6.wmf" ContentType="image/x-wmf"/>
  <Override PartName="/ppt/media/hammer.wav" ContentType="audio/x-wav"/>
  <Override PartName="/ppt/media/image7.wmf" ContentType="image/x-wmf"/>
  <Override PartName="/ppt/media/image8.wmf" ContentType="image/x-wmf"/>
  <Override PartName="/ppt/media/compres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8B1-ED1C-4962-BA97-8FB626BC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9335-D2E2-42FF-AB23-98345E20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ACA5-A4D7-48E8-84CA-E0F0C780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C2E5-EB2C-452A-AAFE-447FFD54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0529-4B37-4C57-97EC-A3889977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1177-5CD8-4F0D-B88C-B8D3A6A9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E05D-5C80-4B9A-A47F-4F851E34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B327-E777-45ED-93AF-DB44A632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9195-36FF-47D0-AFBC-0BA91415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FEBD-B223-410F-968F-CB7DDDCC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63B2-31EA-409C-9C8E-F96E4285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A6DE-6BD5-4911-A83C-DDE5F3A0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F8BD-09F2-486F-8AD6-1BD6D176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5AE3-BC34-401B-9F25-03B6DBF6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7988-481D-4C1F-895B-E13C57D3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6152-D70E-4887-B08C-CEACE1A7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3343-5F9A-4D72-9EE6-66AD60BD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7E80-CC71-4E4C-A5C6-8A1818FC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A4D5-4984-441C-A259-852011CA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98B6-19E3-47CF-973C-2D5698AF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B778-E1A3-43F8-8378-FB647560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29A0-EBF6-4CA8-9AB8-7559C4E1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0466-9DC5-46BC-8C2D-AA84D046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D3A8-06B6-47A6-B44A-9F662961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a5002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a50021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6A31-FC20-4EAF-A71F-D502BCC92B73}" type="slidenum">
              <a:rPr b="0" lang="ar-SA" sz="1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a5002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a50021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0A7F-E662-4758-935C-1BA16D01160C}" type="slidenum">
              <a:rPr b="0" lang="ar-SA" sz="1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music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compres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4360" y="1700280"/>
            <a:ext cx="797868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Hesham Cortoba"/>
              </a:rPr>
              <a:t>الدفع والسحب 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Hesham Cortoba"/>
              <a:ea typeface="Hesham Cortob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11280" y="2708280"/>
            <a:ext cx="7524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تَحْتاجُ الأَشْياءُ إِلى قُوَّةٍ ما لِتُحَرِّكَها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الَقْوُةَّ هِيَ قُوَّةُ السَّحْبِ أَوْ قُوَّةُ الدَّفْعِ الَّتي تُحَرِّكُ الشَّيْءَ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2000" y="1413000"/>
            <a:ext cx="774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a50021"/>
                </a:solidFill>
                <a:latin typeface="Times New Roman"/>
              </a:rPr>
              <a:t>ما الّذي يُحَرِّكُ الأَشْياءَ؟</a:t>
            </a:r>
            <a:endParaRPr b="0" lang="en-US" sz="5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9640" y="4724280"/>
            <a:ext cx="316872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00000" y="2924280"/>
            <a:ext cx="64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تُحَرِّكُ قُوَّةُ الدَّفْعِ الشَّيْءَ بَعيداّ عَني، أَمّا قُوَّةُ السَّحْبِ فَتُحَرِّكُهُ بِاتَّجاهِي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89840" y="1341360"/>
            <a:ext cx="6378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a50021"/>
                </a:solidFill>
                <a:latin typeface="Times New Roman"/>
              </a:rPr>
              <a:t>قوة الدفع وقوة السحب</a:t>
            </a:r>
            <a:r>
              <a:rPr b="1" lang="ar-SA" sz="4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124000" y="4437000"/>
            <a:ext cx="41036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51280" y="411120"/>
            <a:ext cx="4357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a50021"/>
                </a:solidFill>
                <a:latin typeface="Times New Roman"/>
              </a:rPr>
              <a:t>عِنْدَما أتْرُكُ البَيضَةَ فإنَّها تَسْقُطُ، لأن الْجاذِبِيَّةَ تَسْحَبُهُا إِلى الأَرْضِ.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03280" y="3716280"/>
            <a:ext cx="590544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71640" y="1484280"/>
            <a:ext cx="71294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a50021"/>
                </a:solidFill>
                <a:latin typeface="Times New Roman"/>
              </a:rPr>
              <a:t>اَلْجاذِبِيَّةُ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 هِيَ الْقُوَّةُ الَّتي تَسْحَبُ الأَشْياءَ بِاتِّجاهِ الأَرْضِ. وولجاذبية مجموعة من القوانين وضعها العالم الكبير اسحق نيوتن .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3168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26920" y="2421000"/>
            <a:ext cx="723600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</a:rPr>
              <a:t>تَخْتَلِفُ حَرَكَةُ الأَشْياءِ بِحَسَبِ مِقْدَارِ سَحْبِها، أَوْ مِقْدارِ دَفْعِها. يَحْتاجُ اَلشَّيْءُ الْخَفيفُ إِلى قُوَّةِ دَفْعٍ صَغِيرةٍ لِيَتَحَرَّكَ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</a:rPr>
              <a:t>،</a:t>
            </a:r>
            <a:endParaRPr b="0" lang="en-US" sz="38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</a:rPr>
              <a:t>بَيْنَما يَحْتَاجُ الشَّيْءُ الثَّقيلُ إِلى قُوَّةِ دَفْعٍ أَكْبَرَ لِيَتَحَرَّكَ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7400" y="1052640"/>
            <a:ext cx="6874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a50021"/>
                </a:solidFill>
                <a:latin typeface="Times New Roman"/>
              </a:rPr>
              <a:t>كَيْفَ تَخْتَلِفُ الْقُوَى؟</a:t>
            </a:r>
            <a:endParaRPr b="0" lang="en-US" sz="5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5280" y="5013360"/>
            <a:ext cx="2808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835280" y="981000"/>
            <a:ext cx="6838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قُوَّةُ الدَّفْعِ الْكَبيرَةُ تُحَرِّكُ الشَّيْءَ بِسُرْعَةٍ أَكْبَرَ وَلِمَسافَةٍ أَطْوَلَ مِنْ قُوَّةِ الْدَّفْعِ الصَّغيرَةِ</a:t>
            </a:r>
            <a:r>
              <a:rPr b="1" lang="en-US" sz="4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63640" y="3500280"/>
            <a:ext cx="53294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mpre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2852640"/>
            <a:ext cx="7740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هَلَ سَبَقَ لك أَنْ حَكَكَتَ أَقْدَامَكَ عَلى الأَرْضِ لتبطئ حَرَكَةَ المزلاجة؟ هَذا هُوَ الاِحْتِكاكُ. اَلاِحْتِكاكُ هُوَ الْقُوَّةُ الَّتي تُبَطِّئُ حَرَكَةَ الأَشْياءِ</a:t>
            </a:r>
            <a:r>
              <a:rPr b="1" lang="ar-SA" sz="4200" spc="-1" strike="noStrike">
                <a:solidFill>
                  <a:srgbClr val="a50021"/>
                </a:solidFill>
                <a:latin typeface="Times New Roman"/>
              </a:rPr>
              <a:t>.</a:t>
            </a:r>
            <a:r>
              <a:rPr b="1" lang="en-US" sz="4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53360" y="1052640"/>
            <a:ext cx="2363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a50021"/>
                </a:solidFill>
                <a:latin typeface="Times New Roman"/>
              </a:rPr>
              <a:t>الاحتكاك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10:02:12Z</dcterms:modified>
  <cp:revision>51</cp:revision>
  <dc:subject/>
  <dc:title>PowerPoint Presentation</dc:title>
</cp:coreProperties>
</file>