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laser.wav" ContentType="audio/x-wav"/>
  <Override PartName="/ppt/media/water.wav" ContentType="audio/x-wav"/>
  <Override PartName="/ppt/media/CHEEPCHP.WAV" ContentType="audio/x-wav"/>
  <Override PartName="/ppt/media/image5.wmf" ContentType="image/x-wmf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062FA-D276-4F4C-9BD1-6A1AF0438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B38-636F-4EBB-81C3-6C431DD6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3F5A-3679-4F9D-BD6D-3E3D46D78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B22-5487-44DD-BDE7-EE679E67A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C3F2A-4FCD-4D78-B09A-DE57E6972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C17A-40FC-4B74-8395-3ECB4BA58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833B-EED9-409E-9A4C-5FE63D5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011D1-3353-4C8F-8555-F1E18D70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6B192-0019-4B00-90DE-0BA3A7C3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72616-6615-4DC1-AF6C-D40229CD6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FD6-CEE0-49DC-8173-49CED1DF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B9D8-DC25-4D8D-BE7B-E471C4D84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1645A-86AF-413F-8D83-975DEAC19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DAF4-8875-40DE-A1FA-1D310EA74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C03DF-13FD-486C-8E65-8AE2E60B9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B4C4-75C0-4923-A2EC-A64EC0638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0BF2-D664-4F00-A04F-3A04B1C409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4D4B-99B1-4A44-A117-C047D4DCA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C10-17F6-4EAD-9F0A-3B62F164E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327A-50C5-4633-BA28-0FDAA8722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C7C3-A57F-43DD-993B-922202E0E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BA51E-A22D-4730-B8E8-C65E429E2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A2A-C035-4F13-81F6-B7EB34A44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3E7C-5FA1-40EA-B465-091752B3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E4EE-2BB5-4D29-8DA7-29ABECC0049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C2FC9-9DE1-47ED-A969-821F88CB200C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las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EEPCHP.WAV"/><Relationship Id="rId3" Type="http://schemas.openxmlformats.org/officeDocument/2006/relationships/audio" Target="../media/CHEEPCHP.WAV"/><Relationship Id="rId4" Type="http://schemas.openxmlformats.org/officeDocument/2006/relationships/audio" Target="../media/CHEEPCHP.WAV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700360" y="1268280"/>
            <a:ext cx="35416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0">
                  <a:noFill/>
                </a:ln>
                <a:solidFill>
                  <a:srgbClr val="ff9900"/>
                </a:solidFill>
                <a:latin typeface="Impact"/>
              </a:rPr>
              <a:t>الدرس الثانى </a:t>
            </a:r>
            <a:endParaRPr b="1" lang="en-US" sz="5400" spc="1" strike="noStrike">
              <a:ln w="0">
                <a:noFill/>
              </a:ln>
              <a:solidFill>
                <a:srgbClr val="ff99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87280" y="3346560"/>
            <a:ext cx="7137720" cy="23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latin typeface="Hesham Fostat"/>
              </a:rPr>
              <a:t>المخاليط</a:t>
            </a:r>
            <a:endParaRPr b="1" lang="en-US" sz="66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11280" y="2637000"/>
            <a:ext cx="7812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اَلْمَخْلوطُ شَيْئَانِ أَوْ أَشْيَاءٌ مُخْتَلِفَةٌ تَخْتَلِطُ مَعًا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لا تَتَغَيَّرُ المَوادُّ الصُّلْبَةُ عَادَةً عِنْدَ خَلْطِها، وَيُمْكِنُني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رُؤْيَتُها في الْمَخْلوطِ وَفَصْلُ بَعْضِها عَنْ بَعْضٍ</a:t>
            </a:r>
            <a:r>
              <a:rPr b="1" lang="ar-EG" sz="38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667880" y="1238400"/>
            <a:ext cx="574812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*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ما اَلْمَخْلوطُ</a:t>
            </a:r>
            <a:r>
              <a:rPr b="1" lang="ar-SA" sz="6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EG" sz="6200" spc="-1" strike="noStrike">
                <a:solidFill>
                  <a:srgbClr val="000000"/>
                </a:solidFill>
                <a:latin typeface="Times New Roman"/>
              </a:rPr>
              <a:t>؟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187280" y="2421000"/>
            <a:ext cx="7704360" cy="39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عِنْدَما أخْلِطُ الْمَوادَّ الصُّلْبَةَ بالْماِء، فَإِنَّ بَعْضَها يَطْفُو عَلى سَطْحِ الْماءِ، وَبَعْضَها الآخَرَ يَنْغَمِرُ</a:t>
            </a: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73320" y="1197000"/>
            <a:ext cx="641232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5600" spc="-1" strike="noStrike">
                <a:solidFill>
                  <a:srgbClr val="000000"/>
                </a:solidFill>
                <a:latin typeface="Times New Roman"/>
              </a:rPr>
              <a:t>خلط المواد الصلبة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50920" y="4292640"/>
            <a:ext cx="2374920" cy="1882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68360" y="344520"/>
            <a:ext cx="2087640" cy="192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24000" y="1773360"/>
            <a:ext cx="849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بَعْضُ المَوَادِّ الصُّلْبَةِ يَذُوْبُ في السَّوَائلِ؛ الذَّوَبَانُ امْتِزَاجُ الْمَادَّةِ كُلِّيَّا بِالسَّائِلِ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* 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هَذا النَّوْعُ مِنَ الْمَخَالِيْطِ يَصْعُبُ فَصْلُ مُكَوِّناتِهِ بَعْضِها عَنْ بَعْضٍ</a:t>
            </a:r>
            <a:r>
              <a:rPr b="1" lang="ar-SA" sz="42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40280" y="549360"/>
            <a:ext cx="5755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800" spc="-1" strike="noStrike">
                <a:solidFill>
                  <a:srgbClr val="000000"/>
                </a:solidFill>
                <a:latin typeface="Times New Roman"/>
              </a:rPr>
              <a:t>مَخاليطُ أُخْرى</a:t>
            </a:r>
            <a:endParaRPr b="0" lang="en-US" sz="6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0" y="4437000"/>
            <a:ext cx="349236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39640" y="2997360"/>
            <a:ext cx="792000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  </a:t>
            </a:r>
            <a:r>
              <a:rPr b="1" lang="ar-SA" sz="5600" spc="-1" strike="noStrike">
                <a:solidFill>
                  <a:srgbClr val="ff00ff"/>
                </a:solidFill>
                <a:latin typeface="Times New Roman"/>
              </a:rPr>
              <a:t>بَعْضُ السَّوائِلِ، ومْنها الْماءُ، والزَّيْتُ، لا يُمْكِنُ خَلْطُه، فَيَبْقَى مُنْفَصِلاً بَعْضُهُ عَنْ بَعْضٍ</a:t>
            </a:r>
            <a:r>
              <a:rPr b="1" lang="ar-SA" sz="56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5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563840" y="1484280"/>
            <a:ext cx="7828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سوائل لا يمكن خلطها</a:t>
            </a:r>
            <a:r>
              <a:rPr b="1" lang="ar-SA" sz="5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303280" cy="16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7:52:41Z</dcterms:modified>
  <cp:revision>33</cp:revision>
  <dc:subject/>
  <dc:title>PowerPoint Presentation</dc:title>
</cp:coreProperties>
</file>