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2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F49-BD67-4DE0-96DD-0FFF9664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2AA-1A77-4431-8B35-AEB97984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85A-DFD7-4831-83AF-859EFE6D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173-37DC-43D3-886C-E30C4EE6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7C21-3B3C-40A1-ABD1-88AA2EE9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0FF-C063-4D01-90BC-78684F5E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387A-A2D6-47F7-B3A6-E3F07D3B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2616-165C-468A-9A54-10E530A0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A75D-E415-4AE3-AD48-5E534A4E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A21A-2873-4766-9E65-BEED3B7C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4AE4-0E9C-4497-AAAA-359C9773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66A-D311-4A8D-A944-86B75E87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4C65-6218-47CD-AEB2-6FD5CFB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3B86-2A20-4160-AAF6-7B02DB9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4D0D-019C-4656-8B4B-F6512297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9BE0-8056-4515-BDC7-A072C07E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1BDE-C488-414F-ABC5-07429295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F04-E8E4-42EA-97BF-21DB2548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26B-6AF1-490A-AB8D-13169741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A41-B661-477F-90C0-F330792A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D27-D745-42CE-8994-C6B85B43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E0C-867F-4F64-9C84-2ED7BA67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C72-944C-4CC6-80B6-046C8D1B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023-C033-43E1-AC9B-6AC5F06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B2E7-C357-4249-A294-B157BE988D0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F550-FE4E-439E-8472-229862B5D48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2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285264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Hesham AlSharq"/>
              </a:rPr>
              <a:t>المواد الصلبة والسوائل والغازات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1989000"/>
            <a:ext cx="72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ُ الصُّلْبَةُ لَها شَكْلٌ مُحَدَّدٌ. تَختلِفُ المَوادُ الصُّلْبَةُ بَعْضُها عَنْ بَعْضٍ في الشَّكْلِ والمَلْمَسِ وَكَمِّيَّةِ المَادَّةِ. يُمْكِنُ أَنْ أسْتَخْدِمَ الْمِسْطَرَةَ لِقِياسِ أَبْعادِ الْمَوادِّ الصُّلْبَةِ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5040" y="765000"/>
            <a:ext cx="65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َا صِفَاتُ المَادَّةِ الصُّلْبَة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2205000"/>
            <a:ext cx="755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َ السَّائِلَةُ لَيْسَ لَهَا شَكْلٌ مُحَدَّدٌ، إِذْ تأْخُذُ شَكْلَ الْوِعاءِ الذي تُوضَعُ فيهِ. يَنْسَابُ السَّائِلُ فَيَنْتَقِلُ مِنْ مَكَانٍ إِلى آخَرَ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6880" y="420840"/>
            <a:ext cx="787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ما صِفاتُ السَّوائِلِ؟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4653000"/>
            <a:ext cx="4391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765000"/>
            <a:ext cx="77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ff"/>
                </a:solidFill>
                <a:latin typeface="Times New Roman"/>
              </a:rPr>
              <a:t>ما صِفاتُ الْغازات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مَادَّةَ الْغَازِيَّةُ لَيْسَ لَها شَكْلٌ مُحَدَّدٌ، فالغَازُ يَنْتَشِرُ بِسُهولَةٍ يَتَكَوَّنُ الْهَواءُ الَّذِي أَتَنَفَّسُهُ مِنْ غاز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3716280"/>
            <a:ext cx="33958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86040"/>
            <a:ext cx="81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نا لا أرَى الْهَوَاءَ، وَلَكِنِّي أُحِسُّ بِهِ عِنْدَمَا يَكُوْنُ بارِدًا أَوْ دافِئًا، وَأُحِسُّ بِهِ وَهُوَ يَنْتَشِرُ مِنْ مَكانٍ إِلى آخَرَ. ويتكون الهواء من مجموعة كبيرة من الغازات مثل : غاز الأكسجين الذى يتنفسه الإنسان والحيوان وسائر المخلوقات على سطح الأرض وثانى أكسيد الكربون اللازم لعملية البناء الضوئى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3411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6:35:42Z</dcterms:modified>
  <cp:revision>23</cp:revision>
  <dc:subject/>
  <dc:title>PowerPoint Presentation</dc:title>
</cp:coreProperties>
</file>