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image6.jpeg" ContentType="image/jpeg"/>
  <Override PartName="/ppt/media/CLICKER.WAV" ContentType="audio/x-wav"/>
  <Override PartName="/ppt/media/image2.wmf" ContentType="image/x-wmf"/>
  <Override PartName="/ppt/media/image1.wmf" ContentType="image/x-wmf"/>
  <Override PartName="/ppt/media/water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DF5-C927-404A-9452-F84B7478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559-8F99-497D-A6C4-308901CA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75A-C2A8-4999-911C-326D07B3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8D5-0C70-4F5D-BF52-7DC1CE03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297F-48DD-4E56-A6A0-77FE8049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1F27-9451-4CEF-963A-8BBC2DA1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5C71-3B36-4231-A35F-A19E0A48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D0DE-621D-4FF5-9F3A-F6C1020E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4E45-7FEF-43B4-84C4-315ADE3A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7DD6-C3E6-4A5B-8CDD-6F921AAC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CABD-DDB8-42A0-907F-390AF1E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D93-55AB-4139-9683-3A4C75A4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881B-94FE-49FD-A314-0D1AB06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41A6-A11E-4FF4-AA38-B135A7A1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EAA2-E233-46E3-B7DD-9C1D83A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3038-EEDF-485F-B4EE-D03EB687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D31A-FBBF-4A73-B247-1BE36B7C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1CF-8C51-4630-89B7-C3E2AFEC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581-6986-4E37-AB7A-91D89401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786-0DEA-421F-91B0-11496A34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B97-16DE-453B-AA20-3DEAFD3D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C0B-80B5-4B28-A179-734E8B25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B37-E372-4CE2-B3E7-C154C3B7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F31-5276-4632-8323-86FA4E28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E1F0-FE2E-49B5-8FE0-804BA6079DCC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277A-AFF0-484A-AF8E-0B539966BF35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LICKER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ater.wav"/><Relationship Id="rId3" Type="http://schemas.openxmlformats.org/officeDocument/2006/relationships/audio" Target="../media/wate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domiatwindow.net/images/articles/aF0TA2t55cFt.bmp&amp;imgrefurl=http://domiatwindow.net/articles.php%3Fid%3D241&amp;usg=__kJxymtL7r9Jk1FG_UB3kEIJ6qRo=&amp;h=420&amp;w=337&amp;sz=416&amp;hl=ar&amp;start=8&amp;tbnid=eIicBymXKMLk2M:&amp;tbnh=125&amp;tbnw=100&amp;prev=/images%3Fq%3D%25D9%2581%25D8%25B5%25D9%2584%2B%25D8%25A7%25D9%2584%25D8%25B5%25D9%258A%25D9%2581%26gbv%3D2%26hl%3Dar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eg/imgres?imgurl=http://www.alawael-magazine.com/site_image/Summer%2520Session%2520picture.bmp&amp;imgrefurl=http://www.alawael-magazine.com/page_view.php%3Fid%3D192&amp;usg=__RWuxhxgOKnvKgaTRT9hip1fFLUs=&amp;h=358&amp;w=360&amp;sz=127&amp;hl=ar&amp;start=1&amp;tbnid=3ddLrsnl6861UM:&amp;tbnh=120&amp;tbnw=121&amp;prev=/images%3Fq%3D%25D9%2581%25D8%25B5%25D9%2584%2B%25D8%25A7%25D9%2584%25D8%25B5%25D9%258A%25D9%2581%26gbv%3D2%26hl%3Dar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members.abunawaf.com/balot/GRD3/40.jpg&amp;imgrefurl=http://www.abunawaf.com/post-5517.html&amp;usg=__IEC5cyIqzba2_j6ruLPQLQdPuow=&amp;h=600&amp;w=800&amp;sz=51&amp;hl=ar&amp;start=3&amp;um=1&amp;tbnid=mbTVnlx7ISEwcM:&amp;tbnh=107&amp;tbnw=143&amp;prev=/images%3Fq%3D%25D9%2581%25D8%25B5%25D9%2584%2B%25D8%25A7%25D9%2584%25D8%25B4%25D8%25AA%25D8%25A7%25D8%25A1%26hl%3Dar%26sa%3DN%26um%3D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eg/imgres?imgurl=http://www.shlahi.com/vb/uploaded/490_1203681119.gif&amp;imgrefurl=http://mfhom.com/vb/t24894.html&amp;usg=__KI9OV0Bl5FNFjIZnIMtTmpKtRqY=&amp;h=640&amp;w=480&amp;sz=783&amp;hl=ar&amp;start=12&amp;um=1&amp;tbnid=NAhkNa9GbVGTKM:&amp;tbnh=137&amp;tbnw=103&amp;prev=/images%3Fq%3D%25D8%25A3%25D9%2585%25D8%25B7%25D8%25A7%25D8%25B1%26hl%3Dar%26um%3D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348000" y="115920"/>
            <a:ext cx="2997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Impact"/>
              </a:rPr>
              <a:t>الدرس الثانى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2779560"/>
            <a:ext cx="8136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cc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Hesham Bold"/>
              </a:rPr>
              <a:t>الفصول الأربعة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ffffcc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Hesham Bold"/>
              <a:ea typeface="Hesham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40000" y="98100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ما الفصول الأربعة 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133720"/>
            <a:ext cx="813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يتغير الطقس خلال السنة فى كثير من الأماك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4753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2084040"/>
            <a:ext cx="799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ـ يكون الطقس مشمسا  لِساعاتٍ طَويلَةٍ، فيُدْفِئُ الْيابِسَةَ وَالْهَواءَ وَالْماءَ. وتَنْمُو النَّباتاتُ. وَيَتوافَرُ لِلْحَيَواناتِ طَعامٌ كَثيرٌ. وَتَنْموَ صِغارُها، وَتُصْبِحُ أَكْبَرَ وَأَقْوى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80840" y="765000"/>
            <a:ext cx="489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فصل الربيع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0876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91736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: الصيف هو فصل من فصول السنة الأربعة وهو أشد الفصول حرارة, يبدأ من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2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يونيو وينتهي في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2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 سبتمبر في البلاد الواقعة شمال خط الأستواء, ويبدأ في ديسمبر وينتهي في مارس في البلاد الواقعة جنوب خط الأستوا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5800" y="105264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صل الصيَّف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5013360"/>
            <a:ext cx="2232000" cy="158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18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1640" y="222876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يَكونُ الطَّقْسُ مُشْمِسًا لِساعاتٍ أَقَلَّ مِنَ الصَّيْفِ، وَيُصْبِحُ الطَّقْسُ أَقَلَّ حَرَارَةً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69120" y="1000080"/>
            <a:ext cx="508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فصل الْخَريف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4508640"/>
            <a:ext cx="33112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3044520"/>
            <a:ext cx="6770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أَكْثَرُ الْفُصولِ بُرودَةً. يَكونُ الطَّقْسُ فِيْهِ مُشْمِسًا لِساعاتٍ قَليلَةٍ، وَتَتَسَاقَطُ فِيْه الأَمْطارُ، وَأَحْيانًا البَرَدُ والثُّلوجُ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48120" y="476280"/>
            <a:ext cx="46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فصل الشِّتاء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628640"/>
            <a:ext cx="20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484280"/>
            <a:ext cx="1657440" cy="130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916360" y="1557360"/>
            <a:ext cx="280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28:46Z</dcterms:modified>
  <cp:revision>37</cp:revision>
  <dc:subject/>
  <dc:title>PowerPoint Presentation</dc:title>
</cp:coreProperties>
</file>