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laser.wav" ContentType="audio/x-wav"/>
  <Override PartName="/ppt/media/water.wav" ContentType="audio/x-wav"/>
  <Override PartName="/ppt/media/CHEEPCHP.WAV" ContentType="audio/x-wav"/>
  <Override PartName="/ppt/media/image5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8CA4-05E8-4518-A370-4796A27C8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75B0-78D9-4079-A43C-B6285A75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1C7B-DC7E-494A-9C5F-D0D378558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641E-51D8-4ABC-B989-179980C90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5D1D-E1B2-42DC-8C23-DEFF2BED4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8C70-E5D7-4674-B9E1-E11E6FAB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D953-8940-49D2-AE4F-A345E6EC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5E81-97F0-48CB-8A2A-FB976127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ED02-AD43-4A54-94C2-9205C952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457B-6287-4ACE-8740-F8602A65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9329-978F-4C2C-A196-6489ADA7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1E02-04F6-496D-982D-C27CED98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B2F1-C2B1-494F-8EBB-2ABD8692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37DB-309D-4689-96F6-0D48C5AA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A98B-8543-4479-9879-7F9207E9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2810-C838-4FB9-994B-9EC56E48D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3CFA-F32C-45AE-BA4F-30D5CF9AB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E02B-951C-4EA3-8F03-AF9B3854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7E60-8A46-4C87-86E2-6E4C9EDB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F7B0-9096-4788-B5ED-900361F5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52C7-CD9D-46EE-918A-CF967831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4121-7267-48C7-82EC-5270B3C5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03D0-1DE4-4DD9-BB9A-BF34196C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1E8C-1545-4990-B15D-68D80DB1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78840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10412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D190-40B4-4D6F-901A-A144D5108C2B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595C-1ECD-423C-B579-E926407ED3D8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audio" Target="../media/water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EEPCHP.WAV"/><Relationship Id="rId3" Type="http://schemas.openxmlformats.org/officeDocument/2006/relationships/audio" Target="../media/CHEEPCHP.WAV"/><Relationship Id="rId4" Type="http://schemas.openxmlformats.org/officeDocument/2006/relationships/audio" Target="../media/CHEEPCHP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700360" y="1268280"/>
            <a:ext cx="35416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0">
                  <a:noFill/>
                </a:ln>
                <a:solidFill>
                  <a:srgbClr val="ff9900"/>
                </a:solidFill>
                <a:latin typeface="Impact"/>
              </a:rPr>
              <a:t>الدرس الثانى </a:t>
            </a:r>
            <a:endParaRPr b="1" lang="en-US" sz="5400" spc="1" strike="noStrike">
              <a:ln w="0">
                <a:noFill/>
              </a:ln>
              <a:solidFill>
                <a:srgbClr val="ff99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187280" y="3346560"/>
            <a:ext cx="713772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latin typeface="Hesham Fostat"/>
              </a:rPr>
              <a:t>المخاليط</a:t>
            </a:r>
            <a:endParaRPr b="1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latin typeface="Hesham Fostat"/>
              <a:ea typeface="Hesham Fosta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at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11280" y="2637000"/>
            <a:ext cx="781200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800" spc="-1" strike="noStrike">
                <a:solidFill>
                  <a:srgbClr val="ff00ff"/>
                </a:solidFill>
                <a:latin typeface="Times New Roman"/>
              </a:rPr>
              <a:t>اَلْمَخْلوطُ شَيْئَانِ أَوْ أَشْيَاءٌ مُخْتَلِفَةٌ تَخْتَلِطُ مَعًا</a:t>
            </a:r>
            <a:r>
              <a:rPr b="1" lang="ar-EG" sz="3800" spc="-1" strike="noStrike">
                <a:solidFill>
                  <a:srgbClr val="ff00ff"/>
                </a:solidFill>
                <a:latin typeface="Times New Roman"/>
              </a:rPr>
              <a:t>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800" spc="-1" strike="noStrike">
                <a:solidFill>
                  <a:srgbClr val="ff00ff"/>
                </a:solidFill>
                <a:latin typeface="Times New Roman"/>
              </a:rPr>
              <a:t>لا تَتَغَيَّرُ المَوادُّ الصُّلْبَةُ عَادَةً عِنْدَ خَلْطِها، وَيُمْكِنُني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800" spc="-1" strike="noStrike">
                <a:solidFill>
                  <a:srgbClr val="ff00ff"/>
                </a:solidFill>
                <a:latin typeface="Times New Roman"/>
              </a:rPr>
              <a:t>رُؤْيَتُها في الْمَخْلوطِ وَفَصْلُ بَعْضِها عَنْ بَعْضٍ</a:t>
            </a:r>
            <a:r>
              <a:rPr b="1" lang="ar-EG" sz="3800" spc="-1" strike="noStrike">
                <a:solidFill>
                  <a:srgbClr val="ff00ff"/>
                </a:solidFill>
                <a:latin typeface="Times New Roman"/>
              </a:rPr>
              <a:t>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67880" y="1238400"/>
            <a:ext cx="57481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EG" sz="6200" spc="-1" strike="noStrike">
                <a:solidFill>
                  <a:srgbClr val="000000"/>
                </a:solidFill>
                <a:latin typeface="Times New Roman"/>
              </a:rPr>
              <a:t>ما اَلْمَخْلوطُ</a:t>
            </a:r>
            <a:r>
              <a:rPr b="1" lang="ar-SA" sz="6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EG" sz="6200" spc="-1" strike="noStrike">
                <a:solidFill>
                  <a:srgbClr val="000000"/>
                </a:solidFill>
                <a:latin typeface="Times New Roman"/>
              </a:rPr>
              <a:t>؟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87280" y="2421000"/>
            <a:ext cx="770436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00ff"/>
                </a:solidFill>
                <a:latin typeface="Times New Roman"/>
              </a:rPr>
              <a:t>عِنْدَما أخْلِطُ الْمَوادَّ الصُّلْبَةَ بالْماِء، فَإِنَّ بَعْضَها يَطْفُو عَلى سَطْحِ الْماءِ، وَبَعْضَها الآخَرَ يَنْغَمِرُ</a:t>
            </a:r>
            <a:r>
              <a:rPr b="1" lang="ar-SA" sz="5000" spc="-1" strike="noStrike">
                <a:solidFill>
                  <a:srgbClr val="ff00ff"/>
                </a:solidFill>
                <a:latin typeface="Times New Roman"/>
              </a:rPr>
              <a:t>.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73320" y="1197000"/>
            <a:ext cx="64123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5600" spc="-1" strike="noStrike">
                <a:solidFill>
                  <a:srgbClr val="000000"/>
                </a:solidFill>
                <a:latin typeface="Times New Roman"/>
              </a:rPr>
              <a:t>خلط المواد الصلبة</a:t>
            </a:r>
            <a:endParaRPr b="0" lang="en-US" sz="5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0920" y="4292640"/>
            <a:ext cx="2374920" cy="1882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68360" y="344520"/>
            <a:ext cx="208764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24000" y="1773360"/>
            <a:ext cx="8497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00ff"/>
                </a:solidFill>
                <a:latin typeface="Times New Roman"/>
              </a:rPr>
              <a:t>* </a:t>
            </a:r>
            <a:r>
              <a:rPr b="1" lang="ar-SA" sz="4200" spc="-1" strike="noStrike">
                <a:solidFill>
                  <a:srgbClr val="ff00ff"/>
                </a:solidFill>
                <a:latin typeface="Times New Roman"/>
              </a:rPr>
              <a:t>بَعْضُ المَوَادِّ الصُّلْبَةِ يَذُوْبُ في السَّوَائلِ؛ الذَّوَبَانُ امْتِزَاجُ الْمَادَّةِ كُلِّيَّا بِالسَّائِلِ</a:t>
            </a:r>
            <a:r>
              <a:rPr b="1" lang="ar-SA" sz="4200" spc="-1" strike="noStrike">
                <a:solidFill>
                  <a:srgbClr val="ff00ff"/>
                </a:solidFill>
                <a:latin typeface="Times New Roman"/>
              </a:rPr>
              <a:t>.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00ff"/>
                </a:solidFill>
                <a:latin typeface="Times New Roman"/>
              </a:rPr>
              <a:t>* </a:t>
            </a:r>
            <a:r>
              <a:rPr b="1" lang="ar-SA" sz="4200" spc="-1" strike="noStrike">
                <a:solidFill>
                  <a:srgbClr val="ff00ff"/>
                </a:solidFill>
                <a:latin typeface="Times New Roman"/>
              </a:rPr>
              <a:t>هَذا النَّوْعُ مِنَ الْمَخَالِيْطِ يَصْعُبُ فَصْلُ مُكَوِّناتِهِ بَعْضِها عَنْ بَعْضٍ</a:t>
            </a:r>
            <a:r>
              <a:rPr b="1" lang="ar-SA" sz="4200" spc="-1" strike="noStrike">
                <a:solidFill>
                  <a:srgbClr val="ff00ff"/>
                </a:solidFill>
                <a:latin typeface="Times New Roman"/>
              </a:rPr>
              <a:t>.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40280" y="549360"/>
            <a:ext cx="57556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800" spc="-1" strike="noStrike">
                <a:solidFill>
                  <a:srgbClr val="000000"/>
                </a:solidFill>
                <a:latin typeface="Times New Roman"/>
              </a:rPr>
              <a:t>مَخاليطُ أُخْرى</a:t>
            </a:r>
            <a:endParaRPr b="0" lang="en-US" sz="6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4437000"/>
            <a:ext cx="349236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9640" y="2997360"/>
            <a:ext cx="792000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600" spc="-1" strike="noStrike">
                <a:solidFill>
                  <a:srgbClr val="ff00ff"/>
                </a:solidFill>
                <a:latin typeface="Times New Roman"/>
              </a:rPr>
              <a:t>  </a:t>
            </a:r>
            <a:r>
              <a:rPr b="1" lang="ar-SA" sz="5600" spc="-1" strike="noStrike">
                <a:solidFill>
                  <a:srgbClr val="ff00ff"/>
                </a:solidFill>
                <a:latin typeface="Times New Roman"/>
              </a:rPr>
              <a:t>بَعْضُ السَّوائِلِ، ومْنها الْماءُ، والزَّيْتُ، لا يُمْكِنُ خَلْطُه، فَيَبْقَى مُنْفَصِلاً بَعْضُهُ عَنْ بَعْضٍ</a:t>
            </a:r>
            <a:r>
              <a:rPr b="1" lang="ar-SA" sz="5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5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63840" y="1484280"/>
            <a:ext cx="7828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600" spc="-1" strike="noStrike">
                <a:solidFill>
                  <a:srgbClr val="000000"/>
                </a:solidFill>
                <a:latin typeface="Times New Roman"/>
              </a:rPr>
              <a:t>سوائل لا يمكن خلطها</a:t>
            </a:r>
            <a:r>
              <a:rPr b="1" lang="ar-SA" sz="5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30328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30T07:52:41Z</dcterms:modified>
  <cp:revision>33</cp:revision>
  <dc:subject/>
  <dc:title>PowerPoint Presentation</dc:title>
</cp:coreProperties>
</file>