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cashreg.wav" ContentType="audio/x-wav"/>
  <Override PartName="/ppt/media/2.wav" ContentType="audio/x-wav"/>
  <Override PartName="/ppt/media/CHEEPCHP.WAV" ContentType="audio/x-wav"/>
  <Override PartName="/ppt/media/image3.jpeg" ContentType="image/jpeg"/>
  <Override PartName="/ppt/media/BINGBING.WAV" ContentType="audio/x-wav"/>
  <Override PartName="/ppt/media/image5.jpeg" ContentType="image/jpeg"/>
  <Override PartName="/ppt/media/suction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E45-2ECD-488F-928F-12AD6FB1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418-7AF0-4939-BE83-6C92B360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C53-FC14-4A93-AD05-9D5EB4B8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F84-8E25-47CD-8283-C8D1F749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1B41-6066-4EC2-B929-4CF4101C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6AAB-2EE1-44F8-9211-7637DC0A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C281-F558-4EE1-BB83-A481282F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5D71-E277-44BE-B93D-495DF392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8DC6-039B-4C91-8C32-729C3F7D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864C-9D7F-4A72-8A9D-BA5859D9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C952-2D8B-4F03-A442-EF34EE83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202-3699-4017-ABA2-DEC5F6C6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93CC-4967-4336-9DEE-00067910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1B42-5978-4E38-BCE2-CDEF84D1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BE6A-0224-4277-B77B-B0A728E0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84DE-9A1D-45AE-A2E5-5E6BDD38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B893-8A89-4F6F-B30F-B6D408C8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29B-1419-44D2-A4A8-505B9327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FBD-CD33-4FAA-BE86-0150D187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D7E-F360-404A-A7E9-436DC80A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618-BD92-4EFD-87A1-1216C3FD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CF7-80D3-4493-91DA-C22E4C08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252-0933-427F-A9D2-AFD4B08A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F7D-90A1-4605-AD4F-F376E885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BB9D-C642-43C9-93FA-DA4F913AECB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4F70-15BA-4980-AE6A-A89650E6D17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audio" Target="../media/2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EEPCHP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BINGBING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916360" y="836640"/>
            <a:ext cx="3384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دوات علمية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3284640"/>
            <a:ext cx="81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>
                      <a:alpha val="70000"/>
                    </a:srgbClr>
                  </a:outerShdw>
                </a:effectLst>
                <a:latin typeface="Hesham Fostat"/>
              </a:rPr>
              <a:t>المنظــار</a:t>
            </a:r>
            <a:endParaRPr b="1" lang="en-US" sz="80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>
                    <a:alpha val="70000"/>
                  </a:srgbClr>
                </a:outerShdw>
              </a:effectLst>
              <a:latin typeface="Hesham Fostat"/>
              <a:ea typeface="Hesham Fost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3284640"/>
            <a:ext cx="853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اداة تساعدنا على رؤة الأشياء البعيدة جدا</a:t>
            </a:r>
            <a:r>
              <a:rPr b="0" lang="ar-SA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134136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ff"/>
                </a:solidFill>
                <a:latin typeface="Arial Narrow"/>
              </a:rPr>
              <a:t>المنظا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28670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5280" y="112536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ff"/>
                </a:solidFill>
                <a:latin typeface="Arial Narrow"/>
              </a:rPr>
              <a:t>استخدامات المنظار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171504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imes New Roman"/>
              </a:rPr>
              <a:t>يستخدم المنظار المختلفة لرؤية الكواكب والنجوم ومعرفة أشياء جديدة عنها حيث يعمل المنظار على تقريب الأشياء البعيدة الى درجة كبيرة جدا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56000" y="4508640"/>
            <a:ext cx="424944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INGB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32000" y="549360"/>
            <a:ext cx="6840360" cy="1439640"/>
          </a:xfrm>
          <a:custGeom>
            <a:avLst/>
            <a:gdLst>
              <a:gd name="textAreaLeft" fmla="*/ 855000 w 6840360"/>
              <a:gd name="textAreaRight" fmla="*/ 5985360 w 6840360"/>
              <a:gd name="textAreaTop" fmla="*/ 18000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8000"/>
                </a:solidFill>
                <a:latin typeface="Arial Narrow"/>
              </a:rPr>
              <a:t>أنواع المناظير</a:t>
            </a:r>
            <a:r>
              <a:rPr b="0" lang="ar-SA" sz="6000" spc="-1" strike="noStrike">
                <a:solidFill>
                  <a:srgbClr val="008000"/>
                </a:solidFill>
                <a:latin typeface="Arial Narrow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421000"/>
            <a:ext cx="874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يوجد انواع كثيرة من المناظير منها الكبير والصغير وتقسم حسب استخداماتها . وتوضع بعض المناظير فى الاقمار الصناعية</a:t>
            </a: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ar-SA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4707000"/>
            <a:ext cx="2303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2:16:29Z</dcterms:modified>
  <cp:revision>32</cp:revision>
  <dc:subject/>
  <dc:title>PowerPoint Presentation</dc:title>
</cp:coreProperties>
</file>