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CRASHBUZ.WAV" ContentType="audio/x-wav"/>
  <Override PartName="/ppt/media/image3.wmf" ContentType="image/x-wmf"/>
  <Override PartName="/ppt/media/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5115-4663-4E62-B224-A1D11A2CB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26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51D4-0FD0-49EE-8340-8B9CBD6A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076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05E0-9342-46BE-B13E-257DCC97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608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608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E080-6CCE-4B5E-8F8F-81E405FE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98E8-1B5A-423A-A650-7C5F58597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B7E8-2EA8-47BE-9AD9-417FA467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78A1-4D1B-4AF9-884A-1F6F030F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B2DA-6EC6-44D4-AB5D-D762491D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F424-99AE-4242-AEF0-CE801690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E9BA-3497-4404-8094-25712E76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C4F5-2A71-4E95-A569-2E3916D3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8DA2-45F6-4E72-9F1E-FCEA1E94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2076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BD6D-6337-466C-968C-9870C9BA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26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3E82-4AE1-407C-9775-9DCE7A29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26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8365-D368-4C18-A7C3-7E8D736E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2076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FB5C-8BA5-4A43-8FC1-41119C7E6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608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372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608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372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F21B-6E07-43BD-8B69-ABD7B8840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4E9C-8D3D-4CC7-86D2-1D2D2AF9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F384-3FF8-4E73-ADCD-37BCA526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9CBB-C11D-42EB-AD65-1284F2F4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50BB-CED9-45BE-9A5A-3DAC0494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5E08-05BB-4F12-AEE7-ED5C77FB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076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012D-D176-4EE9-981E-427E23FF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26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5518-F1E2-4469-A23E-CA3BF472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1" marL="601560" indent="-23148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2" marL="925560" indent="-18504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3" marL="1296000" indent="-18504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4" marL="1666440" indent="-185040">
              <a:spcBef>
                <a:spcPts val="799"/>
              </a:spcBef>
              <a:buClr>
                <a:srgbClr val="99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5" marL="1666440" indent="-185040">
              <a:spcBef>
                <a:spcPts val="799"/>
              </a:spcBef>
              <a:buClr>
                <a:srgbClr val="99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6" marL="1666440" indent="-185040">
              <a:spcBef>
                <a:spcPts val="799"/>
              </a:spcBef>
              <a:buClr>
                <a:srgbClr val="99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99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9933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A3FB-69A8-452E-8AF0-676B2B66459B}" type="slidenum">
              <a:rPr b="0" lang="ar-SA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99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9933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0A5C-127C-4314-871B-558239BCE454}" type="slidenum">
              <a:rPr b="0" lang="ar-SA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99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99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99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99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99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RASHBUZ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.wav"/><Relationship Id="rId2" Type="http://schemas.openxmlformats.org/officeDocument/2006/relationships/audio" Target="../media/a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059280" y="692280"/>
            <a:ext cx="352872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الفصل الثامن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4360" y="2421000"/>
            <a:ext cx="7778520" cy="277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 Black"/>
              </a:rPr>
              <a:t>السماء 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116000" y="1268280"/>
            <a:ext cx="709920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ماذا يُوجَدُ في السَّماءِ؟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11280" y="1484280"/>
            <a:ext cx="8101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Times New Roman"/>
              </a:rPr>
              <a:t>فِي اللَّيْلِ، يُمْكِنُني رُؤْيَةُ الْغُيومِ، وَالْقَمَرِ، وَالنُّجومِ.</a:t>
            </a:r>
            <a:endParaRPr b="0" lang="en-US" sz="66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050920" y="3933720"/>
            <a:ext cx="30974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26920" y="2852640"/>
            <a:ext cx="781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أَجْسامٌ مُضِيْئَةٌ، تُكَوِّنُ أَشْكالاً جَمِيْلَةً في السَّماءِ. تَبْدو النُّجومُ صَغيرَةً جدًّا؛ لأَنَّها بَعيدةٌ جِدًّا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27280" y="907920"/>
            <a:ext cx="40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00ff"/>
                </a:solidFill>
                <a:latin typeface="Times New Roman"/>
              </a:rPr>
              <a:t>النُّجومُ</a:t>
            </a:r>
            <a:r>
              <a:rPr b="1" lang="ar-SA" sz="66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360" y="4437000"/>
            <a:ext cx="324000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RASHBU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411280" y="836640"/>
            <a:ext cx="4969080" cy="1152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9900"/>
              </a:gs>
              <a:gs pos="50000">
                <a:srgbClr val="ff9900"/>
              </a:gs>
              <a:gs pos="100000">
                <a:srgbClr val="cc9900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993300"/>
                </a:solidFill>
                <a:latin typeface="Times New Roman"/>
              </a:rPr>
              <a:t>الشَّمْسُ</a:t>
            </a:r>
            <a:r>
              <a:rPr b="1" lang="ar-SA" sz="40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16000" y="2276640"/>
            <a:ext cx="7812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أَقْرَبُ النَّجومِ إِلى الأَرْضِ. وَهِيَ تُضيءُ السَّماءَ وَالأَرْضَ أَثْناءَ النَّهارِ. فَسُبْحَانَ اللهِ خَالِقِ كُلِّ شَيءٍ</a:t>
            </a: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8360" y="4797360"/>
            <a:ext cx="27748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42920" y="1484280"/>
            <a:ext cx="7812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في النَّهارِ، يَكونُ ضَوْءُ الشَّمْسِ ساطِعًا جِدًّا، فَلا أسْتَطِيْعُ رُؤْيَةَ نُجُوْمٍ أُخْرى. لَكِنَّ هَذِهِ النُّجومَ مَوْجودَةٌ في السَّماءِ</a:t>
            </a: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4360" y="4149720"/>
            <a:ext cx="388764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03640" y="115920"/>
            <a:ext cx="3673440" cy="1152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9900"/>
              </a:gs>
              <a:gs pos="50000">
                <a:srgbClr val="ff9900"/>
              </a:gs>
              <a:gs pos="100000">
                <a:srgbClr val="cc9900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3300"/>
                </a:solidFill>
                <a:latin typeface="Times New Roman"/>
              </a:rPr>
              <a:t>ماذا يوجد فى السماء</a:t>
            </a:r>
            <a:r>
              <a:rPr b="1" lang="ar-SA" sz="40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1413000"/>
            <a:ext cx="8388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يُوْجَدُ فِي السَّمَاءِ أَجْسَامٌ كَبِيْرَةٌ، لا يُمْكِنُني رُؤْيَتُهَا بِسُهُوْلَةٍ أَثْنَاءَ اللَّيْلِ، تُسَمَّى كَوَاكِبَ. تَدُوْرُ الكَوَاكِبُ حَوْلَ الشَّمْسِ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الأَرْضُ كَوْكَبٌ يَدُوْرُ حَوْلَ الشَّمْسِ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فَالسَّمَاءُ بِنَاءٌ مُحْكَمٌ أَتْقَنَ الْخَالِقُ صُنْعَهُ بِقُدْرَتِهِ وَحِكْمَتِهِ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قَالَ تَعَالَى:</a:t>
            </a:r>
            <a:r>
              <a:rPr b="1" lang="ar-SA" sz="40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" </a:t>
            </a:r>
            <a:r>
              <a:rPr b="1" lang="ar-SA" sz="4000" spc="-1" strike="noStrike">
                <a:solidFill>
                  <a:srgbClr val="ff00ff"/>
                </a:solidFill>
                <a:latin typeface="Times New Roman"/>
              </a:rPr>
              <a:t>ءأنتم أشد خلقا أم السماء بنها " النازعات</a:t>
            </a:r>
            <a:r>
              <a:rPr b="1" lang="ar-SA" sz="40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194328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55640" y="2637000"/>
            <a:ext cx="795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الشَّمْسُ وَالنُّجومُ الأُخْرى تُصْدِرُ حَرارَةً وَضَوْءاً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حَرَارَةُ الشَّمْسِ وَضَوْؤهَا يُسَخِّنَانِ الْهَواءَ، وَالْيَابِسَةَ، وَالْماءَ</a:t>
            </a:r>
            <a:r>
              <a:rPr b="1" lang="ar-SA" sz="4000" spc="-1" strike="noStrike">
                <a:solidFill>
                  <a:srgbClr val="993300"/>
                </a:solidFill>
                <a:latin typeface="Times New Roman"/>
              </a:rPr>
              <a:t>.</a:t>
            </a:r>
            <a:r>
              <a:rPr b="1" lang="en-US" sz="40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0160" y="836640"/>
            <a:ext cx="81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00ff"/>
                </a:solidFill>
                <a:latin typeface="Times New Roman"/>
              </a:rPr>
              <a:t>ما أَهَمِّيَّةُ الشَّمْسِ؟</a:t>
            </a:r>
            <a:endParaRPr b="0" lang="en-US" sz="72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29T10:53:08Z</dcterms:modified>
  <cp:revision>45</cp:revision>
  <dc:subject/>
  <dc:title>PowerPoint Presentation</dc:title>
</cp:coreProperties>
</file>