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ER.WAV" ContentType="audio/x-wav"/>
  <Override PartName="/ppt/media/image2.wmf" ContentType="image/x-wmf"/>
  <Override PartName="/ppt/media/chimes.wav" ContentType="audio/x-wav"/>
  <Override PartName="/ppt/media/image1.wmf" ContentType="image/x-wmf"/>
  <Override PartName="/ppt/media/CHEEPCHP.WAV" ContentType="audio/x-wav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37E-7326-4783-B49E-FCCF55F0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95D-C904-40BC-9F3B-22A6EAA7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C47-2247-47B9-A9BB-E83072FC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CBE-AEBF-4149-9F15-20F9C9FC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CA8B-3F18-4D4C-807C-E2648AAE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67AE-AF63-4B72-B6CB-A0ADD6E2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EBD6-209A-4C0A-A1CF-A419E15B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A17C-E09F-419B-95EF-5227629D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D8E0-9007-4E82-9D86-8AB81508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D865-F7E7-4AE6-B51E-6E0AB5C6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8DFC-EC77-480B-92CE-6612A22F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DB5-F356-424B-938C-D43B1D01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0775-E6C2-473F-8560-9FBE6001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466B-D5DF-4556-890E-581EFD38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435-0654-4185-9AA7-5E709107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0836-3578-4127-ABDF-4E1324BC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79CC-47A2-427F-8045-279D89C9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E0B-4969-4C6F-83B0-66BA6655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963-6A8E-47FB-A62C-278BC09B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EBB-A967-4ECE-8C4F-A2CA6AF5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B2E-CF3E-4580-84BA-E4F2AB29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5E5-4235-4898-9596-4ACF4798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322-81A1-4273-8D48-87EB7F89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224-6F5E-4D43-9D65-0B8ECAE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C694-6E27-431E-850A-A46D87F6E17D}" type="slidenum">
              <a: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CEDD-3BB4-4D23-B52E-ED69BFE51AA7}" type="slidenum">
              <a: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EEPCHP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00360" y="18900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مهن مرتبطة بالعلوم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03280" y="2421000"/>
            <a:ext cx="5977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000000"/>
                </a:solidFill>
                <a:latin typeface="FS_Diwany"/>
              </a:rPr>
              <a:t>الخبــاز</a:t>
            </a:r>
            <a:endParaRPr b="1" lang="en-US" sz="6000" spc="1" strike="noStrike">
              <a:ln w="9360">
                <a:solidFill>
                  <a:srgbClr val="006666"/>
                </a:solidFill>
                <a:miter/>
              </a:ln>
              <a:solidFill>
                <a:srgbClr val="000000"/>
              </a:solidFill>
              <a:latin typeface="FS_Diwany"/>
              <a:ea typeface="FS_Diwan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2637000"/>
            <a:ext cx="7054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الخبز واحد من أهم العناصر الأساسية والغذائية لدى معظم الشعوب منذ قرون طويلة، وفيما يعتبر أول الأطعمة، تعتبر حرفة الخباز من أول الحرف التي عرفتها البشرية</a:t>
            </a: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br>
              <a:rPr sz="2800"/>
            </a:b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38880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1628640"/>
            <a:ext cx="741528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وبالإمكان رؤية أرغفة الخبز القديمة التي كان ينتجها ويصنعها الفراعنة قبل 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5000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 سنة شاهدة للعيان في المتحف البريطاني حتى الآن إلى جانب حبوب القمح التي كانت تزرع، تحصد وتجفف على ضفاف النيل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ar-EG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4749840"/>
            <a:ext cx="3817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42920" y="105264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يُمَارِسُ الْخَبَّازُ مِهْنَةً جَلِيلَةً. فَهوَ يُعِّدُ لنَا الْخُبْرَ الذي نَأكُلَهُ</a:t>
            </a: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يَخْلِطُ الْخَبَّازُ الْدَقِيقَ بِالْمَاءِ وبأشْيَاءَ أُخْرى لِعَمَل الْعَجِينِ، ويَتْرُكُهُ بَعْضَ الْوَقْتِ، حَتّى يُصْبِحَ جَاهِزًا لِلْخَبْزِ فِي الْفُرْنِ. الْحَرَارَةُ تُغَيِّرُ الْعَجِينَ بَعْدَ ذلكَ وَتجْعلُهُ خُبزًا</a:t>
            </a:r>
            <a:r>
              <a:rPr b="1" lang="ar-EG" sz="36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3640" y="4724280"/>
            <a:ext cx="3116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844640"/>
            <a:ext cx="73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Times New Roman"/>
              </a:rPr>
              <a:t>الْمَخَابِزُ الْحَدِيثَةُ تَسْتَخْدِمُ أدَواتٍ وَتَقَنِياتٍ مُتَطَوِّرَةً لإعْدَادِ مَأكُولاتٍ كَثِيْرَةٍ وَمُتَنَوِعَةٍ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91" name="repArticles__ctl0_imgArticle" descr=""/>
          <p:cNvPicPr/>
          <p:nvPr/>
        </p:nvPicPr>
        <p:blipFill>
          <a:blip r:embed="rId1"/>
          <a:stretch/>
        </p:blipFill>
        <p:spPr>
          <a:xfrm>
            <a:off x="2411280" y="3860640"/>
            <a:ext cx="4125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8:17:34Z</dcterms:modified>
  <cp:revision>50</cp:revision>
  <dc:subject/>
  <dc:title>PowerPoint Presentation</dc:title>
</cp:coreProperties>
</file>