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laser.wav" ContentType="audio/x-wav"/>
  <Override PartName="/ppt/media/image8.wmf" ContentType="image/x-wmf"/>
  <Override PartName="/ppt/media/image1.jpeg" ContentType="image/jpeg"/>
  <Override PartName="/ppt/media/image4.wmf" ContentType="image/x-wmf"/>
  <Override PartName="/ppt/media/BOINGG.WAV" ContentType="audio/x-wav"/>
  <Override PartName="/ppt/media/image2.jpeg" ContentType="image/jpeg"/>
  <Override PartName="/ppt/media/CHEEPCHP.WAV" ContentType="audio/x-wav"/>
  <Override PartName="/ppt/media/music.wav" ContentType="audio/x-wav"/>
  <Override PartName="/ppt/media/image3.wmf" ContentType="image/x-wmf"/>
  <Override PartName="/ppt/media/image5.jpeg" ContentType="image/jpeg"/>
  <Override PartName="/ppt/media/compress.wav" ContentType="audio/x-wav"/>
  <Override PartName="/ppt/media/HITWALL.WAV" ContentType="audio/x-wav"/>
  <Override PartName="/ppt/media/image6.jpeg" ContentType="image/jpe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FCCB-A3F0-44C7-BC48-DE7573DDD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701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938040"/>
            <a:ext cx="701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0A37-D190-432E-A7D0-661558C93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492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93804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4920" y="393804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288D-2E97-48B7-B908-6F399C08F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2308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332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2308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332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1F6E-64D6-4B2C-B62E-A2D434391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102E5-4595-47A3-B60A-159546D82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480" y="1828800"/>
            <a:ext cx="70106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2ACB6-221F-4857-A606-E16EFE45C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7010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42A09-CDBB-4C8C-B8EA-23C1169E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421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44920" y="1828800"/>
            <a:ext cx="3421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F8894-1725-4635-8114-95241B565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D3680-9A1D-4F56-9F2B-34AC94AFF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480" y="533160"/>
            <a:ext cx="701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172A3-7006-44F9-95B1-35802A847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44920" y="1828800"/>
            <a:ext cx="3421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480" y="393804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AB5E4-55BA-4181-A18A-3B48F12D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828800"/>
            <a:ext cx="70106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9AA2-5F63-49C0-BFD8-DDB124ED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421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4492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44920" y="393804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488F1-0CDC-48F7-99D5-7A9CDA7A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4492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480" y="3938040"/>
            <a:ext cx="701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D8797-975C-434D-81D9-8BCAF3FD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701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480" y="3938040"/>
            <a:ext cx="701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10348-4C32-442B-B99C-0CD81F4C2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4492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480" y="393804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44920" y="393804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43303-7A32-4B1C-8009-19C7D2B2E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2308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332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48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2308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332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FC58B-1D04-4EF9-811C-F160371E8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7010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6E0A-9C08-4C70-9A20-C46440426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421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4920" y="1828800"/>
            <a:ext cx="3421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A9EC-3A00-43A1-BB8B-DDDEEF3FE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F8AA-D8DA-4CC3-94F3-38D01680B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533160"/>
            <a:ext cx="701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B5CB-111C-45F6-9395-C487F43E6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4920" y="1828800"/>
            <a:ext cx="3421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93804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3EBC-A62F-4E57-8AEF-5DC496E3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421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492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4920" y="393804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31E9-FD2C-4227-B95C-1C973BA9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492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938040"/>
            <a:ext cx="701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707C-9335-46BC-B8E2-62EB65BF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828800"/>
            <a:ext cx="7010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66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66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66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66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00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4EA08-A373-44C8-8CC7-1824AE0B35C0}" type="slidenum">
              <a:rPr b="0" lang="ar-SA" sz="1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66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00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F2DD3-822D-46A9-8F10-B40F7A3BBAD5}" type="slidenum">
              <a:rPr b="0" lang="ar-SA" sz="1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66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66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66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66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66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EEPCHP.WAV"/><Relationship Id="rId3" Type="http://schemas.openxmlformats.org/officeDocument/2006/relationships/audio" Target="../media/music.wav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audio" Target="../media/CHEEPCHP.WAV"/><Relationship Id="rId4" Type="http://schemas.openxmlformats.org/officeDocument/2006/relationships/audio" Target="../media/music.wav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audio" Target="../media/HITWALL.WAV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audio" Target="../media/BOINGG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audio" Target="../media/BOINGG.WAV"/><Relationship Id="rId4" Type="http://schemas.openxmlformats.org/officeDocument/2006/relationships/audio" Target="../media/compress.wav"/><Relationship Id="rId5" Type="http://schemas.openxmlformats.org/officeDocument/2006/relationships/audio" Target="../media/compress.wav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132000" y="765000"/>
            <a:ext cx="3488040" cy="11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الوحدة الخامسة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755640" y="2492280"/>
            <a:ext cx="7991640" cy="36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006600">
                      <a:alpha val="70000"/>
                    </a:srgbClr>
                  </a:outerShdw>
                </a:effectLst>
                <a:latin typeface="Hesham AlSharq"/>
              </a:rPr>
              <a:t>المـــادة</a:t>
            </a:r>
            <a:endParaRPr b="1" lang="en-US" sz="72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00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006600">
                    <a:alpha val="70000"/>
                  </a:srgbClr>
                </a:outerShdw>
              </a:effectLst>
              <a:latin typeface="Hesham AlSharq"/>
              <a:ea typeface="Hesham AlSharq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EEPCH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us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132000" y="765000"/>
            <a:ext cx="3488040" cy="11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الدرس الأول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55640" y="2492280"/>
            <a:ext cx="7991640" cy="36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006600">
                      <a:alpha val="70000"/>
                    </a:srgbClr>
                  </a:outerShdw>
                </a:effectLst>
                <a:latin typeface="Hesham AlSharq"/>
              </a:rPr>
              <a:t>صفات المواد</a:t>
            </a:r>
            <a:endParaRPr b="1" lang="en-US" sz="72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00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006600">
                    <a:alpha val="70000"/>
                  </a:srgbClr>
                </a:outerShdw>
              </a:effectLst>
              <a:latin typeface="Hesham AlSharq"/>
              <a:ea typeface="Hesham AlSharq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95280" y="692280"/>
            <a:ext cx="251460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EEPCH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mus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24000" y="2852640"/>
            <a:ext cx="792000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000000"/>
                </a:solidFill>
                <a:latin typeface="Times New Roman"/>
              </a:rPr>
              <a:t>عِنْدما نَصِفُ شَيْئًا ما فَإِنّنا نَتَحَدَّثُ عَنْ صِفاتٍه، مِثْلِ: اللَّوْنِ، والشَّكْلِ، وَالْحَجْمِ، وَالْمَلْمَسِ، وَالرَّائِحَةِ، وَالطَّعْمِ، وَالصَّوْتِ</a:t>
            </a:r>
            <a:r>
              <a:rPr b="1" lang="ar-SA" sz="4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6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11640" y="1052640"/>
            <a:ext cx="3576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800000"/>
                </a:solidFill>
                <a:latin typeface="Times New Roman"/>
              </a:rPr>
              <a:t>ما اَلْمَادَّةُ</a:t>
            </a:r>
            <a:endParaRPr b="0" lang="en-US" sz="9000" spc="-1" strike="noStrike">
              <a:solidFill>
                <a:srgbClr val="0066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79280" y="765000"/>
            <a:ext cx="3097440" cy="1654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250920" y="5013360"/>
            <a:ext cx="320508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TWA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419640" y="620640"/>
            <a:ext cx="5724360" cy="1079640"/>
          </a:xfrm>
          <a:custGeom>
            <a:avLst/>
            <a:gdLst>
              <a:gd name="textAreaLeft" fmla="*/ 892440 w 5724360"/>
              <a:gd name="textAreaRight" fmla="*/ 4831920 w 5724360"/>
              <a:gd name="textAreaTop" fmla="*/ 13500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393" y="0"/>
                </a:lnTo>
                <a:arcTo wR="675" hR="675" stAng="16200000" swAng="5400000"/>
                <a:lnTo>
                  <a:pt x="6068" y="2700"/>
                </a:lnTo>
                <a:lnTo>
                  <a:pt x="15532" y="2700"/>
                </a:lnTo>
                <a:lnTo>
                  <a:pt x="15532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232" y="18900"/>
                </a:lnTo>
                <a:lnTo>
                  <a:pt x="18232" y="20925"/>
                </a:lnTo>
                <a:arcTo wR="675" hR="675" stAng="0" swAng="5400000"/>
                <a:lnTo>
                  <a:pt x="4043" y="21600"/>
                </a:lnTo>
                <a:arcTo wR="675" hR="675" stAng="5400000" swAng="5400000"/>
                <a:lnTo>
                  <a:pt x="3368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6068" y="675"/>
                </a:moveTo>
                <a:arcTo wR="675" hR="675" stAng="0" swAng="5400000"/>
                <a:lnTo>
                  <a:pt x="4043" y="1350"/>
                </a:lnTo>
                <a:arcTo wR="675" hR="675" stAng="16200000" swAng="-5400000"/>
                <a:arcTo wR="675" hR="675" stAng="10800000" swAng="-5400000"/>
                <a:lnTo>
                  <a:pt x="6068" y="2700"/>
                </a:lnTo>
              </a:path>
              <a:path fill="none" w="21600" h="21600">
                <a:moveTo>
                  <a:pt x="15532" y="675"/>
                </a:moveTo>
                <a:arcTo wR="675" hR="675" stAng="10800000" swAng="-5400000"/>
                <a:lnTo>
                  <a:pt x="17557" y="1350"/>
                </a:lnTo>
                <a:arcTo wR="675" hR="675" stAng="16200000" swAng="5400000"/>
                <a:arcTo wR="675" hR="675" stAng="0" swAng="5400000"/>
                <a:lnTo>
                  <a:pt x="15532" y="2700"/>
                </a:lnTo>
              </a:path>
              <a:path fill="none" w="21600" h="21600">
                <a:moveTo>
                  <a:pt x="3368" y="2025"/>
                </a:moveTo>
                <a:lnTo>
                  <a:pt x="3368" y="18900"/>
                </a:lnTo>
              </a:path>
              <a:path fill="none" w="21600" h="21600">
                <a:moveTo>
                  <a:pt x="18232" y="2025"/>
                </a:moveTo>
                <a:lnTo>
                  <a:pt x="18232" y="18900"/>
                </a:lnTo>
              </a:path>
            </a:pathLst>
          </a:custGeom>
          <a:gradFill rotWithShape="0">
            <a:gsLst>
              <a:gs pos="0">
                <a:srgbClr val="ff9900"/>
              </a:gs>
              <a:gs pos="50000">
                <a:srgbClr val="99ff33"/>
              </a:gs>
              <a:gs pos="100000">
                <a:srgbClr val="ff9900"/>
              </a:gs>
            </a:gsLst>
            <a:lin ang="81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600" spc="-1" strike="noStrike">
                <a:solidFill>
                  <a:srgbClr val="ff0000"/>
                </a:solidFill>
                <a:latin typeface="Times New Roman"/>
              </a:rPr>
              <a:t>حالات المادة</a:t>
            </a:r>
            <a:r>
              <a:rPr b="1" lang="ar-SA" sz="5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56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2205000"/>
            <a:ext cx="8244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000000"/>
                </a:solidFill>
                <a:latin typeface="Times New Roman"/>
              </a:rPr>
              <a:t>تُوْجَدُ المَادَةُ فِي ثَلاثِ حالاتٍ، هِيَ: الصُّلْبَةُ، السائلة ، الغازية ,رغم معرفتنا الجيدة لهذه الحقيقة الا انه علينا توضيحها من الناحية الفيزيائية فهناك مواد يمكن تحويلها من سائل الى غاز بالتسخين واخرى بتأثير التسخين تحول من صلبة الى سائلة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0066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302436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ING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908000" y="549360"/>
            <a:ext cx="5616720" cy="1222200"/>
          </a:xfrm>
          <a:custGeom>
            <a:avLst/>
            <a:gdLst>
              <a:gd name="textAreaLeft" fmla="*/ 875520 w 5616720"/>
              <a:gd name="textAreaRight" fmla="*/ 4741200 w 5616720"/>
              <a:gd name="textAreaTop" fmla="*/ 152640 h 1222200"/>
              <a:gd name="textAreaBottom" fmla="*/ 1222560 h 122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393" y="0"/>
                </a:lnTo>
                <a:arcTo wR="675" hR="675" stAng="16200000" swAng="5400000"/>
                <a:lnTo>
                  <a:pt x="6068" y="2700"/>
                </a:lnTo>
                <a:lnTo>
                  <a:pt x="15532" y="2700"/>
                </a:lnTo>
                <a:lnTo>
                  <a:pt x="15532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232" y="18900"/>
                </a:lnTo>
                <a:lnTo>
                  <a:pt x="18232" y="20925"/>
                </a:lnTo>
                <a:arcTo wR="675" hR="675" stAng="0" swAng="5400000"/>
                <a:lnTo>
                  <a:pt x="4043" y="21600"/>
                </a:lnTo>
                <a:arcTo wR="675" hR="675" stAng="5400000" swAng="5400000"/>
                <a:lnTo>
                  <a:pt x="3368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6068" y="675"/>
                </a:moveTo>
                <a:arcTo wR="675" hR="675" stAng="0" swAng="5400000"/>
                <a:lnTo>
                  <a:pt x="4043" y="1350"/>
                </a:lnTo>
                <a:arcTo wR="675" hR="675" stAng="16200000" swAng="-5400000"/>
                <a:arcTo wR="675" hR="675" stAng="10800000" swAng="-5400000"/>
                <a:lnTo>
                  <a:pt x="6068" y="2700"/>
                </a:lnTo>
              </a:path>
              <a:path fill="none" w="21600" h="21600">
                <a:moveTo>
                  <a:pt x="15532" y="675"/>
                </a:moveTo>
                <a:arcTo wR="675" hR="675" stAng="10800000" swAng="-5400000"/>
                <a:lnTo>
                  <a:pt x="17557" y="1350"/>
                </a:lnTo>
                <a:arcTo wR="675" hR="675" stAng="16200000" swAng="5400000"/>
                <a:arcTo wR="675" hR="675" stAng="0" swAng="5400000"/>
                <a:lnTo>
                  <a:pt x="15532" y="2700"/>
                </a:lnTo>
              </a:path>
              <a:path fill="none" w="21600" h="21600">
                <a:moveTo>
                  <a:pt x="3368" y="2025"/>
                </a:moveTo>
                <a:lnTo>
                  <a:pt x="3368" y="18900"/>
                </a:lnTo>
              </a:path>
              <a:path fill="none" w="21600" h="21600">
                <a:moveTo>
                  <a:pt x="18232" y="2025"/>
                </a:moveTo>
                <a:lnTo>
                  <a:pt x="18232" y="18900"/>
                </a:lnTo>
              </a:path>
            </a:pathLst>
          </a:custGeom>
          <a:gradFill rotWithShape="0">
            <a:gsLst>
              <a:gs pos="0">
                <a:srgbClr val="ff9900"/>
              </a:gs>
              <a:gs pos="50000">
                <a:srgbClr val="99ff33"/>
              </a:gs>
              <a:gs pos="100000">
                <a:srgbClr val="ff9900"/>
              </a:gs>
            </a:gsLst>
            <a:lin ang="81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800" spc="-1" strike="noStrike">
                <a:solidFill>
                  <a:srgbClr val="006600"/>
                </a:solidFill>
                <a:latin typeface="Times New Roman"/>
              </a:rPr>
              <a:t>ما الْكُتْلَةُ؟</a:t>
            </a:r>
            <a:endParaRPr b="0" lang="en-US" sz="6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2421000"/>
            <a:ext cx="882000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000000"/>
                </a:solidFill>
                <a:latin typeface="Times New Roman"/>
              </a:rPr>
              <a:t>الْكُتْلَةُ أَيْضًا صِفَةٌ لِلْمادَّةِ. والْكُتْلةَُ هِيَ كَمِّيِّةُ الْمَادَّةِ الْمَوْجودَةُ في الشَّيْءِ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200" spc="-1" strike="noStrike">
              <a:solidFill>
                <a:srgbClr val="0066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000000"/>
                </a:solidFill>
                <a:latin typeface="Times New Roman"/>
              </a:rPr>
              <a:t>الأَشْياءُ جَميعُها لَها كُتْلَةٌ، لَكِنَّ الأَشْياءَ تَخْتَلِفُ في كُتْلَتِها. فَالأَشْياءُ الثَّقيلَةُ لَها كُتْلَةٌ أَكْبَرُ مِنْ كُتْلَةِ الأَشْياءِ الْخَفيفَةِ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ar-SA" sz="42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0066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5084640"/>
            <a:ext cx="284328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ING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mpre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mpre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39640" y="507960"/>
            <a:ext cx="82090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200" spc="-1" strike="noStrike">
                <a:solidFill>
                  <a:srgbClr val="000000"/>
                </a:solidFill>
                <a:latin typeface="Times New Roman"/>
              </a:rPr>
              <a:t>يسُتْخَْدمَ الْميزانُ لِقياسِ الْكُتْلَةِ.</a:t>
            </a:r>
            <a:endParaRPr b="0" lang="en-US" sz="6200" spc="-1" strike="noStrike">
              <a:solidFill>
                <a:srgbClr val="0066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556000" y="3068640"/>
            <a:ext cx="439236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OrPiOnE</cp:lastModifiedBy>
  <dcterms:modified xsi:type="dcterms:W3CDTF">2006-12-30T02:39:23Z</dcterms:modified>
  <cp:revision>32</cp:revision>
  <dc:subject/>
  <dc:title>PowerPoint Presentation</dc:title>
</cp:coreProperties>
</file>