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6.jpeg" ContentType="image/jpeg"/>
  <Override PartName="/ppt/media/CLICKER.WAV" ContentType="audio/x-wav"/>
  <Override PartName="/ppt/media/image2.wmf" ContentType="image/x-wmf"/>
  <Override PartName="/ppt/media/image1.wmf" ContentType="image/x-wmf"/>
  <Override PartName="/ppt/media/water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6BE-CCA0-4560-A97E-349DC5D8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C3B-2DF5-4C47-B44A-8F14244C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F86-756D-4B52-AE20-0D53950C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B4E-E390-4402-8E9E-B9F5A614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0F8-2272-47F2-BF5D-BD292FCF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7AA5-788B-478D-A369-B2D876C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0AB4-F7B8-4F13-AC2C-7CDE5DBF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10AE-84DC-4FDC-A8CC-55E41986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F2B3-07FE-415B-BA9E-E80C68E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9AEA-899E-4793-B551-E2042E16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F443-8AFA-44BD-BABD-BE4152F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2ED-63EF-4BB3-AB3B-5594A1D7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760E-9CD5-450F-9773-4446C69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18C5-DF4D-4E53-B237-C3F26D5B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16BF-7769-4652-9E22-62868556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A8B3-4FE1-4B7D-BDE1-4DDA600A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B59F-C5D5-43D9-A70E-30CF4BE9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A8A-52BC-42D0-A1DC-72370FE8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08A-70DA-4B0F-812A-93BDE74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794-EB7B-4A74-B7FB-0DD0636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F55-85B1-4B6A-A4D8-B6EEEB89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70C-6BA0-4FEA-9B23-335233A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CBD-FDAA-4F9F-8980-3F6D022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022-BCF4-4897-8F67-E59B6E0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186-D6DD-4CBA-AF16-36900CF9CA2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9DDD-E1F6-447A-86D3-DBCA1DD9085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LICKER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at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domiatwindow.net/images/articles/aF0TA2t55cFt.bmp&amp;imgrefurl=http://domiatwindow.net/articles.php%3Fid%3D241&amp;usg=__kJxymtL7r9Jk1FG_UB3kEIJ6qRo=&amp;h=420&amp;w=337&amp;sz=416&amp;hl=ar&amp;start=8&amp;tbnid=eIicBymXKMLk2M:&amp;tbnh=125&amp;tbnw=100&amp;prev=/images%3Fq%3D%25D9%2581%25D8%25B5%25D9%2584%2B%25D8%25A7%25D9%2584%25D8%25B5%25D9%258A%25D9%2581%26gbv%3D2%26hl%3Dar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eg/imgres?imgurl=http://www.alawael-magazine.com/site_image/Summer%2520Session%2520picture.bmp&amp;imgrefurl=http://www.alawael-magazine.com/page_view.php%3Fid%3D192&amp;usg=__RWuxhxgOKnvKgaTRT9hip1fFLUs=&amp;h=358&amp;w=360&amp;sz=127&amp;hl=ar&amp;start=1&amp;tbnid=3ddLrsnl6861UM:&amp;tbnh=120&amp;tbnw=121&amp;prev=/images%3Fq%3D%25D9%2581%25D8%25B5%25D9%2584%2B%25D8%25A7%25D9%2584%25D8%25B5%25D9%258A%25D9%2581%26gbv%3D2%26hl%3Dar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members.abunawaf.com/balot/GRD3/40.jpg&amp;imgrefurl=http://www.abunawaf.com/post-5517.html&amp;usg=__IEC5cyIqzba2_j6ruLPQLQdPuow=&amp;h=600&amp;w=800&amp;sz=51&amp;hl=ar&amp;start=3&amp;um=1&amp;tbnid=mbTVnlx7ISEwcM:&amp;tbnh=107&amp;tbnw=143&amp;prev=/images%3Fq%3D%25D9%2581%25D8%25B5%25D9%2584%2B%25D8%25A7%25D9%2584%25D8%25B4%25D8%25AA%25D8%25A7%25D8%25A1%26hl%3Dar%26sa%3DN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eg/imgres?imgurl=http://www.shlahi.com/vb/uploaded/490_1203681119.gif&amp;imgrefurl=http://mfhom.com/vb/t24894.html&amp;usg=__KI9OV0Bl5FNFjIZnIMtTmpKtRqY=&amp;h=640&amp;w=480&amp;sz=783&amp;hl=ar&amp;start=12&amp;um=1&amp;tbnid=NAhkNa9GbVGTKM:&amp;tbnh=137&amp;tbnw=103&amp;prev=/images%3Fq%3D%25D8%25A3%25D9%2585%25D8%25B7%25D8%25A7%25D8%25B1%26hl%3Dar%26um%3D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348000" y="115920"/>
            <a:ext cx="2997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779560"/>
            <a:ext cx="813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cc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Hesham Bold"/>
              </a:rPr>
              <a:t>الفصول الأربعة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cc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Hesham Bold"/>
              <a:ea typeface="Hesham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98100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ا الفصول الأربعة 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13372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يتغير الطقس خلال السنة فى كثير من الأماك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4753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208404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80840" y="765000"/>
            <a:ext cx="489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فصل الربي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087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91736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: الصيف هو فصل من فصول السنة الأربعة وهو أشد الفصول حرارة, يبدأ من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ونيو وينتهي في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سبتمبر في البلاد الواقعة شمال خط الأستواء, ويبدأ في ديسمبر وينتهي في مارس في البلاد الواقعة جنوب خط الأستوا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5800" y="105264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صل الصيَّف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013360"/>
            <a:ext cx="2232000" cy="158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222876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َكونُ الطَّقْسُ مُشْمِسًا لِساعاتٍ أَقَلَّ مِنَ الصَّيْفِ، وَيُصْبِحُ الطَّقْسُ أَقَلَّ حَرَارَةً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69120" y="1000080"/>
            <a:ext cx="508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ْخَريف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331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044520"/>
            <a:ext cx="677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كْثَرُ الْفُصولِ بُرودَةً. يَكونُ الطَّقْسُ فِيْهِ مُشْمِسًا لِساعاتٍ قَليلَةٍ، وَتَتَسَاقَطُ فِيْه الأَمْطارُ، وَأَحْيانًا البَرَدُ والثُّلوجُ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8120" y="476280"/>
            <a:ext cx="46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شِّتاء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628640"/>
            <a:ext cx="20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484280"/>
            <a:ext cx="165744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916360" y="1557360"/>
            <a:ext cx="280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28:46Z</dcterms:modified>
  <cp:revision>37</cp:revision>
  <dc:subject/>
  <dc:title>PowerPoint Presentation</dc:title>
</cp:coreProperties>
</file>