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laser.wav" ContentType="audio/x-wav"/>
  <Override PartName="/ppt/media/image8.wmf" ContentType="image/x-wmf"/>
  <Override PartName="/ppt/media/image1.jpeg" ContentType="image/jpeg"/>
  <Override PartName="/ppt/media/image4.wmf" ContentType="image/x-wmf"/>
  <Override PartName="/ppt/media/BOINGG.WAV" ContentType="audio/x-wav"/>
  <Override PartName="/ppt/media/image2.jpeg" ContentType="image/jpeg"/>
  <Override PartName="/ppt/media/CHEEPCHP.WAV" ContentType="audio/x-wav"/>
  <Override PartName="/ppt/media/music.wav" ContentType="audio/x-wav"/>
  <Override PartName="/ppt/media/image3.wmf" ContentType="image/x-wmf"/>
  <Override PartName="/ppt/media/image5.jpeg" ContentType="image/jpeg"/>
  <Override PartName="/ppt/media/compress.wav" ContentType="audio/x-wav"/>
  <Override PartName="/ppt/media/HITWALL.WAV" ContentType="audio/x-wav"/>
  <Override PartName="/ppt/media/image6.jpeg" ContentType="image/jpe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68B7-4C02-4665-8237-ED22E4D9F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B0215-2841-4F80-96FE-80E6BD493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7D5D-5874-464F-B519-C54F1318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212-EA78-44C1-B75E-E2FFD9E7B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EB696-DD96-4ED8-BA0E-6BC0D0DB6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F385A-5791-4D75-9F4B-406597D7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9979A-F403-4EB7-A624-0B3B6A779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7FDDD-8D5B-4DFC-A98A-573ADA9C8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25164-2D55-4E1E-8AFB-31294417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6F839-92C9-49D1-8BEC-242829B2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0F391-1953-428D-89D2-D9C5E07C2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06666-D009-4525-B714-E4226FA0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BCCE3-E113-4D70-BA08-6130DA51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C7FF5-CB50-478E-9DD8-09CF7327D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F4C86-4AF3-4D61-ADE0-68EAD42E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B098-9E9A-4A31-B5EC-1B3E7DDCB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2BA6-A720-4D79-8731-314DCFB60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A4F4-CCAC-47B6-B8D5-C5CF34E7A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1F19-C8D7-484F-89DB-16F5F4AB2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8BB6-0840-4D46-BBDB-A19E0D0E0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AE4-AF2A-4FE5-BD93-F327CFD4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C527-2A85-4561-9F6B-163142CAB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BC48-4255-4A4F-9610-A0955463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D21-6115-43C7-B5FD-94AD9477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FFD93-1103-401E-8EBF-9E3552FE438B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E9AB-9B1E-4089-B2BE-C7F677148625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EEPCHP.WAV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audio" Target="../media/CHEEPCHP.WAV"/><Relationship Id="rId4" Type="http://schemas.openxmlformats.org/officeDocument/2006/relationships/audio" Target="../media/music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image" Target="../media/image5.jpeg"/><Relationship Id="rId4" Type="http://schemas.openxmlformats.org/officeDocument/2006/relationships/audio" Target="../media/HITWALL.WAV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audio" Target="../media/BOINGG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audio" Target="../media/BOINGG.WAV"/><Relationship Id="rId4" Type="http://schemas.openxmlformats.org/officeDocument/2006/relationships/audio" Target="../media/compress.wav"/><Relationship Id="rId5" Type="http://schemas.openxmlformats.org/officeDocument/2006/relationships/audio" Target="../media/compress.wav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32000" y="765000"/>
            <a:ext cx="3488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وحدة الخامسة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2492280"/>
            <a:ext cx="79916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المـــادة</a:t>
            </a:r>
            <a:endParaRPr b="1" lang="en-US" sz="72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3132000" y="765000"/>
            <a:ext cx="3488040" cy="11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لدرس الأول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755640" y="2492280"/>
            <a:ext cx="7991640" cy="36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381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00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صفات المواد</a:t>
            </a:r>
            <a:endParaRPr b="1" lang="en-US" sz="7200" spc="1" strike="noStrike">
              <a:ln w="381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00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95280" y="692280"/>
            <a:ext cx="25146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24000" y="2852640"/>
            <a:ext cx="792000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عِنْدما نَصِفُ شَيْئًا ما فَإِنّنا نَتَحَدَّثُ عَنْ صِفاتٍه، مِثْلِ: اللَّوْنِ، والشَّكْلِ، وَالْحَجْمِ، وَالْمَلْمَسِ، وَالرَّائِحَةِ، وَالطَّعْمِ، وَالصَّوْتِ</a:t>
            </a:r>
            <a:r>
              <a:rPr b="1" lang="ar-SA" sz="4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211640" y="1052640"/>
            <a:ext cx="3576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9000" spc="-1" strike="noStrike">
                <a:solidFill>
                  <a:srgbClr val="800000"/>
                </a:solidFill>
                <a:latin typeface="Times New Roman"/>
              </a:rPr>
              <a:t>ما اَلْمَادَّةُ</a:t>
            </a:r>
            <a:endParaRPr b="0" lang="en-US" sz="9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3097440" cy="1654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250920" y="5013360"/>
            <a:ext cx="320508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HITWA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19640" y="620640"/>
            <a:ext cx="5724360" cy="1079640"/>
          </a:xfrm>
          <a:custGeom>
            <a:avLst/>
            <a:gdLst>
              <a:gd name="textAreaLeft" fmla="*/ 892440 w 5724360"/>
              <a:gd name="textAreaRight" fmla="*/ 4831920 w 5724360"/>
              <a:gd name="textAreaTop" fmla="*/ 135000 h 1079640"/>
              <a:gd name="textAreaBottom" fmla="*/ 1080000 h 10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3" y="0"/>
                </a:lnTo>
                <a:arcTo wR="675" hR="675" stAng="16200000" swAng="5400000"/>
                <a:lnTo>
                  <a:pt x="6068" y="2700"/>
                </a:lnTo>
                <a:lnTo>
                  <a:pt x="15532" y="2700"/>
                </a:lnTo>
                <a:lnTo>
                  <a:pt x="1553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32" y="18900"/>
                </a:lnTo>
                <a:lnTo>
                  <a:pt x="18232" y="20925"/>
                </a:lnTo>
                <a:arcTo wR="675" hR="675" stAng="0" swAng="5400000"/>
                <a:lnTo>
                  <a:pt x="4043" y="21600"/>
                </a:lnTo>
                <a:arcTo wR="675" hR="675" stAng="5400000" swAng="5400000"/>
                <a:lnTo>
                  <a:pt x="336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68" y="675"/>
                </a:moveTo>
                <a:arcTo wR="675" hR="675" stAng="0" swAng="5400000"/>
                <a:lnTo>
                  <a:pt x="4043" y="1350"/>
                </a:lnTo>
                <a:arcTo wR="675" hR="675" stAng="16200000" swAng="-5400000"/>
                <a:arcTo wR="675" hR="675" stAng="10800000" swAng="-5400000"/>
                <a:lnTo>
                  <a:pt x="6068" y="2700"/>
                </a:lnTo>
              </a:path>
              <a:path fill="none" w="21600" h="21600">
                <a:moveTo>
                  <a:pt x="15532" y="675"/>
                </a:moveTo>
                <a:arcTo wR="675" hR="675" stAng="10800000" swAng="-5400000"/>
                <a:lnTo>
                  <a:pt x="17557" y="1350"/>
                </a:lnTo>
                <a:arcTo wR="675" hR="675" stAng="16200000" swAng="5400000"/>
                <a:arcTo wR="675" hR="675" stAng="0" swAng="5400000"/>
                <a:lnTo>
                  <a:pt x="15532" y="2700"/>
                </a:lnTo>
              </a:path>
              <a:path fill="none" w="21600" h="21600">
                <a:moveTo>
                  <a:pt x="3368" y="2025"/>
                </a:moveTo>
                <a:lnTo>
                  <a:pt x="3368" y="18900"/>
                </a:lnTo>
              </a:path>
              <a:path fill="none" w="21600" h="21600">
                <a:moveTo>
                  <a:pt x="18232" y="2025"/>
                </a:moveTo>
                <a:lnTo>
                  <a:pt x="18232" y="18900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99ff33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0000"/>
                </a:solidFill>
                <a:latin typeface="Times New Roman"/>
              </a:rPr>
              <a:t>حالات المادة</a:t>
            </a:r>
            <a:r>
              <a:rPr b="1" lang="ar-SA" sz="56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2205000"/>
            <a:ext cx="82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ُوْجَدُ المَادَةُ فِي ثَلاثِ حالاتٍ، هِيَ: الصُّلْبَةُ، السائلة ، الغازية ,رغم معرفتنا الجيدة لهذه الحقيقة الا انه علينا توضيحها من الناحية الفيزيائية فهناك مواد يمكن تحويلها من سائل الى غاز بالتسخين واخرى بتأثير التسخين تحول من صلبة الى سائلة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436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908000" y="549360"/>
            <a:ext cx="5616720" cy="1222200"/>
          </a:xfrm>
          <a:custGeom>
            <a:avLst/>
            <a:gdLst>
              <a:gd name="textAreaLeft" fmla="*/ 875520 w 5616720"/>
              <a:gd name="textAreaRight" fmla="*/ 4741200 w 5616720"/>
              <a:gd name="textAreaTop" fmla="*/ 152640 h 1222200"/>
              <a:gd name="textAreaBottom" fmla="*/ 1222560 h 122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393" y="0"/>
                </a:lnTo>
                <a:arcTo wR="675" hR="675" stAng="16200000" swAng="5400000"/>
                <a:lnTo>
                  <a:pt x="6068" y="2700"/>
                </a:lnTo>
                <a:lnTo>
                  <a:pt x="15532" y="2700"/>
                </a:lnTo>
                <a:lnTo>
                  <a:pt x="15532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232" y="18900"/>
                </a:lnTo>
                <a:lnTo>
                  <a:pt x="18232" y="20925"/>
                </a:lnTo>
                <a:arcTo wR="675" hR="675" stAng="0" swAng="5400000"/>
                <a:lnTo>
                  <a:pt x="4043" y="21600"/>
                </a:lnTo>
                <a:arcTo wR="675" hR="675" stAng="5400000" swAng="5400000"/>
                <a:lnTo>
                  <a:pt x="3368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6068" y="675"/>
                </a:moveTo>
                <a:arcTo wR="675" hR="675" stAng="0" swAng="5400000"/>
                <a:lnTo>
                  <a:pt x="4043" y="1350"/>
                </a:lnTo>
                <a:arcTo wR="675" hR="675" stAng="16200000" swAng="-5400000"/>
                <a:arcTo wR="675" hR="675" stAng="10800000" swAng="-5400000"/>
                <a:lnTo>
                  <a:pt x="6068" y="2700"/>
                </a:lnTo>
              </a:path>
              <a:path fill="none" w="21600" h="21600">
                <a:moveTo>
                  <a:pt x="15532" y="675"/>
                </a:moveTo>
                <a:arcTo wR="675" hR="675" stAng="10800000" swAng="-5400000"/>
                <a:lnTo>
                  <a:pt x="17557" y="1350"/>
                </a:lnTo>
                <a:arcTo wR="675" hR="675" stAng="16200000" swAng="5400000"/>
                <a:arcTo wR="675" hR="675" stAng="0" swAng="5400000"/>
                <a:lnTo>
                  <a:pt x="15532" y="2700"/>
                </a:lnTo>
              </a:path>
              <a:path fill="none" w="21600" h="21600">
                <a:moveTo>
                  <a:pt x="3368" y="2025"/>
                </a:moveTo>
                <a:lnTo>
                  <a:pt x="3368" y="18900"/>
                </a:lnTo>
              </a:path>
              <a:path fill="none" w="21600" h="21600">
                <a:moveTo>
                  <a:pt x="18232" y="2025"/>
                </a:moveTo>
                <a:lnTo>
                  <a:pt x="18232" y="18900"/>
                </a:lnTo>
              </a:path>
            </a:pathLst>
          </a:custGeom>
          <a:gradFill rotWithShape="0">
            <a:gsLst>
              <a:gs pos="0">
                <a:srgbClr val="ff9900"/>
              </a:gs>
              <a:gs pos="50000">
                <a:srgbClr val="99ff33"/>
              </a:gs>
              <a:gs pos="100000">
                <a:srgbClr val="ff9900"/>
              </a:gs>
            </a:gsLst>
            <a:lin ang="8100000"/>
          </a:gra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006600"/>
                </a:solidFill>
                <a:latin typeface="Times New Roman"/>
              </a:rPr>
              <a:t>ما الْكُتْلَةُ؟</a:t>
            </a:r>
            <a:endParaRPr b="0" lang="en-US" sz="68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2421000"/>
            <a:ext cx="8820000" cy="45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ْكُتْلَةُ أَيْضًا صِفَةٌ لِلْمادَّةِ. والْكُتْلةَُ هِيَ كَمِّيِّةُ الْمَادَّةِ الْمَوْجودَةُ في الشَّيْءِ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أَشْياءُ جَميعُها لَها كُتْلَةٌ، لَكِنَّ الأَشْياءَ تَخْتَلِفُ في كُتْلَتِها. فَالأَشْياءُ الثَّقيلَةُ لَها كُتْلَةٌ أَكْبَرُ مِنْ كُتْلَةِ الأَشْياءِ الْخَفيفَةِ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ar-SA" sz="4200" spc="-1" strike="noStrike">
                <a:solidFill>
                  <a:srgbClr val="006600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5084640"/>
            <a:ext cx="284328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OING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507960"/>
            <a:ext cx="82090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200" spc="-1" strike="noStrike">
                <a:solidFill>
                  <a:srgbClr val="000000"/>
                </a:solidFill>
                <a:latin typeface="Times New Roman"/>
              </a:rPr>
              <a:t>يسُتْخَْدمَ الْميزانُ لِقياسِ الْكُتْلَةِ.</a:t>
            </a:r>
            <a:endParaRPr b="0" lang="en-US" sz="62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556000" y="3068640"/>
            <a:ext cx="439236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2:39:23Z</dcterms:modified>
  <cp:revision>32</cp:revision>
  <dc:subject/>
  <dc:title>PowerPoint Presentation</dc:title>
</cp:coreProperties>
</file>