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_1.wav" ContentType="audio/x-wav"/>
  <Override PartName="/ppt/media/CLICKER(1).WAV" ContentType="audio/x-wav"/>
  <Override PartName="/ppt/media/CNNTONE.WAV" ContentType="audio/x-wav"/>
  <Override PartName="/ppt/media/image2.wmf" ContentType="image/x-wmf"/>
  <Override PartName="/ppt/media/image1.wmf" ContentType="image/x-wmf"/>
  <Override PartName="/ppt/media/CHEEPCHP.WAV" ContentType="audio/x-wav"/>
  <Override PartName="/ppt/media/image5.wmf" ContentType="image/x-wmf"/>
  <Override PartName="/ppt/media/image3.wmf" ContentType="image/x-wmf"/>
  <Override PartName="/ppt/media/image4.wmf" ContentType="image/x-wmf"/>
  <Override PartName="/ppt/media/suction.wav" ContentType="audio/x-wav"/>
  <Override PartName="/ppt/media/compre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6C2-CB43-4491-A144-E4B19F0A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D3D-7B1A-4B4E-B7E2-DF80A86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265-1E1B-420D-8C87-FE858C46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0A9-9366-40E1-B3F2-0A3FDED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1B84-0C89-47E3-BD08-274EF87A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3E2-6C88-44D7-B097-347B6EF2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A8D-C4E5-475A-BC90-E1C4CD4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5A7F-DC72-41AD-A0F8-FD191EB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44E8-3A32-42DB-A401-096EED5F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FBDD-89F2-4395-B263-7AC61D1F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E69-B685-4784-BCBF-C2027B1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430-6519-4264-8206-6FFBD9F1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CC2-9815-419F-9135-6054B6BB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262E-17AC-4F99-8447-E2C7178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C9C0-BF88-4658-AC46-776C0E0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DE04-840B-48E0-9CB2-BCF9764D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B3E7-CA26-4CB0-9D5E-BCB6F542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B25-0506-48B0-BCB3-5EA7B20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AD4-8CED-478D-B4C7-5950E439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78E-F6ED-418F-B87C-557DCFA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4A3-C570-4FAC-AB19-61B5837A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760-C983-442A-AEC7-4789B7B4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1DF-CE74-4AF7-88F7-2701B7C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7EC-791B-4482-BBB9-42B3C7D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1A5-F7C6-408C-B3C7-5B00219A715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7628-CDA8-4B77-B3E6-FB6D656EF65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arm_1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uction.wav"/><Relationship Id="rId3" Type="http://schemas.openxmlformats.org/officeDocument/2006/relationships/audio" Target="../media/compress.wav"/><Relationship Id="rId4" Type="http://schemas.openxmlformats.org/officeDocument/2006/relationships/audio" Target="../media/compres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2838600"/>
            <a:ext cx="7920000" cy="21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3816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593bf"/>
                    </a:gs>
                    <a:gs pos="50000">
                      <a:srgbClr val="00ffff"/>
                    </a:gs>
                    <a:gs pos="100000">
                      <a:srgbClr val="0593bf"/>
                    </a:gs>
                  </a:gsLst>
                  <a:lin ang="8100000"/>
                </a:gradFill>
                <a:effectLst>
                  <a:outerShdw dist="660360" dir="5334402" blurRad="0" rotWithShape="0">
                    <a:srgbClr val="000000">
                      <a:alpha val="70000"/>
                    </a:srgbClr>
                  </a:outerShdw>
                </a:effectLst>
                <a:latin typeface="Hesham Gornata"/>
              </a:rPr>
              <a:t>الآلات البسيطة</a:t>
            </a:r>
            <a:endParaRPr b="1" lang="en-US" sz="6600" spc="1" strike="noStrike">
              <a:ln w="3816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593bf"/>
                  </a:gs>
                  <a:gs pos="50000">
                    <a:srgbClr val="00ffff"/>
                  </a:gs>
                  <a:gs pos="100000">
                    <a:srgbClr val="0593bf"/>
                  </a:gs>
                </a:gsLst>
                <a:lin ang="8100000"/>
              </a:gradFill>
              <a:effectLst>
                <a:outerShdw dist="660360" dir="5334402" blurRad="0" rotWithShape="0">
                  <a:srgbClr val="000000">
                    <a:alpha val="7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arm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42100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يَصْعُبُ عَلَيَّ أَحْياناً تَحْريكُ الأَشْياءِ؛ لِذَا، فَقَدْ أحْتاجُ إِلى شَيْءٍ يُسَاعِدُني عَلَى تَحْريكِها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2060640"/>
            <a:ext cx="640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آلَةُ الْبَسيطَةُ أَداةٌ تُسَهِّلُ تَحْريكَ الأَشْياءِ. وَتُساعِدُ النّاسَ عَلى إِنْجازِ بَعْضِ الأَعْما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45831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006280"/>
            <a:ext cx="748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ْبَكَرَةُ عَجَلَةٌ يُحَرِّكُهَا حَبْلٌ. وَهِيَ تُساعِدُ عَلى رَفْعِ الأَشْياءِ الثَّقيلَةِ. كَمَا تُساعِدُ عَلى حَمْلِ الأَشْياءِ إلى أَماكِن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6600" y="1506600"/>
            <a:ext cx="59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الَبْكَرَةَ آلَةٌ بَسيطَةٌ</a:t>
            </a: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66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0360" y="907920"/>
            <a:ext cx="4392720" cy="1008360"/>
          </a:xfrm>
          <a:custGeom>
            <a:avLst/>
            <a:gdLst>
              <a:gd name="textAreaLeft" fmla="*/ 118800 w 4392720"/>
              <a:gd name="textAreaRight" fmla="*/ 4273920 w 4392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940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470" y="21600"/>
                </a:lnTo>
                <a:arcTo wR="3600" hR="3600" stAng="10800000" swAng="5400000"/>
                <a:lnTo>
                  <a:pt x="9407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الرَّوافِعُ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37000"/>
            <a:ext cx="80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رّافِعَةُ آلَةٌ بَسيطَةٌ. وَهِيَ قَضيبٌ يَرتَكِزُ عَلَى نُقْطَةٍ مُعَيَّنَةٍ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57200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81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27640" y="907920"/>
            <a:ext cx="3744720" cy="1008360"/>
          </a:xfrm>
          <a:custGeom>
            <a:avLst/>
            <a:gdLst>
              <a:gd name="textAreaLeft" fmla="*/ 118800 w 3744720"/>
              <a:gd name="textAreaRight" fmla="*/ 3625920 w 3744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801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594" y="21600"/>
                </a:lnTo>
                <a:arcTo wR="3600" hR="3600" stAng="10800000" swAng="5400000"/>
                <a:lnTo>
                  <a:pt x="8019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اَلسَّطْحُ الْمائِل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08280"/>
            <a:ext cx="853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يْضاً آلَةٌ بَسيطَةٌ. يُسْتَخْدَمُ السَّطْحُ الْمائِلُ لِتَحْريكِ الأَشْياءِ إِلى الأَعْلى أوَ إِلى الأَسْفَ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ُسْتَخْدَمُ السَّطْحُ الْمائِلُ أَحْياناً لِتَحْريكِ أَشْياءٍ يَصْعُبُ تَحْريكُها إلى الأَعْلَى أو عَلى السُّلَّم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46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25:04Z</dcterms:modified>
  <cp:revision>37</cp:revision>
  <dc:subject/>
  <dc:title>PowerPoint Presentation</dc:title>
</cp:coreProperties>
</file>