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5E0-F4BE-4F6C-9C23-0A7C3E1A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FE6-E19F-469F-AF0B-D151FF4E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1231-E992-41C3-9C39-6BDFB480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DE6C-3863-4C4A-93B2-171C9EE0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F254-D3C9-484E-9C35-C24F916B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AC87-3C30-4E18-96F7-D27A0B4F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CED5-9287-4251-9206-B3825923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B11D-ACD1-453C-86E5-063B3381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CB49-F720-489D-936D-A5EB36D0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E91E-52E0-4019-9E47-EAE63AAF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5855-E18C-4FFE-BA0C-5A4AE53F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6E75-6B18-4F4A-B741-353AAE23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D8FC-CED6-470D-A2DB-5ECEC689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2E26-7853-4F91-9D47-6300D1EC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5C6C-3784-4BF4-B9E6-01A0F2B8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1091-FBD1-4001-8EBC-FBC993D5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122E-DDBD-4CF3-901E-CAB66AE6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A4AC-0D87-49A8-AC40-93661390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BC8-FFE1-4971-8E53-22B0198D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57D6-E05D-4B36-9DDA-7A390EE9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6593-47DA-45DD-89B9-723B9E8D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2188-DC60-438B-891E-F5D5A132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A67-7DBA-4B78-BA6C-1AF1AAEE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F489-5884-423F-B319-C97DEC49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57AF-08E2-4321-9AD5-0BA079CC31F0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C88B-4DC0-4060-8BFC-64B17D790E78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.wikipedia.org/wiki/&#1606;&#1602;&#1591;&#1577;_&#1575;&#1606;&#1589;&#1607;&#1575;&#1585;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411280" y="981000"/>
            <a:ext cx="4321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الدرس الثالث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16000" y="3500280"/>
            <a:ext cx="7273800" cy="201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ffcccc">
                      <a:alpha val="50000"/>
                    </a:srgbClr>
                  </a:outerShdw>
                </a:effectLst>
                <a:latin typeface="Hesham Cortoba"/>
              </a:rPr>
              <a:t>( </a:t>
            </a:r>
            <a:r>
              <a:rPr b="0" lang="hi-I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ffcccc">
                      <a:alpha val="50000"/>
                    </a:srgbClr>
                  </a:outerShdw>
                </a:effectLst>
                <a:latin typeface="Hesham Cortoba"/>
              </a:rPr>
              <a:t>الحرارة تغير المادة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ffcccc">
                      <a:alpha val="50000"/>
                    </a:srgbClr>
                  </a:outerShdw>
                </a:effectLst>
                <a:latin typeface="Hesham Cortoba"/>
              </a:rPr>
              <a:t> 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ffcccc">
                      <a:alpha val="50000"/>
                    </a:srgbClr>
                  </a:outerShdw>
                </a:effectLst>
                <a:latin typeface="Hesham Cortoba"/>
              </a:rPr>
              <a:t>)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ffcccc">
                    <a:alpha val="50000"/>
                  </a:srgbClr>
                </a:outerShdw>
              </a:effectLst>
              <a:latin typeface="Hesham Cortoba"/>
              <a:ea typeface="Hesham Cortob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2637000"/>
            <a:ext cx="864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يُمْكِنُنِي تَغْييرُ الْماءِ مِنْ سائِلٍ إِلى صُلْبٍ. عِنْدَما يَبْرُدُ الْماءُ كَثيرًا، فَإِنَّهُ يَتَجَمَّدُ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968760" y="1363680"/>
            <a:ext cx="104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3399"/>
                </a:solidFill>
                <a:latin typeface="Times New Roman"/>
              </a:rPr>
              <a:t>كَيْفُ تَتَغَيَّرُ الْمَوادُّ الصُّلْبَةُ وَالسَّوائِلُ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32004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42920" y="549360"/>
            <a:ext cx="6912000" cy="1584360"/>
          </a:xfrm>
          <a:custGeom>
            <a:avLst/>
            <a:gdLst>
              <a:gd name="textAreaLeft" fmla="*/ 865080 w 6912000"/>
              <a:gd name="textAreaRight" fmla="*/ 6046920 w 6912000"/>
              <a:gd name="textAreaTop" fmla="*/ 19800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9" y="0"/>
                </a:lnTo>
                <a:arcTo wR="675" hR="675" stAng="16200000" swAng="5400000"/>
                <a:lnTo>
                  <a:pt x="5404" y="2700"/>
                </a:lnTo>
                <a:lnTo>
                  <a:pt x="16196" y="2700"/>
                </a:lnTo>
                <a:lnTo>
                  <a:pt x="16196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896" y="18900"/>
                </a:lnTo>
                <a:lnTo>
                  <a:pt x="18896" y="20925"/>
                </a:lnTo>
                <a:arcTo wR="675" hR="675" stAng="0" swAng="5400000"/>
                <a:lnTo>
                  <a:pt x="3379" y="21600"/>
                </a:lnTo>
                <a:arcTo wR="675" hR="675" stAng="5400000" swAng="5400000"/>
                <a:lnTo>
                  <a:pt x="2704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4" y="675"/>
                </a:moveTo>
                <a:arcTo wR="675" hR="675" stAng="0" swAng="5400000"/>
                <a:lnTo>
                  <a:pt x="3379" y="1350"/>
                </a:lnTo>
                <a:arcTo wR="675" hR="675" stAng="16200000" swAng="-5400000"/>
                <a:arcTo wR="675" hR="675" stAng="10800000" swAng="-5400000"/>
                <a:lnTo>
                  <a:pt x="5404" y="2700"/>
                </a:lnTo>
              </a:path>
              <a:path fill="none" w="21600" h="21600">
                <a:moveTo>
                  <a:pt x="16196" y="675"/>
                </a:moveTo>
                <a:arcTo wR="675" hR="675" stAng="10800000" swAng="-5400000"/>
                <a:lnTo>
                  <a:pt x="18221" y="1350"/>
                </a:lnTo>
                <a:arcTo wR="675" hR="675" stAng="16200000" swAng="5400000"/>
                <a:arcTo wR="675" hR="675" stAng="0" swAng="5400000"/>
                <a:lnTo>
                  <a:pt x="16196" y="2700"/>
                </a:lnTo>
              </a:path>
              <a:path fill="none" w="21600" h="21600">
                <a:moveTo>
                  <a:pt x="2704" y="2025"/>
                </a:moveTo>
                <a:lnTo>
                  <a:pt x="2704" y="18900"/>
                </a:lnTo>
              </a:path>
              <a:path fill="none" w="21600" h="21600">
                <a:moveTo>
                  <a:pt x="18896" y="2025"/>
                </a:moveTo>
                <a:lnTo>
                  <a:pt x="18896" y="18900"/>
                </a:lnTo>
              </a:path>
            </a:pathLst>
          </a:custGeom>
          <a:gradFill rotWithShape="0">
            <a:gsLst>
              <a:gs pos="0">
                <a:srgbClr val="ffcccc"/>
              </a:gs>
              <a:gs pos="50000">
                <a:srgbClr val="ff9900"/>
              </a:gs>
              <a:gs pos="100000">
                <a:srgbClr val="ffcccc"/>
              </a:gs>
            </a:gsLst>
            <a:lin ang="81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000000"/>
                </a:solidFill>
                <a:latin typeface="Times New Roman"/>
              </a:rPr>
              <a:t>التَّجَمُّدُ</a:t>
            </a:r>
            <a:r>
              <a:rPr b="1" lang="ar-EG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2492280"/>
            <a:ext cx="698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هُوَ تَحَوُّلُ السَّائِلِ إِلَى صُلْبٍ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يُمْكِنُ إِعادَةُ الْماءِ الْمُتَجَمِّدِ إِلى سائِلٍ. تَنْصَهِرُ الْمادَّةُ الصُّلْبَةُ عِنْدَ تَسْخينِها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3578400"/>
            <a:ext cx="1551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79640" y="4724280"/>
            <a:ext cx="4897440" cy="1892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0920" y="4941720"/>
            <a:ext cx="144468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27664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Times New Roman"/>
              </a:rPr>
              <a:t>هُوَ تَحَوُّلُ الصُّلْبِ إلى سائِلٍ.</a:t>
            </a:r>
            <a:r>
              <a:rPr b="1" lang="ar" sz="3600" spc="-1" strike="noStrike">
                <a:solidFill>
                  <a:srgbClr val="ffffff"/>
                </a:solidFill>
                <a:latin typeface="Times New Roman"/>
              </a:rPr>
              <a:t> ويحدث الانصهار عند درجة الحرارة التي يتواجد عندها الطور الصلب والسائل للمادة النقية في حالة توازن. عند الوصول إلى </a:t>
            </a:r>
            <a:r>
              <a:rPr b="0" lang="ar" sz="36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نقطة الانصهار</a:t>
            </a:r>
            <a:r>
              <a:rPr b="1" lang="ar" sz="3600" spc="-1" strike="noStrike">
                <a:solidFill>
                  <a:srgbClr val="ffffff"/>
                </a:solidFill>
                <a:latin typeface="Times New Roman"/>
              </a:rPr>
              <a:t> سيؤدي المزيد من الحرارة إلى تحول الجسم الصلب إلى سائل بدون تغير في درجة الحرارة. عند ذوبان جميع المادة الصلبة، فإن الحرارة الإضافية سوف ترفع درجة حرارة السائ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692280"/>
            <a:ext cx="314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3399"/>
                </a:solidFill>
                <a:latin typeface="Times New Roman"/>
              </a:rPr>
              <a:t>الَانِْصِهارُ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2637000"/>
            <a:ext cx="860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Times New Roman"/>
              </a:rPr>
              <a:t>عِنْدَ تَسْخينِ الْماءِ فإنَّ بَعْضَه يَتَبَخَّرُ. وعند تبريد الماء فإنه يتجمد وعند تسخين الجليد فإنه يتحول الى ماء مرة أخرى</a:t>
            </a:r>
            <a:r>
              <a:rPr b="1" lang="ar-EG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EG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892800" y="1052640"/>
            <a:ext cx="1095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ff3399"/>
                </a:solidFill>
                <a:latin typeface="Times New Roman"/>
              </a:rPr>
              <a:t>كَيْفَ تَتَغَيَّرُ السَّوائِلُ وَالْغازاتُ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4360" y="3284640"/>
            <a:ext cx="7848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هو تحول السائل إلى غاز. فالماء ينتقل إلى الهواء على شكل غاز.عِنْدَما تكون درجة حرارة الْماءِ أعلى يَكونُ تَبَخُّرُهُ أَسْرَعَ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27280" y="1413000"/>
            <a:ext cx="44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3399"/>
                </a:solidFill>
                <a:latin typeface="Times New Roman"/>
              </a:rPr>
              <a:t>التَّبَخُّرُ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765000"/>
            <a:ext cx="9144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بُخارُ الْماءِ هُوَ ماءٌ عَلى شَكْلِ غازٍ</a:t>
            </a: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يَتَحَوَّلُ بُخارُ الْماءِ إِلى سائِلٍ عِنْدَما يَبْرُدُ</a:t>
            </a: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عِنْدَما يُلامِسُ بُخارُ الْماءِ الْمَوْجودُ في الْهَواءِ سَطْحًا بارِدًا، فَإِنَّهُ يَتَحَوَّلُ إِلى ماءٍ</a:t>
            </a: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لِهَذا تَتَجَمَّعُ قَطَرَاتُ الْماءِ عَلى زُجاجِ النَّوَافِذِ وَالنَّظَّارَاتِ</a:t>
            </a:r>
            <a:r>
              <a:rPr b="1" lang="ar-SA" sz="40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أَحْيانًا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508720" y="4221000"/>
            <a:ext cx="3313080" cy="1816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2962080" cy="19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8:09:23Z</dcterms:modified>
  <cp:revision>23</cp:revision>
  <dc:subject/>
  <dc:title>PowerPoint Presentation</dc:title>
</cp:coreProperties>
</file>