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HEEPCHP.WAV" ContentType="audio/x-wav"/>
  <Override PartName="/ppt/media/music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C57-295A-4873-9D8F-AA74A6FE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03C-DFE3-4F99-AA5C-7944188A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776-D9C7-4787-ACFD-F186208C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1E5-740C-4DF7-B5C6-571F2ADA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D930-C680-4BEC-AA5D-1CF83473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ADDE-F0FB-48A3-88FC-1AB770B5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871-1A33-487D-B6A9-143938C3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3FC0-40A5-49AC-9876-75D04029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463A-5B54-42CB-BE2F-A8183AB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5105-163F-4E71-98FF-11A3BBF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0F5C-69CE-4DA0-A7D0-ED94895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F46-3DAC-4956-A76A-9A5D0F4A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0A36-E8D1-4C92-9C23-4CB6D36A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869-C074-4F9E-B1A1-1D0867D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4CCB-756F-4737-9808-42A16EB5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1235-E7E7-4B63-BBE3-930C2969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50F5-3D83-44A4-9A39-27FC3158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7B3-91D7-4534-9A66-92B698D8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E63-E269-4AD4-9BD8-70328F03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66F-8BC9-4DED-A2AE-CE7FAB98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907-50EF-4F25-BD50-241BFE1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252-8D25-4E1F-8D17-1C5271F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E0D-8022-4DB4-B0CE-66AF31C9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632-DF2B-446F-9C2D-FD1A682B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5ADE-8FDB-4B46-900F-D6CD8B9DF8DB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DA2-29FD-4011-883C-0C87B270E346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43280" y="907920"/>
            <a:ext cx="446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قراءة علمية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3573360"/>
            <a:ext cx="719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زجاج الملون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067760"/>
            <a:ext cx="763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الأَشْكالُ الَّتِي أَرَاهَا في الزُّجاجِ الْمُلَّوَنِ في الصُّورَة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عَدَدُ الدَّوائِرِ الّتي أَرَاهَا؟ وَما عَدَدُ الْمُسْتَطيلات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تَتَكَوَّنُ النَّوافِذُ الزُّجاجِيَّةُ الْمُلَوَّنَةُ مِنْ عِدَّةِ قِطَعٍ مِنَ الزُّجاجِ الْمُلَوَّنِ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عِنْدَما تَمُرُّ أَشِعَّةُ الشَّمْسِ مِنْ خِلالِ الزُّجاجِ الْمُلَوَّنِ، فَإِنَّني أرى الضَّوْءَ بأَلْوانٍ مُخْتَلِفَةٍ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619920"/>
            <a:ext cx="438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أُحَدِّدُ الأَشْكالَ.</a:t>
            </a:r>
            <a:endParaRPr b="0" lang="en-US" sz="5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60872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059360"/>
            <a:ext cx="32400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1:20:49Z</dcterms:modified>
  <cp:revision>34</cp:revision>
  <dc:subject/>
  <dc:title>PowerPoint Presentation</dc:title>
</cp:coreProperties>
</file>