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larm_1.wav" ContentType="audio/x-wav"/>
  <Override PartName="/ppt/media/CLICKER(1).WAV" ContentType="audio/x-wav"/>
  <Override PartName="/ppt/media/CNNTONE.WAV" ContentType="audio/x-wav"/>
  <Override PartName="/ppt/media/image2.wmf" ContentType="image/x-wmf"/>
  <Override PartName="/ppt/media/image1.wmf" ContentType="image/x-wmf"/>
  <Override PartName="/ppt/media/CHEEPCHP.WAV" ContentType="audio/x-wav"/>
  <Override PartName="/ppt/media/image5.wmf" ContentType="image/x-wmf"/>
  <Override PartName="/ppt/media/image3.wmf" ContentType="image/x-wmf"/>
  <Override PartName="/ppt/media/image4.wmf" ContentType="image/x-wmf"/>
  <Override PartName="/ppt/media/suction.wav" ContentType="audio/x-wav"/>
  <Override PartName="/ppt/media/compress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3CDC-CA0B-4620-B52E-DC467AF09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06C3-04AD-4E05-8F1A-BFF1C6305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CB70-1B20-4268-A291-75A520310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1E66-D425-4768-8B6C-1B0646D2D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F867-0DAE-4F82-9D17-61C1F248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0F015-8D3F-42B2-BD03-8FF35105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13DBA-AC5B-411B-8F95-FFF89A0B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499C4-5D2B-48A5-84A1-212CC70EF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E7CE6-90BB-40E6-8B0F-BDBC52FC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FFDE6-FC5B-4C09-994B-E01A06B0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10781-277A-4DBB-A327-E21E1B59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8A48-E9A8-436F-A712-ADCD94E6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27FA6-E3DD-4851-86E6-574667E9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05F1-F54E-446F-A17F-21E1A5C6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58362-AE69-4030-BA2C-EE6DC0313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B51F9-BD72-46DC-A8B3-3CB08A8DD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448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4720" y="243828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5238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9448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4720" y="3951000"/>
            <a:ext cx="2257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0927-04ED-4213-8198-1705EBA0E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6CF1-0A9D-4F9F-B665-6ECAAECB4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1B87-1313-4788-A0D3-B7A737481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FA6C-1F35-4FED-84C5-21BD2D3E5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371600"/>
            <a:ext cx="701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D0D6-697D-4A6F-B04E-1813DFC47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2A65-34B7-47F6-B4FF-8827996A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395100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6852-1C2C-4D13-BDF5-F19C328D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2438280"/>
            <a:ext cx="34210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951000"/>
            <a:ext cx="701064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6A287-F7B8-4E9C-AB41-7DD905C6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371600"/>
            <a:ext cx="7010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2438280"/>
            <a:ext cx="701064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12640" indent="-19692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78840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0412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419480" indent="-1576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71EB6-5012-4635-982B-C45070CA7EBE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1540F-B9F2-4EC0-AA5A-219F0D68792D}" type="slidenum">
              <a:rPr b="0" lang="ar-SA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larm_1.wav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NNTONE.WAV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CHEEPCHP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audio" Target="../media/suction.wav"/><Relationship Id="rId4" Type="http://schemas.openxmlformats.org/officeDocument/2006/relationships/audio" Target="../media/CLICKER(1).WAV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suction.wav"/><Relationship Id="rId3" Type="http://schemas.openxmlformats.org/officeDocument/2006/relationships/audio" Target="../media/compress.wav"/><Relationship Id="rId4" Type="http://schemas.openxmlformats.org/officeDocument/2006/relationships/audio" Target="../media/compress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755640" y="2838600"/>
            <a:ext cx="7920000" cy="21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600" spc="1" strike="noStrike">
                <a:ln w="38160">
                  <a:solidFill>
                    <a:srgbClr val="ffffcc"/>
                  </a:solidFill>
                  <a:miter/>
                </a:ln>
                <a:gradFill rotWithShape="0">
                  <a:gsLst>
                    <a:gs pos="0">
                      <a:srgbClr val="0593bf"/>
                    </a:gs>
                    <a:gs pos="50000">
                      <a:srgbClr val="00ffff"/>
                    </a:gs>
                    <a:gs pos="100000">
                      <a:srgbClr val="0593bf"/>
                    </a:gs>
                  </a:gsLst>
                  <a:lin ang="8100000"/>
                </a:gradFill>
                <a:effectLst>
                  <a:outerShdw dist="660360" dir="5334402" blurRad="0" rotWithShape="0">
                    <a:srgbClr val="000000">
                      <a:alpha val="70000"/>
                    </a:srgbClr>
                  </a:outerShdw>
                </a:effectLst>
                <a:latin typeface="Hesham Gornata"/>
              </a:rPr>
              <a:t>الآلات البسيطة</a:t>
            </a:r>
            <a:endParaRPr b="1" lang="en-US" sz="6600" spc="1" strike="noStrike">
              <a:ln w="38160">
                <a:solidFill>
                  <a:srgbClr val="ffffcc"/>
                </a:solidFill>
                <a:miter/>
              </a:ln>
              <a:gradFill rotWithShape="0">
                <a:gsLst>
                  <a:gs pos="0">
                    <a:srgbClr val="0593bf"/>
                  </a:gs>
                  <a:gs pos="50000">
                    <a:srgbClr val="00ffff"/>
                  </a:gs>
                  <a:gs pos="100000">
                    <a:srgbClr val="0593bf"/>
                  </a:gs>
                </a:gsLst>
                <a:lin ang="8100000"/>
              </a:gradFill>
              <a:effectLst>
                <a:outerShdw dist="660360" dir="5334402" blurRad="0" rotWithShape="0">
                  <a:srgbClr val="000000">
                    <a:alpha val="70000"/>
                  </a:srgbClr>
                </a:outerShdw>
              </a:effectLst>
              <a:latin typeface="Hesham Gornata"/>
              <a:ea typeface="Hesham Gornat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larm_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00000" y="2421000"/>
            <a:ext cx="734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يَصْعُبُ عَلَيَّ أَحْياناً تَحْريكُ الأَشْياءِ؛ لِذَا، فَقَدْ أحْتاجُ إِلى شَيْءٍ يُسَاعِدُني عَلَى تَحْريكِها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NNTON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76360" y="2060640"/>
            <a:ext cx="6408720" cy="25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الآلَةُ الْبَسيطَةُ أَداةٌ تُسَهِّلُ تَحْريكَ الأَشْياءِ. وَتُساعِدُ النّاسَ عَلى إِنْجازِ بَعْضِ الأَعْمالِ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050920" y="4221000"/>
            <a:ext cx="458316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84360" y="2006280"/>
            <a:ext cx="7488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اَلْبَكَرَةُ عَجَلَةٌ يُحَرِّكُهَا حَبْلٌ. وَهِيَ تُساعِدُ عَلى رَفْعِ الأَشْياءِ الثَّقيلَةِ. كَمَا تُساعِدُ عَلى حَمْلِ الأَشْياءِ إلى أَماكِنَ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46600" y="1506600"/>
            <a:ext cx="5965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5400" spc="-1" strike="noStrike">
                <a:solidFill>
                  <a:srgbClr val="ff00ff"/>
                </a:solidFill>
                <a:latin typeface="Times New Roman"/>
              </a:rPr>
              <a:t>الَبْكَرَةَ آلَةٌ بَسيطَةٌ</a:t>
            </a:r>
            <a:r>
              <a:rPr b="1" lang="ar-SA" sz="5400" spc="-1" strike="noStrike">
                <a:solidFill>
                  <a:srgbClr val="ff00ff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9280" y="692280"/>
            <a:ext cx="266400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700360" y="907920"/>
            <a:ext cx="4392720" cy="1008360"/>
          </a:xfrm>
          <a:custGeom>
            <a:avLst/>
            <a:gdLst>
              <a:gd name="textAreaLeft" fmla="*/ 118800 w 4392720"/>
              <a:gd name="textAreaRight" fmla="*/ 4273920 w 4392720"/>
              <a:gd name="textAreaTop" fmla="*/ 118800 h 1008360"/>
              <a:gd name="textAreaBottom" fmla="*/ 889560 h 1008360"/>
            </a:gdLst>
            <a:ahLst/>
            <a:rect l="textAreaLeft" t="textAreaTop" r="textAreaRight" b="textAreaBottom"/>
            <a:pathLst>
              <a:path w="9407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90470" y="21600"/>
                </a:lnTo>
                <a:arcTo wR="3600" hR="3600" stAng="10800000" swAng="5400000"/>
                <a:lnTo>
                  <a:pt x="9407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50000">
                <a:srgbClr val="0593bf"/>
              </a:gs>
              <a:gs pos="100000">
                <a:srgbClr val="00ff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00ff"/>
                </a:solidFill>
                <a:latin typeface="Times New Roman"/>
              </a:rPr>
              <a:t>الرَّوافِعُ</a:t>
            </a:r>
            <a:r>
              <a:rPr b="1" lang="ar-SA" sz="6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2637000"/>
            <a:ext cx="8028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اَلرّافِعَةُ آلَةٌ بَسيطَةٌ. وَهِيَ قَضيبٌ يَرتَكِزُ عَلَى نُقْطَةٍ مُعَيَّنَةٍ</a:t>
            </a:r>
            <a:r>
              <a:rPr b="1" lang="ar-SA" sz="4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539640" y="4149720"/>
            <a:ext cx="4572000" cy="21160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796000" y="4076640"/>
            <a:ext cx="2581200" cy="22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ER(1)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3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27640" y="907920"/>
            <a:ext cx="3744720" cy="1008360"/>
          </a:xfrm>
          <a:custGeom>
            <a:avLst/>
            <a:gdLst>
              <a:gd name="textAreaLeft" fmla="*/ 118800 w 3744720"/>
              <a:gd name="textAreaRight" fmla="*/ 3625920 w 3744720"/>
              <a:gd name="textAreaTop" fmla="*/ 118800 h 1008360"/>
              <a:gd name="textAreaBottom" fmla="*/ 889560 h 1008360"/>
            </a:gdLst>
            <a:ahLst/>
            <a:rect l="textAreaLeft" t="textAreaTop" r="textAreaRight" b="textAreaBottom"/>
            <a:pathLst>
              <a:path w="8019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76594" y="21600"/>
                </a:lnTo>
                <a:arcTo wR="3600" hR="3600" stAng="10800000" swAng="5400000"/>
                <a:lnTo>
                  <a:pt x="80194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00ffff"/>
              </a:gs>
              <a:gs pos="50000">
                <a:srgbClr val="0593bf"/>
              </a:gs>
              <a:gs pos="100000">
                <a:srgbClr val="00ffff"/>
              </a:gs>
            </a:gsLst>
            <a:lin ang="81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00ff"/>
                </a:solidFill>
                <a:latin typeface="Times New Roman"/>
              </a:rPr>
              <a:t>اَلسَّطْحُ الْمائِل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2708280"/>
            <a:ext cx="85330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أَيْضاً آلَةٌ بَسيطَةٌ. يُسْتَخْدَمُ السَّطْحُ الْمائِلُ لِتَحْريكِ الأَشْياءِ إِلى الأَعْلى أوَ إِلى الأَسْفَلِ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يُسْتَخْدَمُ السَّطْحُ الْمائِلُ أَحْياناً لِتَحْريكِ أَشْياءٍ يَصْعُبُ تَحْريكُها إلى الأَعْلَى أو عَلى السُّلَّمِ</a:t>
            </a:r>
            <a:r>
              <a:rPr b="1" lang="ar-SA" sz="4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24638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mpre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mpre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10:25:04Z</dcterms:modified>
  <cp:revision>37</cp:revision>
  <dc:subject/>
  <dc:title>PowerPoint Presentation</dc:title>
</cp:coreProperties>
</file>