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8.wmf" ContentType="image/x-wmf"/>
  <Override PartName="/ppt/media/image1.jpeg" ContentType="image/jpeg"/>
  <Override PartName="/ppt/media/image4.wmf" ContentType="image/x-wmf"/>
  <Override PartName="/ppt/media/BOINGG.WAV" ContentType="audio/x-wav"/>
  <Override PartName="/ppt/media/image2.jpeg" ContentType="image/jpeg"/>
  <Override PartName="/ppt/media/CHEEPCHP.WAV" ContentType="audio/x-wav"/>
  <Override PartName="/ppt/media/music.wav" ContentType="audio/x-wav"/>
  <Override PartName="/ppt/media/image3.wmf" ContentType="image/x-wmf"/>
  <Override PartName="/ppt/media/image5.jpeg" ContentType="image/jpeg"/>
  <Override PartName="/ppt/media/compress.wav" ContentType="audio/x-wav"/>
  <Override PartName="/ppt/media/HITWALL.WAV" ContentType="audio/x-wav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AEA-856D-4CA6-A301-C1FBCAEE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8EE-A69E-414C-BFE7-744C1872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92C-2E47-4791-BC81-2166274C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F8A-C30C-49A2-845A-F224A0D3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4FAE-5D6E-4AAB-8FD8-95623BEB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FF2F-7580-47BC-B287-81C58486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AC7D-DD56-434D-B60F-385D881A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C28F-B214-48AB-A2A4-7F4101EF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B3E1-CA05-4EC5-BB04-FC30743C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D6F9-80BB-4926-912B-289358BB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BD00-FCA0-479F-AA24-0F8DD367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64B-2628-4B3C-B062-465BC8B3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9038-FCAD-4C75-9D74-C776CC89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8B68-5D6C-4371-9E6A-C0FC672D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F272-F7D3-4624-8B71-86800317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27CB-31C3-4CBC-9AC1-22632515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8E7F-C85D-4154-8AAB-CF1B738F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41D-3F07-45B0-B057-EA70A247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DE8-EDF2-4C8C-B804-1D174153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263-123B-4FC2-988F-85D97B41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DC9-7785-4A5E-958F-A45934DB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759-0A39-4BF9-AF34-CED3581B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C76-3092-4150-AF37-30D31314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566-C599-47F1-8A92-36C88D20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2F93-B787-41A4-822D-3E7A81EFB92D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DC8F-1CBC-4260-B6B6-936CC069A710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EEPCHP.WAV"/><Relationship Id="rId3" Type="http://schemas.openxmlformats.org/officeDocument/2006/relationships/audio" Target="../media/music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HEEPCHP.WAV"/><Relationship Id="rId4" Type="http://schemas.openxmlformats.org/officeDocument/2006/relationships/audio" Target="../media/music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audio" Target="../media/HITWALL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BOINGG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BOINGG.WAV"/><Relationship Id="rId4" Type="http://schemas.openxmlformats.org/officeDocument/2006/relationships/audio" Target="../media/compress.wav"/><Relationship Id="rId5" Type="http://schemas.openxmlformats.org/officeDocument/2006/relationships/audio" Target="../media/compress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32000" y="765000"/>
            <a:ext cx="3488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وحدة الخامسة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2492280"/>
            <a:ext cx="79916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المـــادة</a:t>
            </a:r>
            <a:endParaRPr b="1" lang="en-US" sz="72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32000" y="765000"/>
            <a:ext cx="3488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أول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2492280"/>
            <a:ext cx="79916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صفات المواد</a:t>
            </a:r>
            <a:endParaRPr b="1" lang="en-US" sz="72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251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2852640"/>
            <a:ext cx="79200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عِنْدما نَصِفُ شَيْئًا ما فَإِنّنا نَتَحَدَّثُ عَنْ صِفاتٍه، مِثْلِ: اللَّوْنِ، والشَّكْلِ، وَالْحَجْمِ، وَالْمَلْمَسِ، وَالرَّائِحَةِ، وَالطَّعْمِ، وَالصَّوْتِ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1052640"/>
            <a:ext cx="357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800000"/>
                </a:solidFill>
                <a:latin typeface="Times New Roman"/>
              </a:rPr>
              <a:t>ما اَلْمَادَّةُ</a:t>
            </a:r>
            <a:endParaRPr b="0" lang="en-US" sz="9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097440" cy="1654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5013360"/>
            <a:ext cx="32050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TWA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19640" y="620640"/>
            <a:ext cx="5724360" cy="1079640"/>
          </a:xfrm>
          <a:custGeom>
            <a:avLst/>
            <a:gdLst>
              <a:gd name="textAreaLeft" fmla="*/ 892440 w 5724360"/>
              <a:gd name="textAreaRight" fmla="*/ 4831920 w 5724360"/>
              <a:gd name="textAreaTop" fmla="*/ 13500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3" y="0"/>
                </a:lnTo>
                <a:arcTo wR="675" hR="675" stAng="16200000" swAng="5400000"/>
                <a:lnTo>
                  <a:pt x="6068" y="2700"/>
                </a:lnTo>
                <a:lnTo>
                  <a:pt x="15532" y="2700"/>
                </a:lnTo>
                <a:lnTo>
                  <a:pt x="1553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232" y="18900"/>
                </a:lnTo>
                <a:lnTo>
                  <a:pt x="18232" y="20925"/>
                </a:lnTo>
                <a:arcTo wR="675" hR="675" stAng="0" swAng="5400000"/>
                <a:lnTo>
                  <a:pt x="4043" y="21600"/>
                </a:lnTo>
                <a:arcTo wR="675" hR="675" stAng="5400000" swAng="5400000"/>
                <a:lnTo>
                  <a:pt x="336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068" y="675"/>
                </a:moveTo>
                <a:arcTo wR="675" hR="675" stAng="0" swAng="5400000"/>
                <a:lnTo>
                  <a:pt x="4043" y="1350"/>
                </a:lnTo>
                <a:arcTo wR="675" hR="675" stAng="16200000" swAng="-5400000"/>
                <a:arcTo wR="675" hR="675" stAng="10800000" swAng="-5400000"/>
                <a:lnTo>
                  <a:pt x="6068" y="2700"/>
                </a:lnTo>
              </a:path>
              <a:path fill="none" w="21600" h="21600">
                <a:moveTo>
                  <a:pt x="15532" y="675"/>
                </a:moveTo>
                <a:arcTo wR="675" hR="675" stAng="10800000" swAng="-5400000"/>
                <a:lnTo>
                  <a:pt x="17557" y="1350"/>
                </a:lnTo>
                <a:arcTo wR="675" hR="675" stAng="16200000" swAng="5400000"/>
                <a:arcTo wR="675" hR="675" stAng="0" swAng="5400000"/>
                <a:lnTo>
                  <a:pt x="15532" y="2700"/>
                </a:lnTo>
              </a:path>
              <a:path fill="none" w="21600" h="21600">
                <a:moveTo>
                  <a:pt x="3368" y="2025"/>
                </a:moveTo>
                <a:lnTo>
                  <a:pt x="3368" y="18900"/>
                </a:lnTo>
              </a:path>
              <a:path fill="none" w="21600" h="21600">
                <a:moveTo>
                  <a:pt x="18232" y="2025"/>
                </a:moveTo>
                <a:lnTo>
                  <a:pt x="18232" y="18900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99ff33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0000"/>
                </a:solidFill>
                <a:latin typeface="Times New Roman"/>
              </a:rPr>
              <a:t>حالات المادة</a:t>
            </a:r>
            <a:r>
              <a:rPr b="1" lang="ar-SA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205000"/>
            <a:ext cx="82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ُوْجَدُ المَادَةُ فِي ثَلاثِ حالاتٍ، هِيَ: الصُّلْبَةُ، السائلة ، الغازية ,رغم معرفتنا الجيدة لهذه الحقيقة الا انه علينا توضيحها من الناحية الفيزيائية فهناك مواد يمكن تحويلها من سائل الى غاز بالتسخين واخرى بتأثير التسخين تحول من صلبة الى سائلة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43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8000" y="549360"/>
            <a:ext cx="5616720" cy="1222200"/>
          </a:xfrm>
          <a:custGeom>
            <a:avLst/>
            <a:gdLst>
              <a:gd name="textAreaLeft" fmla="*/ 875520 w 5616720"/>
              <a:gd name="textAreaRight" fmla="*/ 4741200 w 5616720"/>
              <a:gd name="textAreaTop" fmla="*/ 152640 h 1222200"/>
              <a:gd name="textAreaBottom" fmla="*/ 12225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3" y="0"/>
                </a:lnTo>
                <a:arcTo wR="675" hR="675" stAng="16200000" swAng="5400000"/>
                <a:lnTo>
                  <a:pt x="6068" y="2700"/>
                </a:lnTo>
                <a:lnTo>
                  <a:pt x="15532" y="2700"/>
                </a:lnTo>
                <a:lnTo>
                  <a:pt x="1553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232" y="18900"/>
                </a:lnTo>
                <a:lnTo>
                  <a:pt x="18232" y="20925"/>
                </a:lnTo>
                <a:arcTo wR="675" hR="675" stAng="0" swAng="5400000"/>
                <a:lnTo>
                  <a:pt x="4043" y="21600"/>
                </a:lnTo>
                <a:arcTo wR="675" hR="675" stAng="5400000" swAng="5400000"/>
                <a:lnTo>
                  <a:pt x="336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068" y="675"/>
                </a:moveTo>
                <a:arcTo wR="675" hR="675" stAng="0" swAng="5400000"/>
                <a:lnTo>
                  <a:pt x="4043" y="1350"/>
                </a:lnTo>
                <a:arcTo wR="675" hR="675" stAng="16200000" swAng="-5400000"/>
                <a:arcTo wR="675" hR="675" stAng="10800000" swAng="-5400000"/>
                <a:lnTo>
                  <a:pt x="6068" y="2700"/>
                </a:lnTo>
              </a:path>
              <a:path fill="none" w="21600" h="21600">
                <a:moveTo>
                  <a:pt x="15532" y="675"/>
                </a:moveTo>
                <a:arcTo wR="675" hR="675" stAng="10800000" swAng="-5400000"/>
                <a:lnTo>
                  <a:pt x="17557" y="1350"/>
                </a:lnTo>
                <a:arcTo wR="675" hR="675" stAng="16200000" swAng="5400000"/>
                <a:arcTo wR="675" hR="675" stAng="0" swAng="5400000"/>
                <a:lnTo>
                  <a:pt x="15532" y="2700"/>
                </a:lnTo>
              </a:path>
              <a:path fill="none" w="21600" h="21600">
                <a:moveTo>
                  <a:pt x="3368" y="2025"/>
                </a:moveTo>
                <a:lnTo>
                  <a:pt x="3368" y="18900"/>
                </a:lnTo>
              </a:path>
              <a:path fill="none" w="21600" h="21600">
                <a:moveTo>
                  <a:pt x="18232" y="2025"/>
                </a:moveTo>
                <a:lnTo>
                  <a:pt x="18232" y="18900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99ff33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006600"/>
                </a:solidFill>
                <a:latin typeface="Times New Roman"/>
              </a:rPr>
              <a:t>ما الْكُتْلَةُ؟</a:t>
            </a:r>
            <a:endParaRPr b="0" lang="en-US" sz="6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421000"/>
            <a:ext cx="8820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ْكُتْلَةُ أَيْضًا صِفَةٌ لِلْمادَّةِ. والْكُتْلةَُ هِيَ كَمِّيِّةُ الْمَادَّةِ الْمَوْجودَةُ في الشَّيْءِ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أَشْياءُ جَميعُها لَها كُتْلَةٌ، لَكِنَّ الأَشْياءَ تَخْتَلِفُ في كُتْلَتِها. فَالأَشْياءُ الثَّقيلَةُ لَها كُتْلَةٌ أَكْبَرُ مِنْ كُتْلَةِ الأَشْياءِ الْخَفيفَةِ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4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2843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507960"/>
            <a:ext cx="8209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000000"/>
                </a:solidFill>
                <a:latin typeface="Times New Roman"/>
              </a:rPr>
              <a:t>يسُتْخَْدمَ الْميزانُ لِقياسِ الْكُتْلَةِ.</a:t>
            </a:r>
            <a:endParaRPr b="0" lang="en-US" sz="6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56000" y="3068640"/>
            <a:ext cx="4392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2:39:23Z</dcterms:modified>
  <cp:revision>32</cp:revision>
  <dc:subject/>
  <dc:title>PowerPoint Presentation</dc:title>
</cp:coreProperties>
</file>