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HEEPCHP.WAV" ContentType="audio/x-wav"/>
  <Override PartName="/ppt/media/music.wav" ContentType="audio/x-wav"/>
  <Override PartName="/ppt/media/image1.wmf" ContentType="image/x-wmf"/>
  <Override PartName="/ppt/media/BWINGING.WAV" ContentType="audio/x-wav"/>
  <Override PartName="/ppt/media/suction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9943-4C00-4559-B7CA-C2BCBB5BF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26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C2B8-5C4F-4D92-A378-D7CB80E2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347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26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347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2083-A2DE-42BC-8312-C32669A65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32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8348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26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32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8348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B4B9-3464-4BAF-A673-976D34CD0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581DC-19FB-44A5-BF11-D5A1415B1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1426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675D-463A-4F27-BFCA-36E4C92D0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A6870-D986-40A0-8D38-B408C6790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347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331B-5968-48AE-8DD1-C3E389BD9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01CCD-24F7-438A-B67F-59CF345E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8A2F-AAF3-4E3C-9F49-4C8BE861E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347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426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7839-0D8D-4CCE-8D3D-1AB235440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26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90428-0D48-4BB6-AD95-EA569774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347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347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EFEDB-64A0-47D8-BD5C-43DD21BC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347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1426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55A5-D8E9-48EB-A607-D965BEFD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1426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9C15-DD45-4FD5-B132-982DA5AE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347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426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347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3C004-7F69-4617-A24A-63A6D8C9B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324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883480" y="19807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1426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324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883480" y="4090320"/>
            <a:ext cx="225720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22BBA-E937-4D7D-B2C2-F68B664C1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136F-AE66-4821-982A-0BB0C8397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347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91DD-B478-469C-AFA6-B2595829B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651D-1AB5-4715-9B06-5348B6D61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58E5B-2583-47BF-99D9-2CF388E1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3472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264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441E-A5EC-4AA8-96A6-651B2CF1E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342072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347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34720" y="40903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667F-061D-4D39-8173-DCEC2CAC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264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34720" y="1980720"/>
            <a:ext cx="342072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2640" y="4090320"/>
            <a:ext cx="7010280" cy="192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6A66-3715-4D67-A17A-46126151D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2640" y="68544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2640" y="1980720"/>
            <a:ext cx="70102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1B463-2FD4-4ABE-A9FE-B2C583AD6393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117A-C1D7-4A69-9866-4B5CF670D412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EEPCHP.WAV"/><Relationship Id="rId2" Type="http://schemas.openxmlformats.org/officeDocument/2006/relationships/audio" Target="../media/music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BWINGING.WAV"/><Relationship Id="rId2" Type="http://schemas.openxmlformats.org/officeDocument/2006/relationships/audio" Target="../media/suction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771640" y="765000"/>
            <a:ext cx="367200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الدرس الثالث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971640" y="2997360"/>
            <a:ext cx="763272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latin typeface="Hesham AlSharq"/>
              </a:rPr>
              <a:t>كتابة علمية ( تغير الفصول )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latin typeface="Hesham AlSharq"/>
              <a:ea typeface="Hesham AlSharq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EEPCH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us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43280" y="115920"/>
            <a:ext cx="4680000" cy="907920"/>
          </a:xfrm>
          <a:custGeom>
            <a:avLst/>
            <a:gdLst>
              <a:gd name="textAreaLeft" fmla="*/ 736920 w 4680000"/>
              <a:gd name="textAreaRight" fmla="*/ 3943080 w 4680000"/>
              <a:gd name="textAreaTop" fmla="*/ 113400 h 907920"/>
              <a:gd name="textAreaBottom" fmla="*/ 908280 h 90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27" y="0"/>
                </a:lnTo>
                <a:arcTo wR="675" hR="675" stAng="16200000" swAng="5400000"/>
                <a:lnTo>
                  <a:pt x="6102" y="2700"/>
                </a:lnTo>
                <a:lnTo>
                  <a:pt x="15498" y="2700"/>
                </a:lnTo>
                <a:lnTo>
                  <a:pt x="1549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198" y="18900"/>
                </a:lnTo>
                <a:lnTo>
                  <a:pt x="18198" y="20925"/>
                </a:lnTo>
                <a:arcTo wR="675" hR="675" stAng="0" swAng="5400000"/>
                <a:lnTo>
                  <a:pt x="4077" y="21600"/>
                </a:lnTo>
                <a:arcTo wR="675" hR="675" stAng="5400000" swAng="5400000"/>
                <a:lnTo>
                  <a:pt x="340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6102" y="675"/>
                </a:moveTo>
                <a:arcTo wR="675" hR="675" stAng="0" swAng="5400000"/>
                <a:lnTo>
                  <a:pt x="4077" y="1350"/>
                </a:lnTo>
                <a:arcTo wR="675" hR="675" stAng="16200000" swAng="-5400000"/>
                <a:arcTo wR="675" hR="675" stAng="10800000" swAng="-5400000"/>
                <a:lnTo>
                  <a:pt x="6102" y="2700"/>
                </a:lnTo>
              </a:path>
              <a:path fill="none" w="21600" h="21600">
                <a:moveTo>
                  <a:pt x="15498" y="675"/>
                </a:moveTo>
                <a:arcTo wR="675" hR="675" stAng="10800000" swAng="-5400000"/>
                <a:lnTo>
                  <a:pt x="17523" y="1350"/>
                </a:lnTo>
                <a:arcTo wR="675" hR="675" stAng="16200000" swAng="5400000"/>
                <a:arcTo wR="675" hR="675" stAng="0" swAng="5400000"/>
                <a:lnTo>
                  <a:pt x="15498" y="2700"/>
                </a:lnTo>
              </a:path>
              <a:path fill="none" w="21600" h="21600">
                <a:moveTo>
                  <a:pt x="3402" y="2025"/>
                </a:moveTo>
                <a:lnTo>
                  <a:pt x="3402" y="18900"/>
                </a:lnTo>
              </a:path>
              <a:path fill="none" w="21600" h="21600">
                <a:moveTo>
                  <a:pt x="18198" y="2025"/>
                </a:moveTo>
                <a:lnTo>
                  <a:pt x="18198" y="18900"/>
                </a:lnTo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0099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فى الصورة الاولى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5640" y="1172520"/>
            <a:ext cx="80643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(  فصل الربيع ) : يكون الطقس مشمسا  لِساعاتٍ طَويلَةٍ، فيُدْفِئُ الْيابِسَةَ وَالْهَواءَ وَالْماءَ. وتَنْمُو النَّباتاتُ. وَيَتوافَرُ لِلْحَيَواناتِ طَعامٌ كَثيرٌ. وَتَنْموَ صِغارُها، وَتُصْبِحُ أَكْبَرَ وَأَقْوى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116000" y="4724280"/>
            <a:ext cx="388944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55640" y="2637000"/>
            <a:ext cx="7956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ـ ( فصل الشِّتاءُ) :  أَكْثَرُ الْفُصولِ بُرودَةً. يَكونُ الطَّقْسُ فِيْهِ مُشْمِسًا لِساعاتٍ قَليلَةٍ، وَتَتَسَاقَطُ فِيْه الأَمْطارُ، وَأَحْيانًا البَرَدُ والثُّلوجُ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411280" y="620640"/>
            <a:ext cx="5112000" cy="908280"/>
          </a:xfrm>
          <a:custGeom>
            <a:avLst/>
            <a:gdLst>
              <a:gd name="textAreaLeft" fmla="*/ 804960 w 5112000"/>
              <a:gd name="textAreaRight" fmla="*/ 4307040 w 5112000"/>
              <a:gd name="textAreaTop" fmla="*/ 113400 h 908280"/>
              <a:gd name="textAreaBottom" fmla="*/ 908640 h 908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27" y="0"/>
                </a:lnTo>
                <a:arcTo wR="675" hR="675" stAng="16200000" swAng="5400000"/>
                <a:lnTo>
                  <a:pt x="6102" y="2700"/>
                </a:lnTo>
                <a:lnTo>
                  <a:pt x="15498" y="2700"/>
                </a:lnTo>
                <a:lnTo>
                  <a:pt x="1549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198" y="18900"/>
                </a:lnTo>
                <a:lnTo>
                  <a:pt x="18198" y="20925"/>
                </a:lnTo>
                <a:arcTo wR="675" hR="675" stAng="0" swAng="5400000"/>
                <a:lnTo>
                  <a:pt x="4077" y="21600"/>
                </a:lnTo>
                <a:arcTo wR="675" hR="675" stAng="5400000" swAng="5400000"/>
                <a:lnTo>
                  <a:pt x="340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6102" y="675"/>
                </a:moveTo>
                <a:arcTo wR="675" hR="675" stAng="0" swAng="5400000"/>
                <a:lnTo>
                  <a:pt x="4077" y="1350"/>
                </a:lnTo>
                <a:arcTo wR="675" hR="675" stAng="16200000" swAng="-5400000"/>
                <a:arcTo wR="675" hR="675" stAng="10800000" swAng="-5400000"/>
                <a:lnTo>
                  <a:pt x="6102" y="2700"/>
                </a:lnTo>
              </a:path>
              <a:path fill="none" w="21600" h="21600">
                <a:moveTo>
                  <a:pt x="15498" y="675"/>
                </a:moveTo>
                <a:arcTo wR="675" hR="675" stAng="10800000" swAng="-5400000"/>
                <a:lnTo>
                  <a:pt x="17523" y="1350"/>
                </a:lnTo>
                <a:arcTo wR="675" hR="675" stAng="16200000" swAng="5400000"/>
                <a:arcTo wR="675" hR="675" stAng="0" swAng="5400000"/>
                <a:lnTo>
                  <a:pt x="15498" y="2700"/>
                </a:lnTo>
              </a:path>
              <a:path fill="none" w="21600" h="21600">
                <a:moveTo>
                  <a:pt x="3402" y="2025"/>
                </a:moveTo>
                <a:lnTo>
                  <a:pt x="3402" y="18900"/>
                </a:lnTo>
              </a:path>
              <a:path fill="none" w="21600" h="21600">
                <a:moveTo>
                  <a:pt x="18198" y="2025"/>
                </a:moveTo>
                <a:lnTo>
                  <a:pt x="18198" y="18900"/>
                </a:lnTo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0099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فى الصورة الثاني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116000" y="4724280"/>
            <a:ext cx="388944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24000" y="978840"/>
            <a:ext cx="8208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أوجه الأختلاف بين الصورتي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3300"/>
                </a:solidFill>
                <a:latin typeface="Times New Roman"/>
              </a:rPr>
              <a:t>فى الصورة الأولى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 : الورود متفتحة والجو جميل و مشمس والسماء صافية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3300"/>
                </a:solidFill>
                <a:latin typeface="Times New Roman"/>
              </a:rPr>
              <a:t>فى الصورة الثانية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 : الجو بارد والجليد يتساقط والاشجار ليست مزهرة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763640" y="836640"/>
            <a:ext cx="6624720" cy="936720"/>
          </a:xfrm>
          <a:custGeom>
            <a:avLst/>
            <a:gdLst>
              <a:gd name="textAreaLeft" fmla="*/ 1043280 w 6624720"/>
              <a:gd name="textAreaRight" fmla="*/ 5581440 w 6624720"/>
              <a:gd name="textAreaTop" fmla="*/ 11700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27" y="0"/>
                </a:lnTo>
                <a:arcTo wR="675" hR="675" stAng="16200000" swAng="5400000"/>
                <a:lnTo>
                  <a:pt x="6102" y="2700"/>
                </a:lnTo>
                <a:lnTo>
                  <a:pt x="15498" y="2700"/>
                </a:lnTo>
                <a:lnTo>
                  <a:pt x="1549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198" y="18900"/>
                </a:lnTo>
                <a:lnTo>
                  <a:pt x="18198" y="20925"/>
                </a:lnTo>
                <a:arcTo wR="675" hR="675" stAng="0" swAng="5400000"/>
                <a:lnTo>
                  <a:pt x="4077" y="21600"/>
                </a:lnTo>
                <a:arcTo wR="675" hR="675" stAng="5400000" swAng="5400000"/>
                <a:lnTo>
                  <a:pt x="340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6102" y="675"/>
                </a:moveTo>
                <a:arcTo wR="675" hR="675" stAng="0" swAng="5400000"/>
                <a:lnTo>
                  <a:pt x="4077" y="1350"/>
                </a:lnTo>
                <a:arcTo wR="675" hR="675" stAng="16200000" swAng="-5400000"/>
                <a:arcTo wR="675" hR="675" stAng="10800000" swAng="-5400000"/>
                <a:lnTo>
                  <a:pt x="6102" y="2700"/>
                </a:lnTo>
              </a:path>
              <a:path fill="none" w="21600" h="21600">
                <a:moveTo>
                  <a:pt x="15498" y="675"/>
                </a:moveTo>
                <a:arcTo wR="675" hR="675" stAng="10800000" swAng="-5400000"/>
                <a:lnTo>
                  <a:pt x="17523" y="1350"/>
                </a:lnTo>
                <a:arcTo wR="675" hR="675" stAng="16200000" swAng="5400000"/>
                <a:arcTo wR="675" hR="675" stAng="0" swAng="5400000"/>
                <a:lnTo>
                  <a:pt x="15498" y="2700"/>
                </a:lnTo>
              </a:path>
              <a:path fill="none" w="21600" h="21600">
                <a:moveTo>
                  <a:pt x="3402" y="2025"/>
                </a:moveTo>
                <a:lnTo>
                  <a:pt x="3402" y="18900"/>
                </a:lnTo>
              </a:path>
              <a:path fill="none" w="21600" h="21600">
                <a:moveTo>
                  <a:pt x="18198" y="2025"/>
                </a:moveTo>
                <a:lnTo>
                  <a:pt x="18198" y="18900"/>
                </a:lnTo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0099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البس فى فصل الربيع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2349360"/>
            <a:ext cx="802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ff00"/>
                </a:solidFill>
                <a:latin typeface="Times New Roman"/>
              </a:rPr>
              <a:t>فى الربيع نلبس الملابس الخفيفة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WING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-1368720" y="3015720"/>
            <a:ext cx="1188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فى فصل الشتاء نلبس الملابس الثقيلة</a:t>
            </a: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ar-SA" sz="4800" spc="-1" strike="noStrike">
                <a:solidFill>
                  <a:srgbClr val="ffff00"/>
                </a:solidFill>
                <a:latin typeface="Times New Roman"/>
              </a:rPr>
              <a:t>.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92360" y="1052640"/>
            <a:ext cx="6624720" cy="936360"/>
          </a:xfrm>
          <a:custGeom>
            <a:avLst/>
            <a:gdLst>
              <a:gd name="textAreaLeft" fmla="*/ 1043280 w 6624720"/>
              <a:gd name="textAreaRight" fmla="*/ 5581440 w 6624720"/>
              <a:gd name="textAreaTop" fmla="*/ 117000 h 936360"/>
              <a:gd name="textAreaBottom" fmla="*/ 93672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27" y="0"/>
                </a:lnTo>
                <a:arcTo wR="675" hR="675" stAng="16200000" swAng="5400000"/>
                <a:lnTo>
                  <a:pt x="6102" y="2700"/>
                </a:lnTo>
                <a:lnTo>
                  <a:pt x="15498" y="2700"/>
                </a:lnTo>
                <a:lnTo>
                  <a:pt x="15498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198" y="18900"/>
                </a:lnTo>
                <a:lnTo>
                  <a:pt x="18198" y="20925"/>
                </a:lnTo>
                <a:arcTo wR="675" hR="675" stAng="0" swAng="5400000"/>
                <a:lnTo>
                  <a:pt x="4077" y="21600"/>
                </a:lnTo>
                <a:arcTo wR="675" hR="675" stAng="5400000" swAng="5400000"/>
                <a:lnTo>
                  <a:pt x="3402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6102" y="675"/>
                </a:moveTo>
                <a:arcTo wR="675" hR="675" stAng="0" swAng="5400000"/>
                <a:lnTo>
                  <a:pt x="4077" y="1350"/>
                </a:lnTo>
                <a:arcTo wR="675" hR="675" stAng="16200000" swAng="-5400000"/>
                <a:arcTo wR="675" hR="675" stAng="10800000" swAng="-5400000"/>
                <a:lnTo>
                  <a:pt x="6102" y="2700"/>
                </a:lnTo>
              </a:path>
              <a:path fill="none" w="21600" h="21600">
                <a:moveTo>
                  <a:pt x="15498" y="675"/>
                </a:moveTo>
                <a:arcTo wR="675" hR="675" stAng="10800000" swAng="-5400000"/>
                <a:lnTo>
                  <a:pt x="17523" y="1350"/>
                </a:lnTo>
                <a:arcTo wR="675" hR="675" stAng="16200000" swAng="5400000"/>
                <a:arcTo wR="675" hR="675" stAng="0" swAng="5400000"/>
                <a:lnTo>
                  <a:pt x="15498" y="2700"/>
                </a:lnTo>
              </a:path>
              <a:path fill="none" w="21600" h="21600">
                <a:moveTo>
                  <a:pt x="3402" y="2025"/>
                </a:moveTo>
                <a:lnTo>
                  <a:pt x="3402" y="18900"/>
                </a:lnTo>
              </a:path>
              <a:path fill="none" w="21600" h="21600">
                <a:moveTo>
                  <a:pt x="18198" y="2025"/>
                </a:moveTo>
                <a:lnTo>
                  <a:pt x="18198" y="18900"/>
                </a:lnTo>
              </a:path>
            </a:pathLst>
          </a:custGeom>
          <a:gradFill rotWithShape="0">
            <a:gsLst>
              <a:gs pos="0">
                <a:srgbClr val="ffffcc"/>
              </a:gs>
              <a:gs pos="50000">
                <a:srgbClr val="0099ff"/>
              </a:gs>
              <a:gs pos="100000">
                <a:srgbClr val="ffffcc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البس فى فصل الشتاء</a:t>
            </a:r>
            <a:r>
              <a:rPr b="1" lang="ar-SA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29T10:38:28Z</dcterms:modified>
  <cp:revision>30</cp:revision>
  <dc:subject/>
  <dc:title>PowerPoint Presentation</dc:title>
</cp:coreProperties>
</file>