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larm_1.wav" ContentType="audio/x-wav"/>
  <Override PartName="/ppt/media/CLICKER(1).WAV" ContentType="audio/x-wav"/>
  <Override PartName="/ppt/media/CNNTONE.WAV" ContentType="audio/x-wav"/>
  <Override PartName="/ppt/media/image2.wmf" ContentType="image/x-wmf"/>
  <Override PartName="/ppt/media/image1.wmf" ContentType="image/x-wmf"/>
  <Override PartName="/ppt/media/CHEEPCHP.WAV" ContentType="audio/x-wav"/>
  <Override PartName="/ppt/media/image5.wmf" ContentType="image/x-wmf"/>
  <Override PartName="/ppt/media/image3.wmf" ContentType="image/x-wmf"/>
  <Override PartName="/ppt/media/image4.wmf" ContentType="image/x-wmf"/>
  <Override PartName="/ppt/media/suction.wav" ContentType="audio/x-wav"/>
  <Override PartName="/ppt/media/compres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406-ACE2-428F-A36E-673A63F8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5C0-3740-4B7A-9D74-2E243A51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A85-6828-43FF-8D87-16FB504F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B96-6827-4A66-8519-33F19EBB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702D-C963-41C8-B904-0CDB3632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BB94-3CEC-4659-8ABB-C4B70C8F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D076-4CDF-415E-9923-0ED9EF18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86D9-F9D3-4E7A-ADD0-357C69B8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32EF-7F5B-4BB4-A5A2-0719F843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4705-5AD8-44E9-9D80-69DA2F2F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F897-3408-4C53-A8DA-D96314F5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822-543E-458E-A1B0-18EFC2E8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C575-51CD-4F20-A41A-92525FDD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2E71-4323-41D7-8504-28CF79DF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3DCA-4FB3-4904-AC31-CF712C31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92D1-2596-460C-9B2A-9FD7CC5C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50B0-694E-4A4C-BD52-0F123B01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190-8DFB-4A45-8673-6358FDDE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929-1F48-4496-A476-A8C7A263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DAA-CD88-4A24-BAED-20A40D7A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F28-9660-4EA3-82BC-FEB652FE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4B4-DB5E-466D-8B0C-E0B4961E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50E-BD9C-40F8-8685-BB2A27A5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EC0-6C35-4C9B-8CBE-99861F99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5884-BAB0-4AAA-9877-028EACE24CA1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39B4-0800-4F03-B838-25074B5C4F01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larm_1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NNTON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EEPCHP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ER(1)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uction.wav"/><Relationship Id="rId3" Type="http://schemas.openxmlformats.org/officeDocument/2006/relationships/audio" Target="../media/compress.wav"/><Relationship Id="rId4" Type="http://schemas.openxmlformats.org/officeDocument/2006/relationships/audio" Target="../media/compres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640" y="2838600"/>
            <a:ext cx="7920000" cy="21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38160">
                  <a:solidFill>
                    <a:srgbClr val="ffffcc"/>
                  </a:solidFill>
                  <a:miter/>
                </a:ln>
                <a:gradFill rotWithShape="0">
                  <a:gsLst>
                    <a:gs pos="0">
                      <a:srgbClr val="0593bf"/>
                    </a:gs>
                    <a:gs pos="50000">
                      <a:srgbClr val="00ffff"/>
                    </a:gs>
                    <a:gs pos="100000">
                      <a:srgbClr val="0593bf"/>
                    </a:gs>
                  </a:gsLst>
                  <a:lin ang="8100000"/>
                </a:gradFill>
                <a:effectLst>
                  <a:outerShdw dist="660360" dir="5334402" blurRad="0" rotWithShape="0">
                    <a:srgbClr val="000000">
                      <a:alpha val="70000"/>
                    </a:srgbClr>
                  </a:outerShdw>
                </a:effectLst>
                <a:latin typeface="Hesham Gornata"/>
              </a:rPr>
              <a:t>الآلات البسيطة</a:t>
            </a:r>
            <a:endParaRPr b="1" lang="en-US" sz="6600" spc="1" strike="noStrike">
              <a:ln w="38160">
                <a:solidFill>
                  <a:srgbClr val="ffffcc"/>
                </a:solidFill>
                <a:miter/>
              </a:ln>
              <a:gradFill rotWithShape="0">
                <a:gsLst>
                  <a:gs pos="0">
                    <a:srgbClr val="0593bf"/>
                  </a:gs>
                  <a:gs pos="50000">
                    <a:srgbClr val="00ffff"/>
                  </a:gs>
                  <a:gs pos="100000">
                    <a:srgbClr val="0593bf"/>
                  </a:gs>
                </a:gsLst>
                <a:lin ang="8100000"/>
              </a:gradFill>
              <a:effectLst>
                <a:outerShdw dist="660360" dir="5334402" blurRad="0" rotWithShape="0">
                  <a:srgbClr val="000000">
                    <a:alpha val="70000"/>
                  </a:srgbClr>
                </a:outerShdw>
              </a:effectLst>
              <a:latin typeface="Hesham Gornata"/>
              <a:ea typeface="Hesham Gornat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larm_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2421000"/>
            <a:ext cx="73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يَصْعُبُ عَلَيَّ أَحْياناً تَحْريكُ الأَشْياءِ؛ لِذَا، فَقَدْ أحْتاجُ إِلى شَيْءٍ يُسَاعِدُني عَلَى تَحْريكِها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NNT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2060640"/>
            <a:ext cx="64087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الآلَةُ الْبَسيطَةُ أَداةٌ تُسَهِّلُ تَحْريكَ الأَشْياءِ. وَتُساعِدُ النّاسَ عَلى إِنْجازِ بَعْضِ الأَعْمال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0920" y="4221000"/>
            <a:ext cx="45831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2006280"/>
            <a:ext cx="748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َلْبَكَرَةُ عَجَلَةٌ يُحَرِّكُهَا حَبْلٌ. وَهِيَ تُساعِدُ عَلى رَفْعِ الأَشْياءِ الثَّقيلَةِ. كَمَا تُساعِدُ عَلى حَمْلِ الأَشْياءِ إلى أَماكِن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6600" y="1506600"/>
            <a:ext cx="59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ff"/>
                </a:solidFill>
                <a:latin typeface="Times New Roman"/>
              </a:rPr>
              <a:t>الَبْكَرَةَ آلَةٌ بَسيطَةٌ</a:t>
            </a:r>
            <a:r>
              <a:rPr b="1" lang="ar-SA" sz="54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664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00360" y="907920"/>
            <a:ext cx="4392720" cy="1008360"/>
          </a:xfrm>
          <a:custGeom>
            <a:avLst/>
            <a:gdLst>
              <a:gd name="textAreaLeft" fmla="*/ 118800 w 4392720"/>
              <a:gd name="textAreaRight" fmla="*/ 4273920 w 439272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940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470" y="21600"/>
                </a:lnTo>
                <a:arcTo wR="3600" hR="3600" stAng="10800000" swAng="5400000"/>
                <a:lnTo>
                  <a:pt x="9407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593bf"/>
              </a:gs>
              <a:gs pos="100000">
                <a:srgbClr val="00ff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الرَّوافِعُ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37000"/>
            <a:ext cx="802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َلرّافِعَةُ آلَةٌ بَسيطَةٌ. وَهِيَ قَضيبٌ يَرتَكِزُ عَلَى نُقْطَةٍ مُعَيَّنَةٍ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4572000" cy="2116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6000" y="4076640"/>
            <a:ext cx="25812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27640" y="907920"/>
            <a:ext cx="3744720" cy="1008360"/>
          </a:xfrm>
          <a:custGeom>
            <a:avLst/>
            <a:gdLst>
              <a:gd name="textAreaLeft" fmla="*/ 118800 w 3744720"/>
              <a:gd name="textAreaRight" fmla="*/ 3625920 w 374472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801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594" y="21600"/>
                </a:lnTo>
                <a:arcTo wR="3600" hR="3600" stAng="10800000" swAng="5400000"/>
                <a:lnTo>
                  <a:pt x="8019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593bf"/>
              </a:gs>
              <a:gs pos="100000">
                <a:srgbClr val="00ff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imes New Roman"/>
              </a:rPr>
              <a:t>اَلسَّطْحُ الْمائِل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708280"/>
            <a:ext cx="853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أَيْضاً آلَةٌ بَسيطَةٌ. يُسْتَخْدَمُ السَّطْحُ الْمائِلُ لِتَحْريكِ الأَشْياءِ إِلى الأَعْلى أوَ إِلى الأَسْفَل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يُسْتَخْدَمُ السَّطْحُ الْمائِلُ أَحْياناً لِتَحْريكِ أَشْياءٍ يَصْعُبُ تَحْريكُها إلى الأَعْلَى أو عَلى السُّلَّم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463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0:25:04Z</dcterms:modified>
  <cp:revision>37</cp:revision>
  <dc:subject/>
  <dc:title>PowerPoint Presentation</dc:title>
</cp:coreProperties>
</file>