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LICKER.WAV" ContentType="audio/x-wav"/>
  <Override PartName="/ppt/media/image2.wmf" ContentType="image/x-wmf"/>
  <Override PartName="/ppt/media/chimes.wav" ContentType="audio/x-wav"/>
  <Override PartName="/ppt/media/image1.wmf" ContentType="image/x-wmf"/>
  <Override PartName="/ppt/media/CHEEPCHP.WAV" ContentType="audio/x-wav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0958D-65A5-4EC7-AFE3-1C5A75780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89CA-C037-402C-BF99-8FEE4A931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516-709E-4BED-B665-1AA9B1874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311F-563B-474B-B2F7-DC05544EC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C3762-B085-476B-978A-AE784331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3DF1-44D9-414C-A61D-74D45899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7ABB4-67AB-4CA4-A54C-DA55117F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36092-5644-47CA-825B-1799C329A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CCF8F-43B1-4F04-8791-40D225F78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F85B-5E33-4438-AD10-AE322F49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B65AB-363F-4907-8931-3F833A8A6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50C9-F1D9-41B2-A001-6F5A15F6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9E16-86FB-469F-AEB3-50847846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AA4B0-5FC4-4D41-93B0-1275CE64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5A61D-728C-4D06-8835-3F7DFA97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66184-D990-46E0-A47C-CC352B6BB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DFD0D-07E3-4CDC-8747-7456E4AA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0FDC-2C83-44C5-9629-0D9087BBD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9280-3667-49D0-8B0F-AAB1EEC3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C51B-CF65-4898-87AF-C91D611E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39D2-8993-45C9-88CB-B82F1842A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D4E-B6BC-413D-AF02-2AC78703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BC4E-2A3B-4E40-9BC4-C91F6D09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84F9-C909-4979-8786-AF171874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6F291-02DB-423A-95F8-C936EE6AF878}" type="slidenum">
              <a: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D81B-CA2A-4A45-8F1A-C2864B483AFB}" type="slidenum">
              <a:rPr b="0" lang="ar-SA" sz="1400" spc="-1" strike="noStrike">
                <a:solidFill>
                  <a:srgbClr val="0066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66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LICKER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EEPCHP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00360" y="189000"/>
            <a:ext cx="360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مهن مرتبطة بالعلوم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403280" y="2421000"/>
            <a:ext cx="5977080" cy="35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6666"/>
                  </a:solidFill>
                  <a:miter/>
                </a:ln>
                <a:solidFill>
                  <a:srgbClr val="000000"/>
                </a:solidFill>
                <a:latin typeface="FS_Diwany"/>
              </a:rPr>
              <a:t>الخبــاز</a:t>
            </a:r>
            <a:endParaRPr b="1" lang="en-US" sz="6000" spc="1" strike="noStrike">
              <a:ln w="9360">
                <a:solidFill>
                  <a:srgbClr val="006666"/>
                </a:solidFill>
                <a:miter/>
              </a:ln>
              <a:solidFill>
                <a:srgbClr val="000000"/>
              </a:solidFill>
              <a:latin typeface="FS_Diwany"/>
              <a:ea typeface="FS_Diwany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042920" y="2637000"/>
            <a:ext cx="70549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الخبز واحد من أهم العناصر الأساسية والغذائية لدى معظم الشعوب منذ قرون طويلة، وفيما يعتبر أول الأطعمة، تعتبر حرفة الخباز من أول الحرف التي عرفتها البشرية</a:t>
            </a: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br>
              <a:rPr sz="2800"/>
            </a:b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627280" y="836640"/>
            <a:ext cx="3888000" cy="15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1628640"/>
            <a:ext cx="741528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وبالإمكان رؤية أرغفة الخبز القديمة التي كان ينتجها ويصنعها الفراعنة قبل </a:t>
            </a: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5000</a:t>
            </a: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 سنة شاهدة للعيان في المتحف البريطاني حتى الآن إلى جانب حبوب القمح التي كانت تزرع، تحصد وتجفف على ضفاف النيل</a:t>
            </a:r>
            <a:r>
              <a:rPr b="1" lang="ar-EG" sz="4000" spc="-1" strike="noStrike">
                <a:solidFill>
                  <a:srgbClr val="ff00ff"/>
                </a:solidFill>
                <a:latin typeface="Times New Roman"/>
              </a:rPr>
              <a:t>.</a:t>
            </a:r>
            <a:r>
              <a:rPr b="1" lang="ar-EG" sz="2400" spc="-1" strike="noStrike">
                <a:solidFill>
                  <a:srgbClr val="0066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340000" y="4749840"/>
            <a:ext cx="38178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42920" y="1052640"/>
            <a:ext cx="7416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يُمَارِسُ الْخَبَّازُ مِهْنَةً جَلِيلَةً. فَهوَ يُعِّدُ لنَا الْخُبْرَ الذي نَأكُلَهُ</a:t>
            </a: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0066"/>
                </a:solidFill>
                <a:latin typeface="Times New Roman"/>
              </a:rPr>
              <a:t>يَخْلِطُ الْخَبَّازُ الْدَقِيقَ بِالْمَاءِ وبأشْيَاءَ أُخْرى لِعَمَل الْعَجِينِ، ويَتْرُكُهُ بَعْضَ الْوَقْتِ، حَتّى يُصْبِحَ جَاهِزًا لِلْخَبْزِ فِي الْفُرْنِ. الْحَرَارَةُ تُغَيِّرُ الْعَجِينَ بَعْدَ ذلكَ وَتجْعلُهُ خُبزًا</a:t>
            </a:r>
            <a:r>
              <a:rPr b="1" lang="ar-EG" sz="3600" spc="-1" strike="noStrike">
                <a:solidFill>
                  <a:srgbClr val="006666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3203640" y="4724280"/>
            <a:ext cx="311616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33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26920" y="1844640"/>
            <a:ext cx="73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0066"/>
                </a:solidFill>
                <a:latin typeface="Times New Roman"/>
              </a:rPr>
              <a:t>الْمَخَابِزُ الْحَدِيثَةُ تَسْتَخْدِمُ أدَواتٍ وَتَقَنِياتٍ مُتَطَوِّرَةً لإعْدَادِ مَأكُولاتٍ كَثِيْرَةٍ وَمُتَنَوِعَةٍ</a:t>
            </a:r>
            <a:endParaRPr b="0" lang="en-US" sz="4400" spc="-1" strike="noStrike">
              <a:solidFill>
                <a:srgbClr val="006666"/>
              </a:solidFill>
              <a:latin typeface="Times New Roman"/>
            </a:endParaRPr>
          </a:p>
        </p:txBody>
      </p:sp>
      <p:pic>
        <p:nvPicPr>
          <p:cNvPr id="91" name="repArticles__ctl0_imgArticle" descr=""/>
          <p:cNvPicPr/>
          <p:nvPr/>
        </p:nvPicPr>
        <p:blipFill>
          <a:blip r:embed="rId1"/>
          <a:stretch/>
        </p:blipFill>
        <p:spPr>
          <a:xfrm>
            <a:off x="2411280" y="3860640"/>
            <a:ext cx="4125960" cy="19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8:17:34Z</dcterms:modified>
  <cp:revision>50</cp:revision>
  <dc:subject/>
  <dc:title>PowerPoint Presentation</dc:title>
</cp:coreProperties>
</file>