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HEEPCHP.WAV" ContentType="audio/x-wav"/>
  <Override PartName="/ppt/media/music.wav" ContentType="audio/x-wav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7C6C-4C4D-45EC-B9D2-7598862B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8BC-4F8A-4D4E-A88A-AB247D24E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38B-43F1-46EF-84AC-69830D12C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284-D1DB-4030-A774-E52A21B1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0FD-D013-41DA-BC3D-E484665FE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97CB-BF51-48CB-AE38-6CDF12618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F8467-31C4-4A30-B2E3-EB0CBFC9E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5CB1-B7F3-4008-BC1D-D8E18E88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14660-2CCE-4811-8FDF-5B930C96B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7AB68-C2BB-4AA1-8A41-FC8A090CF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8D261-E780-4A05-80DE-DD418276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C682-145C-4C60-9C1B-B0ACAFE8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45312-63EB-4E77-B9E2-4EFAC02B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2A22-DD0B-4FA8-8530-E9EEB7EB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BAB6-16DD-4168-BC4F-232E7990F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F64F-7ADD-46D5-A70D-66420B62C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2308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332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524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2308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332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A8BA-257F-4755-804E-9DE776D0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F8F4-7F48-4770-A17F-9D9C29CCE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7DC1-5BB6-4A48-9F68-946B46B5E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36B-5EA7-4DCF-8D19-79EC2F0C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52480" y="533160"/>
            <a:ext cx="701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0EBF-1279-446D-A291-3048F30C3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EAD8-3082-4EDB-A172-D5C31577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44920" y="393804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A510-EC88-4A8B-B5BB-DB342BC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5248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44920" y="1828800"/>
            <a:ext cx="3421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52480" y="3938040"/>
            <a:ext cx="701064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001A-99C5-4900-A5A4-05ED92F6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52480" y="533160"/>
            <a:ext cx="701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52480" y="1828800"/>
            <a:ext cx="701064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06E2-A14B-48AC-8D8A-78CF4B8693C4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66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608F-6992-46F0-B0AC-8D57D60447C8}" type="slidenum">
              <a:rPr b="0" lang="ar-SA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66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66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66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66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66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66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EEPCHP.WAV"/><Relationship Id="rId3" Type="http://schemas.openxmlformats.org/officeDocument/2006/relationships/audio" Target="../media/music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843280" y="907920"/>
            <a:ext cx="4465440" cy="172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قراءة علمية 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3573360"/>
            <a:ext cx="7199640" cy="216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153753" dir="2700000" blurRad="0" rotWithShape="0">
                    <a:srgbClr val="006600">
                      <a:alpha val="70000"/>
                    </a:srgbClr>
                  </a:outerShdw>
                </a:effectLst>
                <a:latin typeface="Hesham AlSharq"/>
              </a:rPr>
              <a:t>الزجاج الملون</a:t>
            </a:r>
            <a:endParaRPr b="1" lang="en-US" sz="54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153753" dir="2700000" blurRad="0" rotWithShape="0">
                  <a:srgbClr val="006600">
                    <a:alpha val="70000"/>
                  </a:srgbClr>
                </a:outerShdw>
              </a:effectLst>
              <a:latin typeface="Hesham AlSharq"/>
              <a:ea typeface="Hesham AlSharq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826920" y="1067760"/>
            <a:ext cx="763272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الأَشْكالُ الَّتِي أَرَاهَا في الزُّجاجِ الْمُلَّوَنِ في الصُّورَة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ما عَدَدُ الدَّوائِرِ الّتي أَرَاهَا؟ وَما عَدَدُ الْمُسْتَطيلاتِ؟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تَتَكَوَّنُ النَّوافِذُ الزُّجاجِيَّةُ الْمُلَوَّنَةُ مِنْ عِدَّةِ قِطَعٍ مِنَ الزُّجاجِ الْمُلَوَّنِ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عِنْدَما تَمُرُّ أَشِعَّةُ الشَّمْسِ مِنْ خِلالِ الزُّجاجِ الْمُلَوَّنِ، فَإِنَّني أرى الضَّوْءَ بأَلْوانٍ مُخْتَلِفَةٍ</a:t>
            </a:r>
            <a:r>
              <a:rPr b="1" lang="ar-SA" sz="2600" spc="-1" strike="noStrike">
                <a:solidFill>
                  <a:srgbClr val="006600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0066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2560" y="619920"/>
            <a:ext cx="43822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000" spc="-1" strike="noStrike">
                <a:solidFill>
                  <a:srgbClr val="ff00ff"/>
                </a:solidFill>
                <a:latin typeface="Times New Roman"/>
              </a:rPr>
              <a:t>أُحَدِّدُ الأَشْكالَ.</a:t>
            </a:r>
            <a:endParaRPr b="0" lang="en-US" sz="5000" spc="-1" strike="noStrike">
              <a:solidFill>
                <a:srgbClr val="006600"/>
              </a:solidFill>
              <a:latin typeface="Times New Roman"/>
            </a:endParaRPr>
          </a:p>
        </p:txBody>
      </p:sp>
      <p:pic>
        <p:nvPicPr>
          <p:cNvPr id="86" name="images" descr=""/>
          <p:cNvPicPr/>
          <p:nvPr/>
        </p:nvPicPr>
        <p:blipFill>
          <a:blip r:embed="rId2"/>
          <a:stretch/>
        </p:blipFill>
        <p:spPr>
          <a:xfrm>
            <a:off x="3635280" y="4005360"/>
            <a:ext cx="4608720" cy="22971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324000" y="4059360"/>
            <a:ext cx="3240000" cy="21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1:20:49Z</dcterms:modified>
  <cp:revision>34</cp:revision>
  <dc:subject/>
  <dc:title>PowerPoint Presentation</dc:title>
</cp:coreProperties>
</file>