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BEEBIT.WAV" ContentType="audio/x-wav"/>
  <Override PartName="/ppt/media/CLICKER.WAV" ContentType="audio/x-wav"/>
  <Override PartName="/ppt/media/image2.wmf" ContentType="image/x-wmf"/>
  <Override PartName="/ppt/media/CHEEPCH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FB6-C182-45A2-8842-53F0806B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773-7804-48F9-BEF7-D4B9140C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875-022B-4D3E-BB73-78E500AA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101-F876-4FF5-830B-3B373961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990D-4CB7-415C-B4C5-B95432E0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30A9-4A03-4C69-BF0F-5E03DA87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0569-BA9C-4619-8E4D-F2698BC8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757C-0A55-47BD-BC03-98F397E1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D1B9-166F-4AFD-A5D8-E61D279A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6E44-3C24-4A72-873D-603A5713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F708-E65E-42A3-BF17-516C7005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165-D29F-4C35-8AA3-281DC238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6BFC-8679-48BA-BCDE-7C3F792C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0FB5-6760-49DA-A5B9-0CDC9AFF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CDD6-4AC2-45B0-B717-114919BB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7FB0-AFC9-4633-AECA-EEFB2AD6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2DC2-9306-4495-9A77-E22C52D0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064-D20C-4974-97CA-F75C8493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3A6-D1E7-44DC-BC89-65AA602D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054-9297-41CB-87E1-538D57C4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ECB-36CE-4B26-91B3-40F34902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350-646D-4C86-B44B-FF8A18E4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036-3BE6-48B4-8633-04356F7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C5C-AE59-479A-B1F0-08CD1FB1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01EC-6C07-45F5-A40B-7C7452D3CDA9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42BF-38B9-48FE-855F-C4577E6258ED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EEBIT.WAV"/><Relationship Id="rId3" Type="http://schemas.openxmlformats.org/officeDocument/2006/relationships/audio" Target="../media/CLICKER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EEPCHP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59280" y="765000"/>
            <a:ext cx="313668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ثانى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924280"/>
            <a:ext cx="784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99ccff">
                      <a:alpha val="50000"/>
                    </a:srgbClr>
                  </a:outerShdw>
                </a:effectLst>
                <a:latin typeface="Hesham Gornata"/>
              </a:rPr>
              <a:t>كيف يبدو القمر </a:t>
            </a:r>
            <a:endParaRPr b="1" lang="en-US" sz="7200" spc="1" strike="noStrike">
              <a:ln w="12600">
                <a:solidFill>
                  <a:srgbClr val="000066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99ccff">
                    <a:alpha val="50000"/>
                  </a:srgbClr>
                </a:outerShdw>
              </a:effectLst>
              <a:latin typeface="Hesham Gornata"/>
              <a:ea typeface="Hesham Gornat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737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773360"/>
            <a:ext cx="73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66"/>
                </a:solidFill>
                <a:latin typeface="Times New Roman"/>
              </a:rPr>
              <a:t>الَْقمَرَ جِسْمٌ صَخْرِيٌّ يَدُوْرُ حَوْلَ الأَرْضِ.</a:t>
            </a:r>
            <a:endParaRPr b="0" lang="en-US" sz="7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3280" y="261000"/>
            <a:ext cx="6985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imes New Roman"/>
              </a:rPr>
              <a:t>ـ من أين ياتى نور القمر؟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اَلْقَمَرُ لا يُصْدِرُ ضَوْءًا، لَكِنَّهُ يَبْدو مُنيرًا؛ لأَنَّ ضَوْءَ الشَّمْسِ يَسْقُطُ عَلَيْهِ. عِنْدَما يَدورُ الْقَمَرُ حَوْلَ الأَرْضِ يَتَغَيَّرُ شَكْلُ الجُزْءِ المُنِيْرِ مِنْهُ. لِهَذا، يَبْدُو الْقَمَرُ وَكَأَنَّ لَهُ أَشْكالاً مُخْتَلِفَةً</a:t>
            </a: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232560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ُسَمَّى أَشْكَالُ الْقَمَرِ الْمُخْتَلِفَةُ أَطْوارًا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قال تعالى " والقمر قدرنه منازل حتى عاد كالعرجون القديم " يس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0800" y="1413000"/>
            <a:ext cx="50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ff00ff"/>
                </a:solidFill>
                <a:uFillTx/>
                <a:latin typeface="Times New Roman"/>
              </a:rPr>
              <a:t>أشكال القمر</a:t>
            </a: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168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15004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نَحْنُ نَرَى الشَّمْسَ تَطْلُعُ فِي الصَّبَاحِ، وَتَخْتَفي فِي المَساءِ. يَحْدُثُ ذَلِكَ لأنَّ الأَرْضَ تَدُوْرُ حَوْلً نَفْسِهَا أمَامَ الشَّمْسِ. هَذِهِ الحَرَكَةُ تُكَوِّنُ اللَّيْلَ وَالنَّهار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يُمْكِنُني مَعْرِفَةُ أَنَّ الأَرْضَ تَتَحَرَّكُ بِالنَّظَرِ إِلى الظِّلالِ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696960" y="495360"/>
            <a:ext cx="1073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ما سَبَبُ حُدُوْثِ النَّهارِ وَاللَّيْلِ؟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3989520" cy="2492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3708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ns</cp:lastModifiedBy>
  <dcterms:modified xsi:type="dcterms:W3CDTF">2010-01-30T21:57:00Z</dcterms:modified>
  <cp:revision>38</cp:revision>
  <dc:subject/>
  <dc:title>PowerPoint Presentation</dc:title>
</cp:coreProperties>
</file>