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BEEBIT.WAV" ContentType="audio/x-wav"/>
  <Override PartName="/ppt/media/CLICKER.WAV" ContentType="audio/x-wav"/>
  <Override PartName="/ppt/media/image2.wmf" ContentType="image/x-wmf"/>
  <Override PartName="/ppt/media/CHEEPCHP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CCA-3EB1-413F-AFC6-E8B7ACAE1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648D-E6C0-4C97-9517-509F1329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7EA3-B1C3-4A5E-B144-0F35D3404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89B7-BDC0-4FBB-887B-7C6000F4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D722-4CDD-4F6F-B8AF-56950CA29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957E4-C716-4038-AC46-F36A2FE1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73C6C-913F-4657-A835-02FB432B9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C85CD-9A92-4A5F-B767-572CA261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B8ABE-E8AE-44B5-ACAF-1A8042C5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4579-F7BD-4843-AF3C-491EB0A3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9EFC4-B496-437A-BD29-E42F4F60E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B6A0-9453-4BF1-A80A-C4A087E5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F836-30BC-4344-937C-73F82D687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60C65-C447-45EB-83B9-5CA26F59E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7CFB-6C67-4CDF-8DED-A198BDA0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0045-6C20-46BA-9649-16441099A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25142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265640"/>
            <a:ext cx="250236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AB38E-B588-4F86-83F3-3E6E1AEA6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61CC-DA7F-432B-9E96-0F9FAB1F8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372E-093E-4CCB-BB26-B22C744D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4737-6D1F-4B06-BD0D-CF2010E4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990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70E4-A306-46E5-9C5B-9DC61E00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D820C-8550-4A9C-88F5-27CEEBCF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2656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2315-3927-48AB-B3B4-AE8C48FC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514240"/>
            <a:ext cx="37926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265640"/>
            <a:ext cx="7772400" cy="159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752-11FB-44F4-B776-BEF92BAE0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601560" indent="-23148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2" marL="92556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3" marL="129600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4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5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6" marL="1666440" indent="-185040">
              <a:spcBef>
                <a:spcPts val="7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A5C22-1E02-4492-90B3-CCB95249DA54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0AA1B-5AA7-402D-ABAD-6288FB0D1CA6}" type="slidenum">
              <a:rPr b="0" lang="ar-SA" sz="14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BEEBIT.WAV"/><Relationship Id="rId3" Type="http://schemas.openxmlformats.org/officeDocument/2006/relationships/audio" Target="../media/CLICKER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EEPCHP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059280" y="765000"/>
            <a:ext cx="3136680" cy="97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ثانى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2924280"/>
            <a:ext cx="784836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2600">
                  <a:solidFill>
                    <a:srgbClr val="000066"/>
                  </a:solidFill>
                  <a:miter/>
                </a:ln>
                <a:solidFill>
                  <a:srgbClr val="000066"/>
                </a:solidFill>
                <a:effectLst>
                  <a:outerShdw dist="153753" dir="2700000" blurRad="0" rotWithShape="0">
                    <a:srgbClr val="99ccff">
                      <a:alpha val="50000"/>
                    </a:srgbClr>
                  </a:outerShdw>
                </a:effectLst>
                <a:latin typeface="Hesham Gornata"/>
              </a:rPr>
              <a:t>كيف يبدو القمر </a:t>
            </a:r>
            <a:endParaRPr b="1" lang="en-US" sz="7200" spc="1" strike="noStrike">
              <a:ln w="12600">
                <a:solidFill>
                  <a:srgbClr val="000066"/>
                </a:solidFill>
                <a:miter/>
              </a:ln>
              <a:solidFill>
                <a:srgbClr val="000066"/>
              </a:solidFill>
              <a:effectLst>
                <a:outerShdw dist="153753" dir="2700000" blurRad="0" rotWithShape="0">
                  <a:srgbClr val="99ccff">
                    <a:alpha val="50000"/>
                  </a:srgbClr>
                </a:outerShdw>
              </a:effectLst>
              <a:latin typeface="Hesham Gornata"/>
              <a:ea typeface="Hesham Gornat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73708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EEBI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755640" y="1773360"/>
            <a:ext cx="7308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7200" spc="-1" strike="noStrike">
                <a:solidFill>
                  <a:srgbClr val="000066"/>
                </a:solidFill>
                <a:latin typeface="Times New Roman"/>
              </a:rPr>
              <a:t>الَْقمَرَ جِسْمٌ صَخْرِيٌّ يَدُوْرُ حَوْلَ الأَرْضِ.</a:t>
            </a:r>
            <a:endParaRPr b="0" lang="en-US" sz="7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3280" y="261000"/>
            <a:ext cx="698508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imes New Roman"/>
              </a:rPr>
              <a:t>ـ من أين ياتى نور القمر؟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اَلْقَمَرُ لا يُصْدِرُ ضَوْءًا، لَكِنَّهُ يَبْدو مُنيرًا؛ لأَنَّ ضَوْءَ الشَّمْسِ يَسْقُطُ عَلَيْهِ. عِنْدَما يَدورُ الْقَمَرُ حَوْلَ الأَرْضِ يَتَغَيَّرُ شَكْلُ الجُزْءِ المُنِيْرِ مِنْهُ. لِهَذا، يَبْدُو الْقَمَرُ وَكَأَنَّ لَهُ أَشْكالاً مُخْتَلِفَةً</a:t>
            </a: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611280" y="232560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تُسَمَّى أَشْكَالُ الْقَمَرِ الْمُخْتَلِفَةُ أَطْوارًا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قال تعالى " والقمر قدرنه منازل حتى عاد كالعرجون القديم " يس</a:t>
            </a:r>
            <a:r>
              <a:rPr b="1" lang="ar-SA" sz="4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80800" y="1413000"/>
            <a:ext cx="5086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 u="sng">
                <a:solidFill>
                  <a:srgbClr val="ff00ff"/>
                </a:solidFill>
                <a:uFillTx/>
                <a:latin typeface="Times New Roman"/>
              </a:rPr>
              <a:t>أشكال القمر</a:t>
            </a: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50920" y="549360"/>
            <a:ext cx="3168720" cy="17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1500480"/>
            <a:ext cx="828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نَحْنُ نَرَى الشَّمْسَ تَطْلُعُ فِي الصَّبَاحِ، وَتَخْتَفي فِي المَساءِ. يَحْدُثُ ذَلِكَ لأنَّ الأَرْضَ تَدُوْرُ حَوْلً نَفْسِهَا أمَامَ الشَّمْسِ. هَذِهِ الحَرَكَةُ تُكَوِّنُ اللَّيْلَ وَالنَّهار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</a:rPr>
              <a:t>يُمْكِنُني مَعْرِفَةُ أَنَّ الأَرْضَ تَتَحَرَّكُ بِالنَّظَرِ إِلى الظِّلالِ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-696960" y="495360"/>
            <a:ext cx="10733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ما سَبَبُ حُدُوْثِ النَّهارِ وَاللَّيْلِ؟</a:t>
            </a:r>
            <a:endParaRPr b="0" lang="en-US" sz="6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365720"/>
            <a:ext cx="3989520" cy="2492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435640" y="4292640"/>
            <a:ext cx="37083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ns</cp:lastModifiedBy>
  <dcterms:modified xsi:type="dcterms:W3CDTF">2010-01-30T21:57:00Z</dcterms:modified>
  <cp:revision>38</cp:revision>
  <dc:subject/>
  <dc:title>PowerPoint Presentation</dc:title>
</cp:coreProperties>
</file>