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cashreg.wav" ContentType="audio/x-wav"/>
  <Override PartName="/ppt/media/2.wav" ContentType="audio/x-wav"/>
  <Override PartName="/ppt/media/CHEEPCHP.WAV" ContentType="audio/x-wav"/>
  <Override PartName="/ppt/media/image3.jpeg" ContentType="image/jpeg"/>
  <Override PartName="/ppt/media/BINGBING.WAV" ContentType="audio/x-wav"/>
  <Override PartName="/ppt/media/image5.jpeg" ContentType="image/jpeg"/>
  <Override PartName="/ppt/media/suction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7F374-7CC9-4ABF-ABA5-C6F109D44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8960" y="1828800"/>
            <a:ext cx="7010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18960" y="3938040"/>
            <a:ext cx="7010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E7960-10C6-48B4-B2C0-E741B67A5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18960" y="1828800"/>
            <a:ext cx="3420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11040" y="1828800"/>
            <a:ext cx="3420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18960" y="3938040"/>
            <a:ext cx="3420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11040" y="3938040"/>
            <a:ext cx="3420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AD17A-B731-42B1-A736-72730F7E7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18960" y="1828800"/>
            <a:ext cx="2257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560" y="1828800"/>
            <a:ext cx="2257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59800" y="1828800"/>
            <a:ext cx="2257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18960" y="3938040"/>
            <a:ext cx="2257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560" y="3938040"/>
            <a:ext cx="2257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59800" y="3938040"/>
            <a:ext cx="2257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8101E-DD66-4BFA-9F82-95C565BBB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1990D-9743-4226-ABF8-9F2C6D4B5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218960" y="1828800"/>
            <a:ext cx="7010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3E740-2616-4945-B6AC-4CE214311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18960" y="1828800"/>
            <a:ext cx="7010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6BD97-E2B8-4CBB-B7E4-D1A8C4B55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18960" y="1828800"/>
            <a:ext cx="3420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1040" y="1828800"/>
            <a:ext cx="3420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2C81B-3E55-4668-AB17-69685E7C7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1EE0C-76E8-47E2-B025-ABE742F29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218960" y="533160"/>
            <a:ext cx="7010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239D3-97C1-4B8C-B292-F1C5FD7B9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18960" y="1828800"/>
            <a:ext cx="3420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1040" y="1828800"/>
            <a:ext cx="3420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218960" y="3938040"/>
            <a:ext cx="3420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9B041-499A-4F92-A207-8CCD5F4EF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18960" y="1828800"/>
            <a:ext cx="7010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4AC58-41AA-4264-8E43-2F75966C9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18960" y="1828800"/>
            <a:ext cx="3420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1040" y="1828800"/>
            <a:ext cx="3420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1040" y="3938040"/>
            <a:ext cx="3420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09649-2143-43DF-97FB-FF415BB79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8960" y="1828800"/>
            <a:ext cx="3420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1040" y="1828800"/>
            <a:ext cx="3420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8960" y="3938040"/>
            <a:ext cx="7010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CF558-F135-464A-8800-DBBDDAF61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8960" y="1828800"/>
            <a:ext cx="7010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218960" y="3938040"/>
            <a:ext cx="7010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9DA21-93F7-4414-9353-2ECA1EA88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18960" y="1828800"/>
            <a:ext cx="3420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1040" y="1828800"/>
            <a:ext cx="3420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218960" y="3938040"/>
            <a:ext cx="3420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1040" y="3938040"/>
            <a:ext cx="3420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EA966-F907-4A86-8664-4DA116C3B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8960" y="1828800"/>
            <a:ext cx="2257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89560" y="1828800"/>
            <a:ext cx="2257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59800" y="1828800"/>
            <a:ext cx="2257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218960" y="3938040"/>
            <a:ext cx="2257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89560" y="3938040"/>
            <a:ext cx="2257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59800" y="3938040"/>
            <a:ext cx="2257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ABB7F-25BE-42D7-AB34-616CFC7FF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18960" y="1828800"/>
            <a:ext cx="7010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02968-35AF-4E66-AB4C-54EB3267B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18960" y="1828800"/>
            <a:ext cx="3420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11040" y="1828800"/>
            <a:ext cx="3420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2F0B8-2E9A-493F-BC95-CEA29465F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BAF48-BC0E-412A-975D-D8D90C898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18960" y="533160"/>
            <a:ext cx="7010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D3CED-9755-42EB-B6E0-AC7456E1B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18960" y="1828800"/>
            <a:ext cx="3420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11040" y="1828800"/>
            <a:ext cx="3420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18960" y="3938040"/>
            <a:ext cx="3420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1A262-853A-455C-B296-C6AE3862F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8960" y="1828800"/>
            <a:ext cx="3420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11040" y="1828800"/>
            <a:ext cx="3420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11040" y="3938040"/>
            <a:ext cx="3420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E3215-C9EF-4DAE-A01D-4ADA542E4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8960" y="1828800"/>
            <a:ext cx="3420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11040" y="1828800"/>
            <a:ext cx="3420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18960" y="3938040"/>
            <a:ext cx="7010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D7629-ABE7-42BC-BC6C-D39E14B77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18960" y="1828800"/>
            <a:ext cx="7010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053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1FB41-4A36-47E5-92F2-762454BEB547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C5977-C761-4EB9-9F99-D939B181D5FE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ashreg.wav"/><Relationship Id="rId3" Type="http://schemas.openxmlformats.org/officeDocument/2006/relationships/audio" Target="../media/2.wav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audio" Target="../media/CHEEPCHP.WAV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audio" Target="../media/BINGBING.WAV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audio" Target="../media/suction.wav"/><Relationship Id="rId4" Type="http://schemas.openxmlformats.org/officeDocument/2006/relationships/audio" Target="../media/suction.wav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2916360" y="836640"/>
            <a:ext cx="3384360" cy="112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ادوات علمية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684360" y="3284640"/>
            <a:ext cx="8100720" cy="20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8000" spc="1" strike="noStrike">
                <a:ln w="284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000000">
                      <a:alpha val="70000"/>
                    </a:srgbClr>
                  </a:outerShdw>
                </a:effectLst>
                <a:latin typeface="Hesham Fostat"/>
              </a:rPr>
              <a:t>المنظــار</a:t>
            </a:r>
            <a:endParaRPr b="1" lang="en-US" sz="8000" spc="1" strike="noStrike">
              <a:ln w="284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000000">
                    <a:alpha val="70000"/>
                  </a:srgbClr>
                </a:outerShdw>
              </a:effectLst>
              <a:latin typeface="Hesham Fostat"/>
              <a:ea typeface="Hesham Fosta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9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79280" y="3284640"/>
            <a:ext cx="8533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 Narrow"/>
              </a:rPr>
              <a:t>اداة تساعدنا على رؤة الأشياء البعيدة جدا</a:t>
            </a:r>
            <a:r>
              <a:rPr b="0" lang="ar-SA" sz="4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419640" y="1341360"/>
            <a:ext cx="3527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00ff"/>
                </a:solidFill>
                <a:latin typeface="Arial Narrow"/>
              </a:rPr>
              <a:t>المنظار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684360" y="836640"/>
            <a:ext cx="2867040" cy="21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EEPCH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635280" y="1125360"/>
            <a:ext cx="4248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00ff"/>
                </a:solidFill>
                <a:latin typeface="Arial Narrow"/>
              </a:rPr>
              <a:t>استخدامات المنظار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42920" y="1715040"/>
            <a:ext cx="7632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  <a:cs typeface="Times New Roman"/>
              </a:rPr>
              <a:t>يستخدم المنظار المختلفة لرؤية الكواكب والنجوم ومعرفة أشياء جديدة عنها حيث يعمل المنظار على تقريب الأشياء البعيدة الى درجة كبيرة جدا 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556000" y="4508640"/>
            <a:ext cx="4249440" cy="211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INGB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332000" y="549360"/>
            <a:ext cx="6840360" cy="1439640"/>
          </a:xfrm>
          <a:custGeom>
            <a:avLst/>
            <a:gdLst>
              <a:gd name="textAreaLeft" fmla="*/ 855000 w 6840360"/>
              <a:gd name="textAreaRight" fmla="*/ 5985360 w 6840360"/>
              <a:gd name="textAreaTop" fmla="*/ 180000 h 1439640"/>
              <a:gd name="textAreaBottom" fmla="*/ 1440000 h 143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4725" y="0"/>
                </a:lnTo>
                <a:arcTo wR="675" hR="675" stAng="16200000" swAng="5400000"/>
                <a:lnTo>
                  <a:pt x="5400" y="2700"/>
                </a:lnTo>
                <a:lnTo>
                  <a:pt x="16200" y="2700"/>
                </a:lnTo>
                <a:lnTo>
                  <a:pt x="162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8900" y="18900"/>
                </a:lnTo>
                <a:lnTo>
                  <a:pt x="18900" y="20925"/>
                </a:lnTo>
                <a:arcTo wR="675" hR="675" stAng="0" swAng="5400000"/>
                <a:lnTo>
                  <a:pt x="3375" y="21600"/>
                </a:lnTo>
                <a:arcTo wR="675" hR="675" stAng="5400000" swAng="5400000"/>
                <a:lnTo>
                  <a:pt x="27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5400" y="675"/>
                </a:moveTo>
                <a:arcTo wR="675" hR="675" stAng="0" swAng="5400000"/>
                <a:lnTo>
                  <a:pt x="3375" y="1350"/>
                </a:lnTo>
                <a:arcTo wR="675" hR="675" stAng="16200000" swAng="-5400000"/>
                <a:arcTo wR="675" hR="675" stAng="10800000" swAng="-5400000"/>
                <a:lnTo>
                  <a:pt x="5400" y="2700"/>
                </a:lnTo>
              </a:path>
              <a:path fill="none" w="21600" h="21600">
                <a:moveTo>
                  <a:pt x="16200" y="675"/>
                </a:moveTo>
                <a:arcTo wR="675" hR="675" stAng="10800000" swAng="-5400000"/>
                <a:lnTo>
                  <a:pt x="18225" y="1350"/>
                </a:lnTo>
                <a:arcTo wR="675" hR="675" stAng="16200000" swAng="5400000"/>
                <a:arcTo wR="675" hR="675" stAng="0" swAng="5400000"/>
                <a:lnTo>
                  <a:pt x="16200" y="2700"/>
                </a:lnTo>
              </a:path>
              <a:path fill="none" w="21600" h="21600">
                <a:moveTo>
                  <a:pt x="2700" y="2025"/>
                </a:moveTo>
                <a:lnTo>
                  <a:pt x="2700" y="18900"/>
                </a:lnTo>
              </a:path>
              <a:path fill="none" w="21600" h="21600">
                <a:moveTo>
                  <a:pt x="18900" y="2025"/>
                </a:moveTo>
                <a:lnTo>
                  <a:pt x="18900" y="18900"/>
                </a:lnTo>
              </a:path>
            </a:pathLst>
          </a:custGeom>
          <a:gradFill rotWithShape="0">
            <a:gsLst>
              <a:gs pos="0">
                <a:srgbClr val="cc9900"/>
              </a:gs>
              <a:gs pos="100000">
                <a:srgbClr val="cccc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008000"/>
                </a:solidFill>
                <a:latin typeface="Arial Narrow"/>
              </a:rPr>
              <a:t>أنواع المناظير</a:t>
            </a:r>
            <a:r>
              <a:rPr b="0" lang="ar-SA" sz="6000" spc="-1" strike="noStrike">
                <a:solidFill>
                  <a:srgbClr val="008000"/>
                </a:solidFill>
                <a:latin typeface="Arial Narrow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2421000"/>
            <a:ext cx="87487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Arial Narrow"/>
              </a:rPr>
              <a:t>يوجد انواع كثيرة من المناظير منها الكبير والصغير وتقسم حسب استخداماتها . وتوضع بعض المناظير فى الاقمار الصناعية</a:t>
            </a:r>
            <a:r>
              <a:rPr b="1" lang="ar-SA" sz="4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ar-SA" sz="4800" spc="-1" strike="noStrike">
                <a:solidFill>
                  <a:srgbClr val="000000"/>
                </a:solidFill>
                <a:latin typeface="Arial Narrow"/>
              </a:rPr>
              <a:t>.</a:t>
            </a:r>
            <a:r>
              <a:rPr b="0" lang="ar-SA" sz="4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324000" y="4707000"/>
            <a:ext cx="230328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2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cOrPiOnE</cp:lastModifiedBy>
  <dcterms:modified xsi:type="dcterms:W3CDTF">2006-12-30T02:16:29Z</dcterms:modified>
  <cp:revision>32</cp:revision>
  <dc:subject/>
  <dc:title>PowerPoint Presentation</dc:title>
</cp:coreProperties>
</file>