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cashreg.wav" ContentType="audio/x-wav"/>
  <Override PartName="/ppt/media/music.wav" ContentType="audio/x-wav"/>
  <Override PartName="/ppt/media/image3.wmf" ContentType="image/x-wmf"/>
  <Override PartName="/ppt/media/image1.wmf" ContentType="image/x-wmf"/>
  <Override PartName="/ppt/media/CLICKER.WAV" ContentType="audio/x-wav"/>
  <Override PartName="/ppt/media/image2.wmf" ContentType="image/x-wmf"/>
  <Override PartName="/ppt/media/CNNTONE.WAV" ContentType="audio/x-wav"/>
  <Override PartName="/ppt/media/CLICKER(1).WAV" ContentType="audio/x-wav"/>
  <Override PartName="/ppt/media/BUTTON1.WAV" ContentType="audio/x-wav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9ABF-1A7B-44F8-8464-AB57D81D3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8960" y="393804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1E54-029B-4A0F-B31D-233353F74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104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960C-621E-43EB-97FD-BF6FE4D25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56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980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896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56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980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2037-C58F-437D-898D-DB489674A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83DC-85C5-4565-A147-4EB80C02A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8960" y="1828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71C6-F86F-4A0B-8C99-0E219687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6A768-6239-403A-B0E9-FA2C76A36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B09F-4F4E-44C9-97F8-2951C851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DFA5-7379-4E66-8928-66699E77B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5DDB-7542-4721-BE60-BFDAFA59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511A-80AF-4829-BF89-4FF014880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8960" y="1828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3646F-85C1-4E4F-B27B-9EE1EFF33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104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694D7-2F27-4C8C-A844-CBC6C44D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FB6C-EECB-4B35-88CF-9573A0570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8960" y="393804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8672-7056-4E91-A3E8-7AF744D0D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104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8AAE8-BA22-4EB4-B71C-6F1D46502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956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980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896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956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980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F67EF-C9DB-4AD1-B242-267B944DE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74B8-DE6F-47CA-99C7-45CA4AB3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E08A-7001-4CD3-AFED-0F5A479D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C541-439C-4E3C-9619-750CD74F3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203C-CA67-4895-8A83-8B99FBAF3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CEDA-609C-428E-AA46-781C1D792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104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E088-DBF1-436E-9F2C-D24102B3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6AF6-7DE1-4C3D-BBDE-07004F85D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828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262DA-7FA8-49C4-824B-59A47ED1EF11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A33FE-6231-45DC-A915-F7122DD48CCE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music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LICKER.WAV"/><Relationship Id="rId3" Type="http://schemas.openxmlformats.org/officeDocument/2006/relationships/audio" Target="../media/CLICKER(1).WAV"/><Relationship Id="rId4" Type="http://schemas.openxmlformats.org/officeDocument/2006/relationships/audio" Target="../media/CLICKER(1)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BUTTON1.WAV"/><Relationship Id="rId3" Type="http://schemas.openxmlformats.org/officeDocument/2006/relationships/audio" Target="../media/BUTTON1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NNTONE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CLICKER.WAV"/><Relationship Id="rId3" Type="http://schemas.openxmlformats.org/officeDocument/2006/relationships/audio" Target="../media/CLICKER.WAV"/><Relationship Id="rId4" Type="http://schemas.openxmlformats.org/officeDocument/2006/relationships/audio" Target="../media/CLICKER.WAV"/><Relationship Id="rId5" Type="http://schemas.openxmlformats.org/officeDocument/2006/relationships/audio" Target="../media/CLICKER.WAV"/><Relationship Id="rId6" Type="http://schemas.openxmlformats.org/officeDocument/2006/relationships/audio" Target="../media/CLICKER.WAV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771640" y="1341360"/>
            <a:ext cx="417672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الوحدة السادسة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26920" y="2890800"/>
            <a:ext cx="7777440" cy="334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50000">
                      <a:srgbClr val="9999ff"/>
                    </a:gs>
                    <a:gs pos="100000">
                      <a:srgbClr val="ffffcc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000000">
                      <a:alpha val="70000"/>
                    </a:srgbClr>
                  </a:outerShdw>
                </a:effectLst>
                <a:latin typeface="Arial Black"/>
              </a:rPr>
              <a:t>الحركة والطاقة</a:t>
            </a:r>
            <a:endParaRPr b="1" lang="en-US" sz="60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50000">
                    <a:srgbClr val="9999ff"/>
                  </a:gs>
                  <a:gs pos="100000">
                    <a:srgbClr val="ffffcc"/>
                  </a:gs>
                </a:gsLst>
                <a:lin ang="5400000"/>
              </a:gradFill>
              <a:effectLst>
                <a:outerShdw dist="153753" dir="2700000" blurRad="0" rotWithShape="0">
                  <a:srgbClr val="000000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us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03280" y="260280"/>
            <a:ext cx="6985080" cy="1008000"/>
          </a:xfrm>
          <a:custGeom>
            <a:avLst/>
            <a:gdLst>
              <a:gd name="textAreaLeft" fmla="*/ 118800 w 6985080"/>
              <a:gd name="textAreaRight" fmla="*/ 6866280 w 6985080"/>
              <a:gd name="textAreaTop" fmla="*/ 118800 h 1008000"/>
              <a:gd name="textAreaBottom" fmla="*/ 889200 h 1008000"/>
            </a:gdLst>
            <a:ahLst/>
            <a:rect l="textAreaLeft" t="textAreaTop" r="textAreaRight" b="textAreaBottom"/>
            <a:pathLst>
              <a:path w="149635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6035" y="21600"/>
                </a:lnTo>
                <a:arcTo wR="3600" hR="3600" stAng="10800000" swAng="5400000"/>
                <a:lnTo>
                  <a:pt x="149635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50000">
                <a:srgbClr val="6600cc"/>
              </a:gs>
              <a:gs pos="100000">
                <a:srgbClr val="9999ff"/>
              </a:gs>
            </a:gsLst>
            <a:lin ang="8100000"/>
          </a:gradFill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كَيْفَ أحَدِّدُ مَوْقِعَ الشَّيْءِ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58920" y="1844640"/>
            <a:ext cx="7020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Times New Roman"/>
              </a:rPr>
              <a:t>الْمَوْقِعُ هُوَ مَكانُ وُجودِ الشَّيْءِ بِالنِّسْبَةِ لشَيْءٍ آخَرَ</a:t>
            </a:r>
            <a:r>
              <a:rPr b="1" lang="ar-EG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Times New Roman"/>
              </a:rPr>
              <a:t>الْمَوْقِعُ يُبَيِّنُ لَنَا ما إذا كانَ الشَّيْءُ قَريباً مِنَ شَيْءٍ آخَرَ أَمْ بَعيدًا عَنْهُ</a:t>
            </a:r>
            <a:r>
              <a:rPr b="1" lang="ar-EG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916360" y="4869000"/>
            <a:ext cx="2889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ER(1)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5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ER(1)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0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55640" y="1411200"/>
            <a:ext cx="7561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Times New Roman"/>
              </a:rPr>
              <a:t>كَما يُبَيِّنُ لَنَا الْمَوْقِعُ ما إذا كانَ الشَّيْءُ في الأَعْلى، أَمْ في الأَسْفَلِ، أَم إِلَى الْيَمينِ، أمْ إلى الْيَسارِ مِنْ شِيْءٍ آخَرَ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268360" y="4292640"/>
            <a:ext cx="4181760" cy="17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39640" y="765000"/>
            <a:ext cx="8388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000000"/>
                </a:solidFill>
                <a:latin typeface="Times New Roman"/>
              </a:rPr>
              <a:t>كَيْفَ تَتَحَرَّكُ الأَشْياءُ؟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000000"/>
                </a:solidFill>
                <a:latin typeface="Times New Roman"/>
              </a:rPr>
              <a:t>تَتَحَرَّكُ الأَشْياءُ بِطُرُقٍِ عِدَّةٍ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763640" y="3645000"/>
            <a:ext cx="541044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UTTON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3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UTTON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95280" y="2492280"/>
            <a:ext cx="8497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000000"/>
                </a:solidFill>
                <a:latin typeface="Times New Roman"/>
              </a:rPr>
              <a:t>الَحَْركَةَ هِيَ تَغَيُّرُ مَوْقِعَ الشَّيْءِ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NNT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0066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55640" y="692280"/>
            <a:ext cx="82072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Times New Roman"/>
              </a:rPr>
              <a:t>تَتَحرَّكُ الأَشْياءُ فِي خَطٍّ مُسْتَقِيمٍ إلى الأَمامِ أَوْ إِلَى الْخَلْفِ أَوْ في شَكْلٍ دائِريٍّ</a:t>
            </a:r>
            <a:r>
              <a:rPr b="1" lang="ar-EG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000000"/>
                </a:solidFill>
                <a:latin typeface="Times New Roman"/>
              </a:rPr>
              <a:t>تَتحَركُ الأَشْياءُ أيْضًا فِي خَطٍّ مُتَعَرِّجٍ</a:t>
            </a:r>
            <a:r>
              <a:rPr b="1" lang="ar-EG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تَتَحَرَّكُ الأَشْياءُ بِسُرْعاتٍ مُخْتَلِفَةٍ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بَعْضَ الأَجْسَامِ تَتَحَرَّكُ بِسُرْعَةٍ كَبِيرَةٍ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،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وبَعْضُهَا يَتَحَرَّكُ بِبُطْءٍ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01520" y="4365720"/>
            <a:ext cx="2664000" cy="21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8" dur="10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5" dur="10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30T09:27:28Z</dcterms:modified>
  <cp:revision>43</cp:revision>
  <dc:subject/>
  <dc:title>PowerPoint Presentation</dc:title>
</cp:coreProperties>
</file>