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ER.WAV" ContentType="audio/x-wav"/>
  <Override PartName="/ppt/media/image2.wmf" ContentType="image/x-wmf"/>
  <Override PartName="/ppt/media/chimes.wav" ContentType="audio/x-wav"/>
  <Override PartName="/ppt/media/image1.wmf" ContentType="image/x-wmf"/>
  <Override PartName="/ppt/media/CHEEPCHP.WAV" ContentType="audio/x-wav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EC6-C6BD-44CB-BA8C-BE80AA46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3DB-18D9-4149-91C3-54F93C2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BFD-38DC-4CEB-B4B5-7DE39A51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CAF-DACE-4E29-9BAD-E209AC87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A88D-481E-40FC-8FF1-C9B553DA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E5AD-08AD-4BC1-B546-62D28B17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D891-C9DA-4706-873D-B82FEEA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E1D6-09A0-476B-93CF-C3F6A52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060B-B09F-4290-9F85-0F57EC4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B056-06CB-46D9-B774-17B4555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1DCF-8C43-493C-A2D2-D1D17B7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FE6-E217-4D4F-9930-D08B277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047-EB81-4545-93C4-6173B598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20EC-0264-4737-8935-F60BB54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AA45-FA41-48B6-B765-E866CB4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F024-F605-4C61-B78A-4F013FAD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0E2-F561-4E5E-A094-C0C6BC1B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AAB-BC11-4386-8796-C88953A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8C1-AAD2-485F-AC8E-17C43EE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7AD-DBAC-4387-BF1C-2D8EEF2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4D0-2DEB-4BD1-BB9C-FAAC2339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F1E-010C-4334-8BCC-78CD747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9EC-BF8B-41C7-AAEC-3C0D281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E95-67D8-458C-BE2B-48D2BB9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8BC-0AA0-4BC3-A7EE-4512F2BC8AC3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68FF-211A-46BC-B49C-6E4BAA9435E6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89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مهن مرتبطة بالعلو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59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0000"/>
                </a:solidFill>
                <a:latin typeface="FS_Diwany"/>
              </a:rPr>
              <a:t>الخبــاز</a:t>
            </a:r>
            <a:endParaRPr b="1" lang="en-US" sz="6000" spc="1" strike="noStrike">
              <a:ln w="9360">
                <a:solidFill>
                  <a:srgbClr val="006666"/>
                </a:solidFill>
                <a:miter/>
              </a:ln>
              <a:solidFill>
                <a:srgbClr val="000000"/>
              </a:solidFill>
              <a:latin typeface="FS_Diwany"/>
              <a:ea typeface="FS_Diwan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2637000"/>
            <a:ext cx="7054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الخبز واحد من أهم العناصر الأساسية والغذائية لدى معظم الشعوب منذ قرون طويلة، وفيما يعتبر أول الأطعمة، تعتبر حرفة الخباز من أول الحرف التي عرفتها البشرية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800"/>
            </a:b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88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7415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وبالإمكان رؤية أرغفة الخبز القديمة التي كان ينتجها ويصنعها الفراعنة قبل 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5000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 سنة شاهدة للعيان في المتحف البريطاني حتى الآن إلى جانب حبوب القمح التي كانت تزرع، تحصد وتجفف على ضفاف النيل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ar-EG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4749840"/>
            <a:ext cx="381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052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ُمَارِسُ الْخَبَّازُ مِهْنَةً جَلِيلَةً. فَهوَ يُعِّدُ لنَا الْخُبْرَ الذي نَأكُلَهُ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َخْلِطُ الْخَبَّازُ الْدَقِيقَ بِالْمَاءِ وبأشْيَاءَ أُخْرى لِعَمَل الْعَجِينِ، ويَتْرُكُهُ بَعْضَ الْوَقْتِ، حَتّى يُصْبِحَ جَاهِزًا لِلْخَبْزِ فِي الْفُرْنِ. الْحَرَارَةُ تُغَيِّرُ الْعَجِينَ بَعْدَ ذلكَ وَتجْعلُهُ خُبزًا</a:t>
            </a:r>
            <a:r>
              <a:rPr b="1" lang="ar-EG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3116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الْمَخَابِزُ الْحَدِيثَةُ تَسْتَخْدِمُ أدَواتٍ وَتَقَنِياتٍ مُتَطَوِّرَةً لإعْدَادِ مَأكُولاتٍ كَثِيْرَةٍ وَمُتَنَوِعَةٍ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91" name="repArticles__ctl0_imgArticle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4125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17:34Z</dcterms:modified>
  <cp:revision>50</cp:revision>
  <dc:subject/>
  <dc:title>PowerPoint Presentation</dc:title>
</cp:coreProperties>
</file>