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music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image8.wmf" ContentType="image/x-wmf"/>
  <Override PartName="/ppt/media/compre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2D3-9583-4FDA-965C-32F5A38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70C-6ED2-4A24-94E9-65BE8E8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75C-4763-4ED6-9766-82773777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6C6-369C-4384-B096-8F1457C9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7F4-B3E9-4516-BB0F-4B7E4FD3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CAB7-BEF7-4BCB-B6C9-6065D6ED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58A6-1ECD-469A-8315-2ED38976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2856-7983-463F-B282-475D232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BFE-73FA-4A14-AC5D-B195ABD6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E10-C671-4567-8A18-BDD499FC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406-E678-4B1D-8557-3689229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EB6-C307-4677-A257-85956D6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2F8-D804-49F5-9698-22E63E8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ED86-A503-4083-80E4-4DAC556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7B1-5B40-4612-AD4F-17E44EB7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869C-4A37-4395-82E1-1653ED7C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2DAB-8A8B-4420-A06A-E38C2F3D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40A-A1F4-4532-BF51-FC3A9E8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FC2-A3D6-47B1-91B6-DA4DB87C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BEC-8631-4959-8F71-2D5B806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D11-88F4-4C7E-A31A-D531C11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9CB-C9B5-4C12-9A4B-D348636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161-EBB8-4F54-A6ED-3CF8264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336-D0B5-41B0-9562-AC729949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488-0432-4D24-9319-817728621051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2BC-EF6D-4AA1-9BCC-A48C653CEB7A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ompres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700280"/>
            <a:ext cx="7978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Hesham Cortoba"/>
              </a:rPr>
              <a:t>الدفع والسحب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70828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َحْتاجُ الأَشْياءُ إِلى قُوَّةٍ ما لِتُحَرِّكَه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َقْوُةَّ هِيَ قُوَّةُ السَّحْبِ أَوْ قُوَّةُ الدَّفْعِ الَّتي تُحَرِّكُ الشَّيْءَ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000" y="1413000"/>
            <a:ext cx="77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ما الّذي يُحَرِّكُ الأَشْياءَ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16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292428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حَرِّكُ قُوَّةُ الدَّفْعِ الشَّيْءَ بَعيداّ عَني، أَمّا قُوَّةُ السَّحْبِ فَتُحَرِّكُهُ بِاتَّجاهِي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9840" y="134136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قوة الدفع وقوة السحب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41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411120"/>
            <a:ext cx="435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عِنْدَما أتْرُكُ البَيضَةَ فإنَّها تَسْقُطُ، لأن الْجاذِبِيَّةَ تَسْحَبُهُا إِلى الأَرْضِ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905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148428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َلْجاذِبِيَّةُ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 هِيَ الْقُوَّةُ الَّتي تَسْحَبُ الأَشْياءَ بِاتِّجاهِ الأَرْضِ. وولجاذبية مجموعة من القوانين وضعها العالم الكبير اسحق نيوتن 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21000"/>
            <a:ext cx="72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تَخْتَلِفُ حَرَكَةُ الأَشْياءِ بِحَسَبِ مِقْدَارِ سَحْبِها، أَوْ مِقْدارِ دَفْعِها. يَحْتاجُ اَلشَّيْءُ الْخَفيفُ إِلى قُوَّةِ دَفْعٍ صَغِيرةٍ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بَيْنَما يَحْتَاجُ الشَّيْءُ الثَّقيلُ إِلى قُوَّةِ دَفْعٍ أَكْبَرَ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400" y="1052640"/>
            <a:ext cx="687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كَيْفَ تَخْتَلِفُ الْقُوَى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280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98100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قُوَّةُ الدَّفْعِ الْكَبيرَةُ تُحَرِّكُ الشَّيْءَ بِسُرْعَةٍ أَكْبَرَ وَلِمَسافَةٍ أَطْوَلَ مِنْ قُوَّةِ الْدَّفْعِ الصَّغيرَةِ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29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2852640"/>
            <a:ext cx="77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هَلَ سَبَقَ لك أَنْ حَكَكَتَ أَقْدَامَكَ عَلى الأَرْضِ لتبطئ حَرَكَةَ المزلاجة؟ هَذا هُوَ الاِحْتِكاكُ. اَلاِحْتِكاكُ هُوَ الْقُوَّةُ الَّتي تُبَطِّئُ حَرَكَةَ الأَشْياءِ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3360" y="1052640"/>
            <a:ext cx="236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لاحتكاك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02:12Z</dcterms:modified>
  <cp:revision>51</cp:revision>
  <dc:subject/>
  <dc:title>PowerPoint Presentation</dc:title>
</cp:coreProperties>
</file>