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9D88-2C43-4A46-B220-DD02578AA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7D5B-30AC-41FB-9AA6-289703297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CC18-882E-489B-8B5C-0092E0C0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9FC7-11D8-4B34-8F9A-57F5F6255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E3D03-4188-4983-BC8C-57B64E83C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8FA90-6452-4DC5-86EE-F0E002E11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18495-D128-464F-8E0D-7B15F329C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C72E4-97BC-4B56-BD89-CDA6D829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BB7D-4C52-47B9-8229-E5C846BED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351F-6807-4375-89ED-334090EB0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76EDE-3E6C-4C97-9331-3E364172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202A-7584-4164-971F-D0E40A2C9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DA6CA-A3F1-47A2-993C-437D629F8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29860-A288-42BE-96CB-B8FF099B4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AF26-D5C6-4FF4-AB2E-B0AE818B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1590-3AAB-439A-B745-F1EA1B2C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8915-2655-4BFF-8FF4-50C32A186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9C2-FD96-436D-B165-7096F7519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9FB-1F76-4A4B-B86E-AE4AE7305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C12C-01DD-47EF-93A8-BB5FF4810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F31D-FF00-48DB-A714-F21C9F88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1F3F-0979-433C-B992-EB8331BE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D63E-5034-44DA-AEAD-5AF5A18E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C712-3235-432A-8F03-F38E7BF3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52E84-1247-4AF3-ADEE-3942A2CD9BBF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CAB00-97A6-4822-B40A-0C446BDA1743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ar.wikipedia.org/wiki/&#1606;&#1602;&#1591;&#1577;_&#1575;&#1606;&#1589;&#1607;&#1575;&#1585;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411280" y="981000"/>
            <a:ext cx="432144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5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latin typeface="Impact"/>
              </a:rPr>
              <a:t>الدرس الثالث</a:t>
            </a:r>
            <a:endParaRPr b="1" lang="en-US" sz="5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116000" y="3500280"/>
            <a:ext cx="7273800" cy="201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( </a:t>
            </a:r>
            <a:r>
              <a:rPr b="0" lang="hi-I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الحرارة تغير المادة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 </a:t>
            </a: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ffcccc">
                      <a:alpha val="50000"/>
                    </a:srgbClr>
                  </a:outerShdw>
                </a:effectLst>
                <a:latin typeface="Hesham Cortoba"/>
              </a:rPr>
              <a:t>) 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ffcccc">
                    <a:alpha val="50000"/>
                  </a:srgbClr>
                </a:outerShdw>
              </a:effectLst>
              <a:latin typeface="Hesham Cortoba"/>
              <a:ea typeface="Hesham Cortob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324000" y="2637000"/>
            <a:ext cx="86407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نِي تَغْييرُ الْماءِ مِنْ سائِلٍ إِلى صُلْبٍ. عِنْدَما يَبْرُدُ الْماءُ كَثيرًا، فَإِنَّهُ يَتَجَمَّدُ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SA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-968760" y="1363680"/>
            <a:ext cx="10445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3399"/>
                </a:solidFill>
                <a:latin typeface="Times New Roman"/>
              </a:rPr>
              <a:t>كَيْفُ تَتَغَيَّرُ الْمَوادُّ الصُّلْبَةُ وَالسَّوائِلُ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20040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042920" y="549360"/>
            <a:ext cx="6912000" cy="1584360"/>
          </a:xfrm>
          <a:custGeom>
            <a:avLst/>
            <a:gdLst>
              <a:gd name="textAreaLeft" fmla="*/ 865080 w 6912000"/>
              <a:gd name="textAreaRight" fmla="*/ 6046920 w 6912000"/>
              <a:gd name="textAreaTop" fmla="*/ 198000 h 1584360"/>
              <a:gd name="textAreaBottom" fmla="*/ 15847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9" y="0"/>
                </a:lnTo>
                <a:arcTo wR="675" hR="675" stAng="16200000" swAng="5400000"/>
                <a:lnTo>
                  <a:pt x="5404" y="2700"/>
                </a:lnTo>
                <a:lnTo>
                  <a:pt x="16196" y="2700"/>
                </a:lnTo>
                <a:lnTo>
                  <a:pt x="16196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896" y="18900"/>
                </a:lnTo>
                <a:lnTo>
                  <a:pt x="18896" y="20925"/>
                </a:lnTo>
                <a:arcTo wR="675" hR="675" stAng="0" swAng="5400000"/>
                <a:lnTo>
                  <a:pt x="3379" y="21600"/>
                </a:lnTo>
                <a:arcTo wR="675" hR="675" stAng="5400000" swAng="5400000"/>
                <a:lnTo>
                  <a:pt x="2704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4" y="675"/>
                </a:moveTo>
                <a:arcTo wR="675" hR="675" stAng="0" swAng="5400000"/>
                <a:lnTo>
                  <a:pt x="3379" y="1350"/>
                </a:lnTo>
                <a:arcTo wR="675" hR="675" stAng="16200000" swAng="-5400000"/>
                <a:arcTo wR="675" hR="675" stAng="10800000" swAng="-5400000"/>
                <a:lnTo>
                  <a:pt x="5404" y="2700"/>
                </a:lnTo>
              </a:path>
              <a:path fill="none" w="21600" h="21600">
                <a:moveTo>
                  <a:pt x="16196" y="675"/>
                </a:moveTo>
                <a:arcTo wR="675" hR="675" stAng="10800000" swAng="-5400000"/>
                <a:lnTo>
                  <a:pt x="18221" y="1350"/>
                </a:lnTo>
                <a:arcTo wR="675" hR="675" stAng="16200000" swAng="5400000"/>
                <a:arcTo wR="675" hR="675" stAng="0" swAng="5400000"/>
                <a:lnTo>
                  <a:pt x="16196" y="2700"/>
                </a:lnTo>
              </a:path>
              <a:path fill="none" w="21600" h="21600">
                <a:moveTo>
                  <a:pt x="2704" y="2025"/>
                </a:moveTo>
                <a:lnTo>
                  <a:pt x="2704" y="18900"/>
                </a:lnTo>
              </a:path>
              <a:path fill="none" w="21600" h="21600">
                <a:moveTo>
                  <a:pt x="18896" y="2025"/>
                </a:moveTo>
                <a:lnTo>
                  <a:pt x="18896" y="18900"/>
                </a:lnTo>
              </a:path>
            </a:pathLst>
          </a:custGeom>
          <a:gradFill rotWithShape="0">
            <a:gsLst>
              <a:gs pos="0">
                <a:srgbClr val="ffcccc"/>
              </a:gs>
              <a:gs pos="50000">
                <a:srgbClr val="ff9900"/>
              </a:gs>
              <a:gs pos="100000">
                <a:srgbClr val="ffcccc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التَّجَمُّدُ</a:t>
            </a:r>
            <a:r>
              <a:rPr b="1" lang="ar-EG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2492280"/>
            <a:ext cx="6985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ُوَ تَحَوُّلُ السَّائِلِ إِلَى صُلْبٍ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يُمْكِنُ إِعادَةُ الْماءِ الْمُتَجَمِّدِ إِلى سائِلٍ. تَنْصَهِرُ الْمادَّةُ الصُّلْبَةُ عِنْدَ تَسْخينِه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08000" y="3578400"/>
            <a:ext cx="15512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79640" y="4724280"/>
            <a:ext cx="4897440" cy="1892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4941720"/>
            <a:ext cx="1444680" cy="15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227664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3600" spc="-1" strike="noStrike">
                <a:solidFill>
                  <a:srgbClr val="ffffff"/>
                </a:solidFill>
                <a:latin typeface="Times New Roman"/>
              </a:rPr>
              <a:t>هُوَ تَحَوُّلُ الصُّلْبِ إلى سائِلٍ.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ويحدث الانصهار عند درجة الحرارة التي يتواجد عندها الطور الصلب والسائل للمادة النقية في حالة توازن. عند الوصول إلى </a:t>
            </a:r>
            <a:r>
              <a:rPr b="0" lang="ar" sz="36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نقطة الانصهار</a:t>
            </a:r>
            <a:r>
              <a:rPr b="1" lang="ar" sz="3600" spc="-1" strike="noStrike">
                <a:solidFill>
                  <a:srgbClr val="ffffff"/>
                </a:solidFill>
                <a:latin typeface="Times New Roman"/>
              </a:rPr>
              <a:t> سيؤدي المزيد من الحرارة إلى تحول الجسم الصلب إلى سائل بدون تغير في درجة الحرارة. عند ذوبان جميع المادة الصلبة، فإن الحرارة الإضافية سوف ترفع درجة حرارة السائل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16360" y="692280"/>
            <a:ext cx="3146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َانِْصِها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50920" y="2637000"/>
            <a:ext cx="860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عِنْدَ تَسْخينِ الْماءِ فإنَّ بَعْضَه يَتَبَخَّرُ. وعند تبريد الماء فإنه يتجمد وعند تسخين الجليد فإنه يتحول الى ماء مرة أخرى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ar-EG" sz="4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-892800" y="1052640"/>
            <a:ext cx="1095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6000" spc="-1" strike="noStrike">
                <a:solidFill>
                  <a:srgbClr val="ff3399"/>
                </a:solidFill>
                <a:latin typeface="Times New Roman"/>
              </a:rPr>
              <a:t>كَيْفَ تَتَغَيَّرُ السَّوائِلُ وَالْغازاتُ؟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4360" y="3284640"/>
            <a:ext cx="7848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هو تحول السائل إلى غاز. فالماء ينتقل إلى الهواء على شكل غاز.عِنْدَما تكون درجة حرارة الْماءِ أعلى يَكونُ تَبَخُّرُهُ أَسْرَعَ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27280" y="141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7200" spc="-1" strike="noStrike">
                <a:solidFill>
                  <a:srgbClr val="ff3399"/>
                </a:solidFill>
                <a:latin typeface="Times New Roman"/>
              </a:rPr>
              <a:t>التَّبَخُّرُ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765000"/>
            <a:ext cx="91440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بُخارُ الْماءِ هُوَ ماءٌ عَلى شَكْلِ غاز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يَتَحَوَّلُ بُخارُ الْماءِ إِلى سائِلٍ عِنْدَما يَبْرُدُ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عِنْدَما يُلامِسُ بُخارُ الْماءِ الْمَوْجودُ في الْهَواءِ سَطْحًا بارِدًا، فَإِنَّهُ يَتَحَوَّلُ إِلى ماءٍ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لِهَذا تَتَجَمَّعُ قَطَرَاتُ الْماءِ عَلى زُجاجِ النَّوَافِذِ وَالنَّظَّارَاتِ</a:t>
            </a:r>
            <a:r>
              <a:rPr b="1" lang="ar-SA" sz="40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1" lang="ar-EG" sz="4000" spc="-1" strike="noStrike">
                <a:solidFill>
                  <a:srgbClr val="ff3399"/>
                </a:solidFill>
                <a:latin typeface="Times New Roman"/>
              </a:rPr>
              <a:t>أَحْيانًا</a:t>
            </a:r>
            <a:r>
              <a:rPr b="1" lang="ar-EG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508720" y="4221000"/>
            <a:ext cx="3313080" cy="18162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8360" y="4221000"/>
            <a:ext cx="2962080" cy="19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8:09:23Z</dcterms:modified>
  <cp:revision>23</cp:revision>
  <dc:subject/>
  <dc:title>PowerPoint Presentation</dc:title>
</cp:coreProperties>
</file>