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815-B2EF-4847-ABB6-251AE455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45E-780D-4F24-AFB7-04C69C2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23E-7025-49D3-AA34-740B9EB5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FFE-F9BE-4F9E-A94D-1A7C13F6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59C-A0FE-4682-A031-78C1BAA5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C9CB-1AC9-474B-8BE8-F9119002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9DC4-AD7E-46CC-820D-45B359EE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3AED-4908-4166-AF89-4135040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BED2-6CA1-4357-8C6F-C5820A1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511B-BA9E-4323-A8E3-1823B0DF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98E-BC78-4307-A16D-8747B9A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8D8-33D1-418C-A357-07503B4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6B1-128F-4FFE-9CBE-DD5241F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B2D3-4DE7-418E-B253-5F34FA0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1C38-E955-45BF-8110-376B948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7B1-B073-401D-B313-CE31DF31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FCA-942F-4C08-808F-3AAD664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9D5-6326-4250-9D31-AB561CE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8E4-57E1-459D-9BA1-4B44F95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4A6-157D-4EDF-A5E8-BE616BD0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2E3-01D0-4044-B9CA-4BB28B8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FB1-47F3-4857-93BC-22AEBD3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666-0F35-4009-8E4E-CD3C06C9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CDF-9209-4885-AA43-681A3F6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525C-8489-4665-9129-EDD1307CEAB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285-5EB7-4ACF-BBA5-192399D628D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.wikipedia.org/wiki/&#1606;&#1602;&#1591;&#1577;_&#1575;&#1606;&#1589;&#1607;&#1575;&#1585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11280" y="981000"/>
            <a:ext cx="43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الدرس الثالث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16000" y="3500280"/>
            <a:ext cx="727380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( </a:t>
            </a: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الحرارة تغير المادة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)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ffcccc">
                    <a:alpha val="50000"/>
                  </a:srgbClr>
                </a:outerShdw>
              </a:effectLst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37000"/>
            <a:ext cx="864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نِي تَغْييرُ الْماءِ مِنْ سائِلٍ إِلى صُلْبٍ. عِنْدَما يَبْرُدُ الْماءُ كَثيرًا، فَإِنَّهُ يَتَجَمَّدُ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68760" y="1363680"/>
            <a:ext cx="104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3399"/>
                </a:solidFill>
                <a:latin typeface="Times New Roman"/>
              </a:rPr>
              <a:t>كَيْفُ تَتَغَيَّرُ الْمَوادُّ الصُّلْبَةُ وَالسَّوائِلُ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2004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49360"/>
            <a:ext cx="6912000" cy="1584360"/>
          </a:xfrm>
          <a:custGeom>
            <a:avLst/>
            <a:gdLst>
              <a:gd name="textAreaLeft" fmla="*/ 865080 w 6912000"/>
              <a:gd name="textAreaRight" fmla="*/ 6046920 w 691200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9" y="0"/>
                </a:lnTo>
                <a:arcTo wR="675" hR="675" stAng="16200000" swAng="5400000"/>
                <a:lnTo>
                  <a:pt x="5404" y="2700"/>
                </a:lnTo>
                <a:lnTo>
                  <a:pt x="16196" y="2700"/>
                </a:lnTo>
                <a:lnTo>
                  <a:pt x="16196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896" y="18900"/>
                </a:lnTo>
                <a:lnTo>
                  <a:pt x="18896" y="20925"/>
                </a:lnTo>
                <a:arcTo wR="675" hR="675" stAng="0" swAng="5400000"/>
                <a:lnTo>
                  <a:pt x="3379" y="21600"/>
                </a:lnTo>
                <a:arcTo wR="675" hR="675" stAng="5400000" swAng="5400000"/>
                <a:lnTo>
                  <a:pt x="2704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4" y="675"/>
                </a:moveTo>
                <a:arcTo wR="675" hR="675" stAng="0" swAng="5400000"/>
                <a:lnTo>
                  <a:pt x="3379" y="1350"/>
                </a:lnTo>
                <a:arcTo wR="675" hR="675" stAng="16200000" swAng="-5400000"/>
                <a:arcTo wR="675" hR="675" stAng="10800000" swAng="-5400000"/>
                <a:lnTo>
                  <a:pt x="5404" y="2700"/>
                </a:lnTo>
              </a:path>
              <a:path fill="none" w="21600" h="21600">
                <a:moveTo>
                  <a:pt x="16196" y="675"/>
                </a:moveTo>
                <a:arcTo wR="675" hR="675" stAng="10800000" swAng="-5400000"/>
                <a:lnTo>
                  <a:pt x="18221" y="1350"/>
                </a:lnTo>
                <a:arcTo wR="675" hR="675" stAng="16200000" swAng="5400000"/>
                <a:arcTo wR="675" hR="675" stAng="0" swAng="5400000"/>
                <a:lnTo>
                  <a:pt x="16196" y="2700"/>
                </a:lnTo>
              </a:path>
              <a:path fill="none" w="21600" h="21600">
                <a:moveTo>
                  <a:pt x="2704" y="2025"/>
                </a:moveTo>
                <a:lnTo>
                  <a:pt x="2704" y="18900"/>
                </a:lnTo>
              </a:path>
              <a:path fill="none" w="21600" h="21600">
                <a:moveTo>
                  <a:pt x="18896" y="2025"/>
                </a:moveTo>
                <a:lnTo>
                  <a:pt x="18896" y="18900"/>
                </a:lnTo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تَّجَمُّدُ</a:t>
            </a: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ُوَ تَحَوُّلُ السَّائِلِ إِلَى صُلْبٍ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 إِعادَةُ الْماءِ الْمُتَجَمِّدِ إِلى سائِلٍ. تَنْصَهِرُ الْمادَّةُ الصُّلْبَةُ عِنْدَ تَسْخينِه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578400"/>
            <a:ext cx="15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4724280"/>
            <a:ext cx="4897440" cy="189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1444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766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هُوَ تَحَوُّلُ الصُّلْبِ إلى سائِلٍ.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ويحدث الانصهار عند درجة الحرارة التي يتواجد عندها الطور الصلب والسائل للمادة النقية في حالة توازن. عند الوصول إلى </a:t>
            </a:r>
            <a:r>
              <a:rPr b="0" lang="ar" sz="3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نقطة الانصهار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سيؤدي المزيد من الحرارة إلى تحول الجسم الصلب إلى سائل بدون تغير في درجة الحرارة. عند ذوبان جميع المادة الصلبة، فإن الحرارة الإضافية سوف ترفع درجة حرارة السائ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692280"/>
            <a:ext cx="31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َانِْصِها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637000"/>
            <a:ext cx="86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عِنْدَ تَسْخينِ الْماءِ فإنَّ بَعْضَه يَتَبَخَّرُ. وعند تبريد الماء فإنه يتجمد وعند تسخين الجليد فإنه يتحول الى ماء مرة أخرى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892800" y="1052640"/>
            <a:ext cx="109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ff3399"/>
                </a:solidFill>
                <a:latin typeface="Times New Roman"/>
              </a:rPr>
              <a:t>كَيْفَ تَتَغَيَّرُ السَّوائِلُ وَالْغازاتُ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328464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و تحول السائل إلى غاز. فالماء ينتقل إلى الهواء على شكل غاز.عِنْدَما تكون درجة حرارة الْماءِ أعلى يَكونُ تَبَخُّرُهُ أَسْرَعَ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14130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تَّبَخُّ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500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بُخارُ الْماءِ هُوَ ماءٌ عَلى شَكْلِ غاز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يَتَحَوَّلُ بُخارُ الْماءِ إِلى سائِلٍ عِنْدَما يَبْرُدُ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عِنْدَما يُلامِسُ بُخارُ الْماءِ الْمَوْجودُ في الْهَواءِ سَطْحًا بارِدًا، فَإِنَّهُ يَتَحَوَّلُ إِلى ماء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لِهَذا تَتَجَمَّعُ قَطَرَاتُ الْماءِ عَلى زُجاجِ النَّوَافِذِ وَالنَّظَّارَاتِ</a:t>
            </a: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أَحْيانً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313080" cy="181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620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09:23Z</dcterms:modified>
  <cp:revision>23</cp:revision>
  <dc:subject/>
  <dc:title>PowerPoint Presentation</dc:title>
</cp:coreProperties>
</file>