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water.wav" ContentType="audio/x-wav"/>
  <Override PartName="/ppt/media/CHEEPCHP.WAV" ContentType="audio/x-wav"/>
  <Override PartName="/ppt/media/image5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FFB-A071-4A3E-914B-5010983D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6E3-D716-42ED-8D37-742A391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56D-D6D0-48E7-B550-A0BAC907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C33-FC5A-4815-91E1-62E25E13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23B8-B9FD-4166-AF04-DEFA1766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E908-BF09-43D3-94BA-3840829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455-B2E7-422D-B8C7-4B30919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0C51-66C4-44EC-8CA1-48F0D988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B37C-FC1C-4178-8877-0771EF4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6C7B-2F8A-4736-9400-082C6FA2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52D2-58B9-4691-8428-98AB26A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8B4-7142-47C7-A5A6-D5E63E7B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F08C-DCAF-4465-B708-2A95BCE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3E2E-3AB0-41C6-9E95-3F828D9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3E0A-DE54-4290-A1D6-E5B3050D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B1DD-CFA0-4911-923D-22EABE2A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433B-8883-4DA8-AF0A-C4CAB85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5DD-02A6-44A3-8179-295BEB9C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9E7-F7CF-454D-8B11-EFB93B8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019-DAE8-4B0A-B84F-A74F80F4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59E-6F02-4F0E-BE62-EBBA8599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4D2-A1DF-410B-8117-BCC2F4E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ED9-D0FE-4DAF-8D43-F783CEE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CC4-82BE-46C1-B047-962A938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AD2-9700-465D-9DDC-12355464474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52EF-09EE-4C19-AD9F-D9540616FE6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PCHP.WAV"/><Relationship Id="rId3" Type="http://schemas.openxmlformats.org/officeDocument/2006/relationships/audio" Target="../media/CHEEPCHP.WAV"/><Relationship Id="rId4" Type="http://schemas.openxmlformats.org/officeDocument/2006/relationships/audio" Target="../media/CHEEPCHP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268280"/>
            <a:ext cx="3541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الدرس الثانى </a:t>
            </a:r>
            <a:endParaRPr b="1" lang="en-US" sz="54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3346560"/>
            <a:ext cx="71377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latin typeface="Hesham Fostat"/>
              </a:rPr>
              <a:t>المخاليط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2637000"/>
            <a:ext cx="7812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اَلْمَخْلوطُ شَيْئَانِ أَوْ أَشْيَاءٌ مُخْتَلِفَةٌ تَخْتَلِطُ مَعًا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لا تَتَغَيَّرُ المَوادُّ الصُّلْبَةُ عَادَةً عِنْدَ خَلْطِها، وَيُمْكِنُني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رُؤْيَتُها في الْمَخْلوطِ وَفَصْلُ بَعْضِها عَنْ بَعْضٍ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1238400"/>
            <a:ext cx="5748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ما اَلْمَخْلوطُ</a:t>
            </a: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421000"/>
            <a:ext cx="7704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عِنْدَما أخْلِطُ الْمَوادَّ الصُّلْبَةَ بالْماِء، فَإِنَّ بَعْضَها يَطْفُو عَلى سَطْحِ الْماءِ، وَبَعْضَها الآخَرَ يَنْغَمِرُ</a:t>
            </a: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73320" y="1197000"/>
            <a:ext cx="6412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600" spc="-1" strike="noStrike">
                <a:solidFill>
                  <a:srgbClr val="000000"/>
                </a:solidFill>
                <a:latin typeface="Times New Roman"/>
              </a:rPr>
              <a:t>خلط المواد الصلبة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44520"/>
            <a:ext cx="2087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773360"/>
            <a:ext cx="849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بَعْضُ المَوَادِّ الصُّلْبَةِ يَذُوْبُ في السَّوَائلِ؛ الذَّوَبَانُ امْتِزَاجُ الْمَادَّةِ كُلِّيَّا بِالسَّائِلِ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هَذا النَّوْعُ مِنَ الْمَخَالِيْطِ يَصْعُبُ فَصْلُ مُكَوِّناتِهِ بَعْضِها عَنْ بَعْضٍ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0280" y="549360"/>
            <a:ext cx="5755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0000"/>
                </a:solidFill>
                <a:latin typeface="Times New Roman"/>
              </a:rPr>
              <a:t>مَخاليطُ أُخْرى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492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2997360"/>
            <a:ext cx="7920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بَعْضُ السَّوائِلِ، ومْنها الْماءُ، والزَّيْتُ، لا يُمْكِنُ خَلْطُه، فَيَبْقَى مُنْفَصِلاً بَعْضُهُ عَنْ بَعْضٍ</a:t>
            </a:r>
            <a:r>
              <a:rPr b="1" lang="ar-SA" sz="5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3840" y="1484280"/>
            <a:ext cx="782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سوائل لا يمكن خلطها</a:t>
            </a: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30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7:52:41Z</dcterms:modified>
  <cp:revision>33</cp:revision>
  <dc:subject/>
  <dc:title>PowerPoint Presentation</dc:title>
</cp:coreProperties>
</file>