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FF0-7740-4C87-9D04-073A3764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B6B-5D6E-4902-BB8D-6E80C5EA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E6E-DE54-44DC-AEC4-66D89ACD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46C-A3B0-4EC0-9F13-B9DB39B1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4A3-BF63-41F6-987C-C35F61FA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99B-9461-4405-B48B-E285ACD3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1E7-626E-4833-A684-83F882AB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A18-EC38-4401-8240-EBF2B133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BB0-97FA-4A72-AD62-C8687BE9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A9C-AF42-48CC-88B9-AF245D0D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D93-F695-4E26-98F4-1BCD519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AF5-93DD-4E53-B2D8-558BC5A9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BBDD-4F3F-4E8B-A358-1DC9E1A2099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410" t="7707" r="8564" b="23399"/>
          <a:stretch/>
        </p:blipFill>
        <p:spPr>
          <a:xfrm>
            <a:off x="7667640" y="0"/>
            <a:ext cx="1297080" cy="175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765000"/>
            <a:ext cx="77724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9185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Diwani Bent"/>
              </a:rPr>
              <a:t>بسم الله الرحمن الرحي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ورقة عمل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مثيل البيانات ونظم الأعداد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لاسم:....................................................                       الصف:................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أول</a:t>
            </a: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ea typeface="AGA Dimnah Regula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اقرئي العبارات التالية و أحيطي الإشارة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صحيحة وأحيطي الإشارة   </a:t>
            </a:r>
            <a:r>
              <a:rPr b="1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إذا كانت العبارة خاطئ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ني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كملي الفراغات التالي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موز النظام الثنائي هي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........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ساس النظام السادس عشر هو 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9900"/>
                </a:solidFill>
                <a:uFillTx/>
                <a:latin typeface="Times New Roman"/>
                <a:cs typeface="AGA Aladdin Regular"/>
              </a:rPr>
              <a:t>الــســؤال الثال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حسبي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ولي من النظام الثنائي الى النظام العشري 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؟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1844640"/>
            <a:ext cx="439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4360" y="2708280"/>
          <a:ext cx="7656480" cy="865080"/>
        </p:xfrm>
        <a:graphic>
          <a:graphicData uri="http://schemas.openxmlformats.org/drawingml/2006/table">
            <a:tbl>
              <a:tblPr/>
              <a:tblGrid>
                <a:gridCol w="6481440"/>
                <a:gridCol w="358920"/>
                <a:gridCol w="81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ساس النظام السادس عشر هو العدد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بايت الواحد تساو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بي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r" rtl="1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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24000" y="476280"/>
            <a:ext cx="1152360" cy="79200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3640" y="836640"/>
            <a:ext cx="1152360" cy="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92360" y="6021360"/>
            <a:ext cx="477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1:27:13Z</dcterms:created>
  <dc:creator>norah</dc:creator>
  <dc:description/>
  <dc:language>en-US</dc:language>
  <cp:lastModifiedBy>شوشو</cp:lastModifiedBy>
  <dcterms:modified xsi:type="dcterms:W3CDTF">2007-01-01T15:56:08Z</dcterms:modified>
  <cp:revision>64</cp:revision>
  <dc:subject/>
  <dc:title>عرض تقديمي من PowerPoint</dc:title>
</cp:coreProperties>
</file>