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8BA0-9187-4538-A6A4-5248D2023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C04E-37D6-4B46-B5C8-BB8C44439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E055-07A1-4766-9C9B-DBDFFE054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0A7E-440F-4E0E-84C2-14DD5D17B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F5A6-7B45-459B-A6D8-A83597232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EB3D-157B-4564-B427-C2D9600A8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5E35-CFE8-48EE-B995-07A8A9E95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90CA-05E5-4EEF-BCDA-B7525D5DF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2D1A-84EB-4BB6-B35C-ED3E8F6AE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6B39-BD18-41B3-9ED9-F21F131F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AC94-EB7B-4FD5-B5AB-51F9B28B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D416-8CAD-49BC-8648-8D787948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BBF2-13E0-4552-B8C7-09F10212B90D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3410" t="7707" r="8564" b="23399"/>
          <a:stretch/>
        </p:blipFill>
        <p:spPr>
          <a:xfrm>
            <a:off x="7667640" y="0"/>
            <a:ext cx="1297080" cy="1755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765000"/>
            <a:ext cx="777240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549360"/>
            <a:ext cx="7918560" cy="69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Diwani Bent"/>
              </a:rPr>
              <a:t>بسم الله الرحمن الرحيم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ورقة عمل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مثيل البيانات ونظم الأعداد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الاسم:....................................................                       الصف:................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9900"/>
                </a:solidFill>
                <a:uFillTx/>
                <a:latin typeface="Times New Roman"/>
                <a:cs typeface="AGA Aladdin Regular"/>
              </a:rPr>
              <a:t>الــســؤال الأول</a:t>
            </a:r>
            <a:r>
              <a:rPr b="1" lang="ar-SA" sz="2400" spc="-1" strike="noStrike" u="sng">
                <a:solidFill>
                  <a:srgbClr val="ff9900"/>
                </a:solidFill>
                <a:uFillTx/>
                <a:latin typeface="Times New Roman"/>
                <a:ea typeface="AGA Dimnah Regular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اقرئي العبارات التالية و أحيطي الإشارة  </a:t>
            </a:r>
            <a:r>
              <a:rPr b="1" lang="en-US" sz="1600" spc="-1" strike="noStrike">
                <a:solidFill>
                  <a:srgbClr val="000000"/>
                </a:solidFill>
                <a:latin typeface="Wingdings 2"/>
                <a:ea typeface="Wingdings 2"/>
              </a:rPr>
              <a:t>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إذا كانت العبارة صحيحة وأحيطي الإشارة   </a:t>
            </a:r>
            <a:r>
              <a:rPr b="1" lang="en-US" sz="1600" spc="-1" strike="noStrike">
                <a:solidFill>
                  <a:srgbClr val="000000"/>
                </a:solidFill>
                <a:latin typeface="Wingdings 2"/>
                <a:ea typeface="Wingdings 2"/>
              </a:rPr>
              <a:t>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إذا كانت العبارة خاطئة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9900"/>
                </a:solidFill>
                <a:uFillTx/>
                <a:latin typeface="Times New Roman"/>
                <a:cs typeface="AGA Aladdin Regular"/>
              </a:rPr>
              <a:t>الــســؤال الثاني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أكملي الفراغات التالية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موز النظام الثنائي هي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........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ساس النظام السادس عشر هو 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9900"/>
                </a:solidFill>
                <a:uFillTx/>
                <a:latin typeface="Times New Roman"/>
                <a:cs typeface="AGA Aladdin Regular"/>
              </a:rPr>
              <a:t>الــســؤال الثالث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ar-SA" sz="16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احسبي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ولي من النظام الثنائي الى النظام العشري (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11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؟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1844640"/>
            <a:ext cx="439272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84360" y="2708280"/>
          <a:ext cx="7656480" cy="865080"/>
        </p:xfrm>
        <a:graphic>
          <a:graphicData uri="http://schemas.openxmlformats.org/drawingml/2006/table">
            <a:tbl>
              <a:tblPr/>
              <a:tblGrid>
                <a:gridCol w="6481440"/>
                <a:gridCol w="358920"/>
                <a:gridCol w="816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ساس النظام السادس عشر هو العدد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 rtl="1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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قيمة البايت الواحد تساوي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بي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 rtl="1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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324000" y="476280"/>
            <a:ext cx="1152360" cy="792000"/>
          </a:xfrm>
          <a:prstGeom prst="rect">
            <a:avLst/>
          </a:prstGeom>
          <a:noFill/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323640" y="836640"/>
            <a:ext cx="115236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692360" y="6021360"/>
            <a:ext cx="47772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5T01:27:13Z</dcterms:created>
  <dc:creator>norah</dc:creator>
  <dc:description/>
  <dc:language>en-US</dc:language>
  <cp:lastModifiedBy>شوشو</cp:lastModifiedBy>
  <dcterms:modified xsi:type="dcterms:W3CDTF">2007-01-01T15:56:08Z</dcterms:modified>
  <cp:revision>64</cp:revision>
  <dc:subject/>
  <dc:title>عرض تقديمي من PowerPoint</dc:title>
</cp:coreProperties>
</file>