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40E-B30E-4EEF-B568-7EA428C9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1B9-1E1D-4BD6-8BA3-937C2F6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57F-3B79-48C2-BB05-4CD9BBFD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502-3059-4D28-BF97-24AE810B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62D-A0DA-4300-8495-B283D0A9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667-C1C9-4E51-9FAD-D1E69D9E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29B-06BC-4ED9-BFCD-74276F85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B61-8A40-487F-A662-F8600291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AD1-04DA-45EC-862E-D4EAC25B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309-8889-449A-8884-EFEE23D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02E-92AB-434C-87F9-A469926D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97F-5392-4963-922C-817B1D49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B5A6-F6EC-4258-955D-8E0F31D8D3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sledges did Robert Scott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ledges we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y eat well or bad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 return successful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wegia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ted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ful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2T05:12:48Z</dcterms:modified>
  <cp:revision>8</cp:revision>
  <dc:subject/>
  <dc:title>عرض تقديمي من PowerPoint</dc:title>
</cp:coreProperties>
</file>