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F1E3-FB4D-4E4C-BB04-1A4D1788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2678-98CA-46B9-8A60-1BF81031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5F5-47E5-4206-8267-BFA651BC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39D-A56E-4DA0-8C9F-08E06EEA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4CCE-10AD-420D-AB6B-179D814E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07C3-E75C-46C6-B965-E67DDC0D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3BD8-7738-4E72-8CE1-9F418F3E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2A9-7E44-4546-870D-E70E6D6B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605-51E5-4A1C-A874-8FD9726C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32E-ECA7-41BD-A921-C1AA0212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EAF-0C75-4A00-891D-8EED2714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8D99-9C7E-48E1-ABC6-59900998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95BB-E072-43EC-BFA6-DB25AC80A26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sledges did Robert Scott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kind of sledges were the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 they eat well or bad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 the return successful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3810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wegia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n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 ,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ted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343400" y="990360"/>
            <a:ext cx="4114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e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ful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4-02T05:12:48Z</dcterms:modified>
  <cp:revision>8</cp:revision>
  <dc:subject/>
  <dc:title>عرض تقديمي من PowerPoint</dc:title>
</cp:coreProperties>
</file>