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309-A2B0-4102-88F9-B7D5E188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B3B-C4ED-45DC-9A07-AFB343B5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317-CEED-49E1-9BDC-ADF7F3AA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820-12DD-4F5E-9595-4DFA7CC4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861-1037-4D99-9E29-882A8D26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548-FC58-4DEB-A9E0-A83744C2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F97-9347-47ED-99B1-460987F2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BF9-E809-46EF-A441-45447C92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842-3E3E-49CD-8E57-BC2E313F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ED4-AB34-4952-9788-75FFFABF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859-5A7C-429D-9770-E8209CA5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38A-ED61-46C3-A41F-AEEA0A7F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2927-2359-4BBA-9A4C-FD59F9672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dg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4280" y="609480"/>
            <a:ext cx="381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51:13Z</dcterms:created>
  <dc:creator>Bafayad</dc:creator>
  <dc:description/>
  <dc:language>en-US</dc:language>
  <cp:lastModifiedBy>Bafayad</cp:lastModifiedBy>
  <dcterms:modified xsi:type="dcterms:W3CDTF">2004-02-14T14:51:22Z</dcterms:modified>
  <cp:revision>1</cp:revision>
  <dc:subject/>
  <dc:title>عرض تقديمي من PowerPoint</dc:title>
</cp:coreProperties>
</file>