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BCCD-50F9-46D3-A69F-C12AED42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F10-BC15-4B2C-A1F2-46E97362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1E08-C141-44B1-ABE8-57881CC3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CC1-1DC3-4B19-975E-34534D70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A6D-F1E1-484F-824C-A536AA4A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FE8-9EA0-4A9B-9618-25F668E5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FB4E-FFE1-4FED-B39F-68841D3A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CAF5-76E6-456F-A996-E9334E63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886-AE1E-41E9-90BD-99B56A16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C0F-DD34-45C8-B401-149BB889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4333-27F9-4904-9F8C-3B0628A3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320C-F8EE-4742-9A1A-ABF5AE35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B67D-4AD0-476F-96CD-41C13B2BF4F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ضاعفة الحرف الساكن الأخ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ند اضافة هؤلاء الي الكلمة فأننا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1981080"/>
            <a:ext cx="2666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نضاعف الحرف الساكن الاخير اذ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كلمة بمقطع واحد وتنتهي بحرف علة + ساك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نتهت بمقطع مشد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نتهت بعلة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1981080"/>
            <a:ext cx="24386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كننا لا نضاعف اذا كان هنا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حرفين علة او ساكن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لم تنتهي بمقطع مشد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- انتهت الكلمة ب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-X-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تغيير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ي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 هؤلاء 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981080"/>
            <a:ext cx="29718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غير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لي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اذا انتهت الكلمة بساكن +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1981080"/>
            <a:ext cx="2743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لكننا لا نغير اذا انتهت الكلمة بعلة +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حذف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في اخر الكلم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1981080"/>
            <a:ext cx="29718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حذف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ذا كانت لا تنط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عض الاستثنأت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e + l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1981080"/>
            <a:ext cx="2743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لكننا لا نحذفها اذ كانت تنط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اضافة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1981080"/>
            <a:ext cx="5410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ضف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ذا انتهت الكلمة ب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 – s – sh – x –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واحيانا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عض الاستثناءات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to – pho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2120" y="304560"/>
            <a:ext cx="7772400" cy="1904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i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g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run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desi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b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promi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forc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f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7772400" cy="190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do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bab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h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boi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pau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toma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consid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c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4572000"/>
            <a:ext cx="7772400" cy="1905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pray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ti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enj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control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travel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vis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 tri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 oper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 prefe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0:17Z</dcterms:created>
  <dc:creator>Bafayad</dc:creator>
  <dc:description/>
  <dc:language>en-US</dc:language>
  <cp:lastModifiedBy>معمل الانجليزي</cp:lastModifiedBy>
  <dcterms:modified xsi:type="dcterms:W3CDTF">2005-03-21T07:20:04Z</dcterms:modified>
  <cp:revision>11</cp:revision>
  <dc:subject/>
  <dc:title>عرض تقديمي من PowerPoint</dc:title>
</cp:coreProperties>
</file>