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38D-E579-474D-894F-9D491196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F6E-8B3D-4217-A369-76B733FC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49A-DF31-4945-A4DD-0980AFDC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E1E-2AC9-49D6-8D88-BD5D2C62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E39-7744-4864-987F-BE3CB66D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FAC-82B9-4208-9AC0-FE5B93B3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88D-A796-483C-A279-A25DBD5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941-54AA-48E8-A90F-D80C24CA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1D5-E554-4F26-A7AE-A4E0E5F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574-D171-4802-BE52-268DEB4C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0E1-9688-4706-A15B-F74FC46C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6E6-E06F-4250-8067-99D6CCB0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C306-6AA6-44B1-9B86-DB93748A2D2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02904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شتمل على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60948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 (لاحظ حرف العلة قبلها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- Differen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1430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um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di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travell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kilome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lab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refu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colou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avou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centimet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en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ub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ur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fl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e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ho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4-04T04:47:35Z</dcterms:modified>
  <cp:revision>7</cp:revision>
  <dc:subject/>
  <dc:title>عرض تقديمي من PowerPoint</dc:title>
</cp:coreProperties>
</file>