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61A9-98D0-442A-9576-AB4F2089C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922E-00EC-422F-8F1F-B8B9CDCB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5CA5-9A56-4DB3-8B38-4103DBBBE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BBF7-9974-498E-B18C-9CB529364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B5EE-80CB-436B-9FBA-FA25190A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DA5B-29E6-4AB8-9893-379023CE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DAFA-1506-4FCB-BF8D-3B358900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929F-57C9-4763-83BB-822C0B95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458B-E6C4-4D71-940D-5F467E4C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CDD2-C304-44EE-A9A1-E2BAB79A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B10D-33CF-4ABB-92D2-86CC9608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7CEB-C30C-4386-8C15-2222D926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E04D-493D-4331-AAB5-B0F4E0E16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G00343_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3160" y="609480"/>
            <a:ext cx="3809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Font typeface="Wingdings" charset="2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kespeare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ey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dge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24280" y="609480"/>
            <a:ext cx="3810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Font typeface="Wingdings" charset="2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on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ton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lo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t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onio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4T14:51:13Z</dcterms:created>
  <dc:creator>Bafayad</dc:creator>
  <dc:description/>
  <dc:language>en-US</dc:language>
  <cp:lastModifiedBy>Bafayad</cp:lastModifiedBy>
  <dcterms:modified xsi:type="dcterms:W3CDTF">2004-02-14T14:51:22Z</dcterms:modified>
  <cp:revision>1</cp:revision>
  <dc:subject/>
  <dc:title>عرض تقديمي من PowerPoint</dc:title>
</cp:coreProperties>
</file>