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530-3BFF-4645-B40E-CBD1772E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F22-964C-4568-83DE-4EFD917B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3B4-E6B2-4D50-BD09-3E55129F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3A5-DA4E-43E3-AE36-D93531BA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765-8BEC-41FC-98C8-BFBA0820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4EE-BD0A-4A23-B76E-664E5641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8E2-6F15-4A58-BDE9-684A24A4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47F-D76D-4722-80DE-642A2245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DD6-C7DC-4922-AE3B-A61CDFE3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762-8408-4FA2-8D48-925080F4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033-2C37-49AF-96BE-561CED6D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B21-81BF-41EB-A645-1DA189DB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6E52-AB5B-4BEE-A198-133B6C85F89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3629160"/>
            <a:ext cx="2666880" cy="254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786200" y="376236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VIDING 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Ramadan is the ninth </a:t>
            </a: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mo- 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nth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in Islamic calendar.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All adult must fast </a:t>
            </a: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Ram-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ada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They are not allowed to eat or drink between dawn and sunset. Fasting strengthens a person by increasing his self-contr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552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madan is the ninth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on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Islamic calenda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adult must fast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amada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not allowed to eat or drink between dawn and sunse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ting strengthens a person by increasing his self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552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not divide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not necess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difficu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does not help you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333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-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-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teri-n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81480" y="9140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-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-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-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e-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333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-nities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-ology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teri-nar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81480" y="9140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-ces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-et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-ics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e-t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abi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versit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ject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p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inah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8:11:20Z</dcterms:created>
  <dc:creator>Bafayad</dc:creator>
  <dc:description/>
  <dc:language>en-US</dc:language>
  <cp:lastModifiedBy>معمل الانجليزي</cp:lastModifiedBy>
  <dcterms:modified xsi:type="dcterms:W3CDTF">2005-03-19T08:37:29Z</dcterms:modified>
  <cp:revision>11</cp:revision>
  <dc:subject/>
  <dc:title>Ramadan is the ninth mo-  nth in Islamic calendar.  All adult must fast Ram- adan. They are not allowed to eat or drink between dawn and sunset. Fasting strengthens a person by increasing his self-control.</dc:title>
</cp:coreProperties>
</file>