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A499-D890-4025-A832-125033E0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F220-ED4F-45F8-B8B3-8632850D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A89F-645E-40A8-BDA4-A51775A2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A3E9-E3C5-4404-8FBA-95EE562A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472F-09D9-4731-831D-DDA2D695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E327-ADE2-4063-8A0C-4DD63F58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6F29-7557-4019-96FB-5A541685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F7EB-50A9-4B0C-977D-D006E068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1C20-C7AD-4997-892C-132C152F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3BAF-E75A-4B3B-893C-13B85B67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D713-D88A-43FF-8418-686C08E3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40A-5EF2-4478-8BEF-00C979DE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7A23-1CD9-48A3-A65C-77BBFE15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7F29-88E9-42EB-BC6E-540D22D2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6BCE-062F-48FD-8ED5-B19B0069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D323-AE7F-440F-9F6A-4A6153D3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C654-89D6-4C7B-8B2D-FCE0DBCE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0768-C124-4A09-A8CC-0968694D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BF9A-1F44-4C7B-9ADB-916CEF46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DFD4-A72B-43C8-9FFF-0535F347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D8A5-9DC5-4F02-BD26-1BA7E823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CB46-BD7D-4566-BD19-E4EA6E98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5998-848D-409D-B08C-75DB35F1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ECEE-B45A-4105-8BB9-13800BE9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23F6-92D8-4B76-8B32-7C1AE49C7C09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156C-824F-44E2-A3D1-BE1905D4BB80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4211640" y="189000"/>
            <a:ext cx="792000" cy="307080"/>
          </a:xfrm>
          <a:prstGeom prst="rect">
            <a:avLst/>
          </a:prstGeom>
          <a:solidFill>
            <a:srgbClr val="cc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50920" y="476280"/>
            <a:ext cx="2448000" cy="30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 SPELL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0920" y="836640"/>
            <a:ext cx="4249800" cy="307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ing the last conson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50920" y="119700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should I double the last consonant of wor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50920" y="1628640"/>
            <a:ext cx="1441440" cy="441252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908000" y="1628640"/>
            <a:ext cx="3384720" cy="4523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the last consonan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has 1 syllable and ends 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wel + 1 consona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t – s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g – bigg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– stopp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 a stressed syll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 – controll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- beginn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wel + 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vel - trave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5580000" y="1628640"/>
            <a:ext cx="3384720" cy="44125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do not double the last consonant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 are two vowels or two consona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it ---wa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l --- coo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ng ---brin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ast syllable is not stress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t – visit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- devel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 w , x or 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w -   sho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x – box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y – play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w - draw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50920" y="189000"/>
            <a:ext cx="25905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ing y to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0920" y="549360"/>
            <a:ext cx="33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should I change y to 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79280" y="981000"/>
            <a:ext cx="2232000" cy="21420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 these 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627280" y="981000"/>
            <a:ext cx="2376360" cy="214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+change the y to 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 word ends in a consonant + 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y – tri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ry – carri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y  - dri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y – fl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292720" y="981000"/>
            <a:ext cx="3240000" cy="192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do not change it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 in a vowel + 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y – pla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y – bu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y – say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24000" y="3429000"/>
            <a:ext cx="223200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ing off the final 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468360" y="371628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 should I take the final e off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50920" y="4005360"/>
            <a:ext cx="2160360" cy="2253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700360" y="4076640"/>
            <a:ext cx="2663640" cy="2253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ve the e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sil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– writ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– u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some exceptio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 ___dy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e __ ly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5580000" y="4076640"/>
            <a:ext cx="2879640" cy="1604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do not remove the e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 is sil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__ see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 __ be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79280" y="189000"/>
            <a:ext cx="15843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ng 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692280"/>
            <a:ext cx="2952720" cy="30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should I add e 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000" y="1125360"/>
            <a:ext cx="2232000" cy="48481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276720" y="1197000"/>
            <a:ext cx="3240000" cy="4736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e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 ch , s , sh , x  or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sometimes  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)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ch __ wat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x __ box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__ do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__ go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ato __ potato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mato __ tomato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several exceptions, for examp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to __ ph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 __ rad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__ video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4:19:37Z</dcterms:created>
  <dc:creator>عبدالله &amp; محمد</dc:creator>
  <dc:description/>
  <dc:language>en-US</dc:language>
  <cp:lastModifiedBy>- </cp:lastModifiedBy>
  <dcterms:modified xsi:type="dcterms:W3CDTF">2007-02-17T15:10:26Z</dcterms:modified>
  <cp:revision>12</cp:revision>
  <dc:subject/>
  <dc:title>الشريحة 1</dc:title>
</cp:coreProperties>
</file>