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B0F-9205-425A-A815-B59AD8C2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779-C2E9-4037-85E2-F698C61F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F8B-C667-45D5-80FD-B8164852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443-8FDE-4BAC-89EA-6E9CAE29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3BA-C3BC-4ADD-828D-0C3A9778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FE0-55B2-48CD-B8CA-C282E337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508-7E6D-41C3-9DA9-CF4C9AB1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410-F79D-41BC-88DE-AD53DA9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0BE-C5BD-4012-A477-5CCEFE57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D0B-C143-43E6-A4D2-2B02803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7EB-CE6A-4699-BF7C-55694408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21A-97E8-4B97-B7A6-4777440A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1218-4765-41D6-9A61-4C1CA16EB9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02904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شتمل على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60948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 (لاحظ حرف العلة قبلها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- Differen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1430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um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di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travell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kilome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lab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refu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colou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avou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centimet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en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ub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ur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fl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e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ho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4-04T04:47:35Z</dcterms:modified>
  <cp:revision>7</cp:revision>
  <dc:subject/>
  <dc:title>عرض تقديمي من PowerPoint</dc:title>
</cp:coreProperties>
</file>