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113-629F-49CE-AC03-0B4FF0DB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692-844B-440D-BE69-48C6D8DC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D4E-7391-4966-9021-48EA58A5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39E-4CC2-4B9A-ADF7-0BECBA44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CDB-9578-4465-928B-AF8794B7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1AE-E1A5-49FC-B53D-0DD7FC64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11A-146F-471E-AA05-9A9DFDB9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D8A-B8FB-416F-A649-73E485A3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E1C-C5C8-4B90-851D-3C56D57B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145-C985-451E-AB41-CF6CB247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6DC-CC17-4BD9-B436-528FB38E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B21-07B6-43FF-BB3C-C384756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F0CD-EB79-4DF5-915E-9E1481022B3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z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y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1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3-26T04:41:37Z</dcterms:modified>
  <cp:revision>3</cp:revision>
  <dc:subject/>
  <dc:title>عرض تقديمي من PowerPoint</dc:title>
</cp:coreProperties>
</file>