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AED-256D-41F4-92E2-2E16F444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8E2-01EA-4923-B7B4-C4BF7249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814-780E-4E64-9F37-62247FCC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6AF-2740-47AF-AFF0-F07D2815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4A5-C954-4E91-94F6-04D30855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8A6-7B79-46A3-9B23-9964DD6B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1ED-2F6D-40A5-A5DC-01D94065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853-D098-4774-9D06-934C52D6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42D-1FB4-44C1-B01C-AC7B0C60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BC4-A67C-4660-BB79-5FB847D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820-75E7-45EB-A5A8-315E93C3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6FF-DC60-4991-8FB2-8C4E611F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F053-F9C7-447E-BF73-65FE5B4BDD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sledges did Robert Scott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ledges we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y eat well or bad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 return successfu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wegia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ted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ful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2T05:12:48Z</dcterms:modified>
  <cp:revision>8</cp:revision>
  <dc:subject/>
  <dc:title>عرض تقديمي من PowerPoint</dc:title>
</cp:coreProperties>
</file>