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9BD4-FBAE-4988-A345-43EF3C78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7364-1C27-4663-81A2-D5C8D2B9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D02E-173F-41F6-8338-6B94754B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045D-68AC-4509-86B7-25A726F9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B5F0-8C90-41C6-A575-F8E03347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DDBC-3CB4-49FA-993F-659DB0A3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43B7-9B77-44AD-9470-02585BB4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B3A6-AD96-4844-B564-4A5E8FD2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AE0A-F8D9-4310-946D-73AD6A51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8272-C5F8-4A9E-80DE-B818E218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1681-EB86-40FF-9BD2-570B4D29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A691-FCFA-4F73-8907-4CDA3228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411C-85D9-438D-9850-D0C29A9DE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G00343_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240" y="990360"/>
            <a:ext cx="3962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ud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•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cal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ing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Wingdings" charset="2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ed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761760" y="1905120"/>
            <a:ext cx="609480" cy="6094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609480" cy="6094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181480" y="1905120"/>
            <a:ext cx="609840" cy="6094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1905120"/>
            <a:ext cx="609840" cy="6094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3:05Z</dcterms:created>
  <dc:creator>Bafayad</dc:creator>
  <dc:description/>
  <dc:language>en-US</dc:language>
  <cp:lastModifiedBy>Bafayad</cp:lastModifiedBy>
  <dcterms:modified xsi:type="dcterms:W3CDTF">2004-05-01T15:44:15Z</dcterms:modified>
  <cp:revision>5</cp:revision>
  <dc:subject/>
  <dc:title>عرض تقديمي من PowerPoint</dc:title>
</cp:coreProperties>
</file>