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71B-724C-4C24-8EAB-EB03AB52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091-CC27-403F-AAD7-5155A6D0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510-8757-4412-BB5D-8F2E1C29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3BB-6C96-4CAC-ADE2-208CA71D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31D-7F09-471A-BD2F-88EB2AFC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56A-089A-4976-B49B-D5108267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DF9-27B3-4D67-A847-9EA344EA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215-B708-442A-BAA7-83225A03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1D1-F91C-489E-9DB5-4100152D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039-6620-474E-9112-5150CC85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AFB-68AD-4A8E-AE04-A290D53A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907-7954-4474-B0AF-DF3D413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0F39-7406-4017-BC47-9DCDB45ED92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4099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8580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6858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8195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8195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8769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Abbrev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8769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اختصارات اخر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77156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19720" y="160020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3885840"/>
            <a:ext cx="6019920" cy="2514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hequ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lif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ty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t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trous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program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ol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tel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N.B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e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10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O.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3-27T08:49:45Z</dcterms:modified>
  <cp:revision>7</cp:revision>
  <dc:subject/>
  <dc:title>عرض تقديمي من PowerPoint</dc:title>
</cp:coreProperties>
</file>