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9EB9-1C8C-4F1D-B602-4948EF79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D0C-B552-45D0-8EB0-A28E72BF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099-1FE2-465A-B754-2FE17184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E585-C587-4463-8DD3-3198A914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1BC-F75B-4B00-AAB7-450BC359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6EA8-276E-4184-9FEE-1DDA57FB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5B37-3B8E-4ADE-B3BF-2601DFD8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EA2A-7773-47FB-8A7C-DE1C64E1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BE4-5E6F-4C71-8AEF-29AE49E3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AD21-C38C-49D2-91E9-17394A37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458-B4E7-4CB3-A8FF-C6B478B4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3A7-0786-4B1E-9982-73837397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7748-7DC6-4BC8-B9A5-82BE6482FDF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ضاعفة الحرف الساكن الأخ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ند اضافة هؤلاء الي الكلمة فأننا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1981080"/>
            <a:ext cx="2666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نضاعف الحرف الساكن الاخير اذ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كلمة بمقطع واحد وتنتهي بحرف علة + ساك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نتهت بمقطع مشد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نتهت بعلة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1981080"/>
            <a:ext cx="24386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كننا لا نضاعف اذا كان هنا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حرفين علة او ساكن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لم تنتهي بمقطع مشد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- انتهت الكلمة ب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-X-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تغيير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ي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 هؤلاء 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981080"/>
            <a:ext cx="29718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غير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لي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اذا انتهت الكلمة بساكن +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1981080"/>
            <a:ext cx="2743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لكننا لا نغير اذا انتهت الكلمة بعلة +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حذف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في اخر الكلم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1981080"/>
            <a:ext cx="29718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حذف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ذا كانت لا تنط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عض الاستثنأت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e + l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1981080"/>
            <a:ext cx="2743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لكننا لا نحذفها اذ كانت تنط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اضافة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1981080"/>
            <a:ext cx="5410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ضف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ذا انتهت الكلمة ب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 – s – sh – x –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واحيانا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عض الاستثناءات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oto – pho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2120" y="304560"/>
            <a:ext cx="7772400" cy="1904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i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g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run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desi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b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promi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forc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f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7772400" cy="190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do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bab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h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boi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pau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toma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consid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c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4572000"/>
            <a:ext cx="7772400" cy="1905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pray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ti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enj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control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travel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vis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 tri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 oper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 prefe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0:17Z</dcterms:created>
  <dc:creator>Bafayad</dc:creator>
  <dc:description/>
  <dc:language>en-US</dc:language>
  <cp:lastModifiedBy>معمل الانجليزي</cp:lastModifiedBy>
  <dcterms:modified xsi:type="dcterms:W3CDTF">2005-03-21T07:20:04Z</dcterms:modified>
  <cp:revision>11</cp:revision>
  <dc:subject/>
  <dc:title>عرض تقديمي من PowerPoint</dc:title>
</cp:coreProperties>
</file>