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E901-2069-45FC-AF21-15585DE19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76AF-CEAC-479B-BE0D-BF2ABDA4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01B2-3518-486F-9149-6699F1C36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C729-A161-43F5-B7AB-FBCC9D9C8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1F9E-6E2F-4E15-82D1-B21493D7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360C-59E7-4B3E-8460-C514DEBD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B5CE-3C98-4726-AA3E-5605E8F0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1FA3-6F62-4563-B2BE-5D7B6235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E8B2-3F0F-4964-9C83-9730C2F8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9183-3040-46DC-8B86-1A367DF2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F07F-D7AD-410B-84CD-C0FFB037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C99D-BC56-4B71-B896-0EB6EC96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C354-DA62-437B-8CC8-DF94FF0B8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3333cc"/>
                </a:solidFill>
                <a:latin typeface="Times New Roman"/>
              </a:rPr>
              <a:t>Writing Book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C:\CLIPART\HOMEANIM\AG00343_.GIF"/>
          <p:cNvPicPr/>
          <p:nvPr/>
        </p:nvPicPr>
        <p:blipFill>
          <a:blip r:embed="rId1"/>
          <a:stretch/>
        </p:blipFill>
        <p:spPr>
          <a:xfrm>
            <a:off x="1709640" y="3886200"/>
            <a:ext cx="2100240" cy="2590920"/>
          </a:xfrm>
          <a:prstGeom prst="rect">
            <a:avLst/>
          </a:prstGeom>
          <a:ln w="0">
            <a:noFill/>
          </a:ln>
        </p:spPr>
      </p:pic>
      <p:sp>
        <p:nvSpPr>
          <p:cNvPr id="43" name="WordArt 4"/>
          <p:cNvSpPr txBox="1"/>
          <p:nvPr/>
        </p:nvSpPr>
        <p:spPr>
          <a:xfrm>
            <a:off x="4648320" y="4191120"/>
            <a:ext cx="29098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1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… …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o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... …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bu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… …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… 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WordArt 4"/>
          <p:cNvSpPr txBox="1"/>
          <p:nvPr/>
        </p:nvSpPr>
        <p:spPr>
          <a:xfrm>
            <a:off x="6172200" y="609480"/>
            <a:ext cx="1981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4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04920" y="533520"/>
            <a:ext cx="441936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داية الجم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سماء الأشخاص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لقاب الأشخا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سماء اللغ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سماء الأماك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عناو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سماء الشهو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سماء الأيا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'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' 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ضمير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عنوان 1"/>
          <p:cNvSpPr/>
          <p:nvPr/>
        </p:nvSpPr>
        <p:spPr>
          <a:xfrm>
            <a:off x="4572000" y="228600"/>
            <a:ext cx="4191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حروف الكبير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عنوان 1"/>
          <p:cNvSpPr/>
          <p:nvPr/>
        </p:nvSpPr>
        <p:spPr>
          <a:xfrm>
            <a:off x="5181480" y="1752480"/>
            <a:ext cx="35816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ستخدم الحروف الكبيرة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i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الحالات التا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837720" y="3200040"/>
            <a:ext cx="44197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في نهاية كل جمل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بعد الاختصار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371600" y="53352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Full  Stop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</a:rPr>
              <a:t>النقاط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438280" y="205740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ستخدم النقاط في الحالات التا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837720" y="3200040"/>
            <a:ext cx="44197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 algn="r" rtl="1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مع المفرد نضع ، ثم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 algn="r" rtl="1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مع الجمع نضع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ثم 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 algn="r" rtl="1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000000"/>
                </a:solidFill>
                <a:latin typeface="Times New Roman"/>
              </a:rPr>
              <a:t>مع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t is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ar-SA" sz="3600" spc="-1" strike="noStrike">
                <a:solidFill>
                  <a:srgbClr val="000000"/>
                </a:solidFill>
                <a:latin typeface="Times New Roman"/>
              </a:rPr>
              <a:t>و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t h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1371600" y="533520"/>
            <a:ext cx="6858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postrophes  </a:t>
            </a:r>
            <a:r>
              <a:rPr b="0" lang="ar-SA" sz="5400" spc="-1" strike="noStrike">
                <a:solidFill>
                  <a:srgbClr val="000000"/>
                </a:solidFill>
                <a:latin typeface="Times New Roman"/>
              </a:rPr>
              <a:t>الفواصل العليا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2438280" y="205740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ستخدم الفواصل العليا في الحالات التا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ين الأشياء في القوائ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عد الكلمات الافتتاح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عد العبارات الطوي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 rtl="1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عد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في نهاية الجم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عد الأسئلة الذي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عد خانة الأل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في مواضع خاصة من الرسا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1371600" y="38088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Commas  </a:t>
            </a:r>
            <a:r>
              <a:rPr b="1" i="1" lang="ar-SA" sz="4800" spc="-1" strike="noStrike">
                <a:solidFill>
                  <a:srgbClr val="000000"/>
                </a:solidFill>
                <a:latin typeface="Times New Roman"/>
              </a:rPr>
              <a:t>الفواص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438280" y="15238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ستخدم </a:t>
            </a:r>
            <a:r>
              <a:rPr b="1" i="1" lang="ar-SA" sz="3600" spc="-1" strike="noStrike">
                <a:solidFill>
                  <a:srgbClr val="000000"/>
                </a:solidFill>
                <a:latin typeface="Times New Roman"/>
              </a:rPr>
              <a:t>الفواصل </a:t>
            </a:r>
            <a:r>
              <a:rPr b="1" i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الحالات التا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371600" y="533520"/>
            <a:ext cx="6400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ا تنسى الفراغ في بداية كل قطعة بمقدار </a:t>
            </a:r>
            <a:r>
              <a:rPr b="1" i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5</a:t>
            </a:r>
            <a:r>
              <a:rPr b="1" i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أحر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ter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got out of my father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 car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 saw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-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 on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led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eet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bruary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met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ctor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-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sser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 was at his brother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 hospital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 said she wanted to learn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rman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opp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e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opp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e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457200" y="388620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kniv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box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tomato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star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appl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par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مع الجمل المتشابه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مع الجمل المتناقض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مع جمل بها اختيا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عند الربط نحذف الكلمات المتكرر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WordArt 4"/>
          <p:cNvSpPr txBox="1"/>
          <p:nvPr/>
        </p:nvSpPr>
        <p:spPr>
          <a:xfrm>
            <a:off x="1981080" y="609480"/>
            <a:ext cx="6172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الروابط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4T14:22:52Z</dcterms:created>
  <dc:creator>Bafayad</dc:creator>
  <dc:description/>
  <dc:language>en-US</dc:language>
  <cp:lastModifiedBy>- </cp:lastModifiedBy>
  <dcterms:modified xsi:type="dcterms:W3CDTF">2007-02-24T21:08:30Z</dcterms:modified>
  <cp:revision>15</cp:revision>
  <dc:subject/>
  <dc:title>Writing Book</dc:title>
</cp:coreProperties>
</file>