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5F30-9E47-400A-8F3A-87276F2C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291C-1756-477C-9DC4-D1416118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FE14-EF78-4E36-B343-8B4C74D41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F50F-9B5E-4B17-BDA8-B51848BEC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EDFA-0866-4603-88B8-FD22E8C2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6E05-98E9-476B-9B32-0B3FD7A0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2431-DAB2-4EA2-9704-152AF89C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5BB1-8B25-4388-B5EE-800461BE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5B81-15E6-441E-AE95-FEBDF605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385D-A6ED-4EE7-BB41-3F043516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F41B-46A7-49D9-8DF4-77D8290B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D5BE-A5B7-460B-B062-647E060D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DB4F-719B-4690-B1A2-BCA42D1D208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3524400"/>
            <a:ext cx="183852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343400" y="3352680"/>
            <a:ext cx="298620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2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447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Times New Roman"/>
              </a:rPr>
              <a:t>الاخـتـصـارات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بعض الكلم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590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الاماك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419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الاعدا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2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القياس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133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ايام الأسبوع واشهر السن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365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خاص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5105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خاص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572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. Common Symb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267080" y="1980720"/>
            <a:ext cx="41911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Times New Roman"/>
              </a:rPr>
              <a:t>رموز عام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pre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68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Makkah St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U.K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8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University R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9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5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e.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Times New Roman"/>
              </a:rPr>
              <a:t>الـتـمـاريـن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12:10Z</dcterms:created>
  <dc:creator>Bafayad</dc:creator>
  <dc:description/>
  <dc:language>en-US</dc:language>
  <cp:lastModifiedBy>معمل الانجليزي</cp:lastModifiedBy>
  <dcterms:modified xsi:type="dcterms:W3CDTF">2005-03-27T06:42:15Z</dcterms:modified>
  <cp:revision>8</cp:revision>
  <dc:subject/>
  <dc:title>عرض تقديمي من PowerPoint</dc:title>
</cp:coreProperties>
</file>