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30A-0B46-401D-944A-0AD02DF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66A-340F-45BE-838E-CB903DF1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B39-A991-4D6B-971E-B882EE10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27E-977F-4048-8AA9-2C03F2E1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733-CC65-4B20-8D70-F0D636E0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901-9408-4871-9830-4CD1ADF9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A2A-36D5-49E9-B3AA-09016996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0AF-04A8-421F-AF7C-835FB711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63B-8270-4313-AD34-32D405BE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12D-238F-4F5E-98EC-4BBA9D5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009-576F-4AEE-84ED-813EA3F2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EA0-44A3-4BA6-A448-FACF0B2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51BE-C0E9-4DB7-ACD6-B533EEA66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lligraphy" descr=""/>
          <p:cNvPicPr/>
          <p:nvPr/>
        </p:nvPicPr>
        <p:blipFill>
          <a:blip r:embed="rId1"/>
          <a:stretch/>
        </p:blipFill>
        <p:spPr>
          <a:xfrm>
            <a:off x="2590920" y="4667400"/>
            <a:ext cx="3657600" cy="196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ring Roman Script with Gothic Scrip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man and Gothic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ell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n English script. Roman is mo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n Gothic because It is easi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ause of this , Roman Script is more often  used in prin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day handwriting than Gothic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an script is not as heavy as Gothic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less decor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 scripts are vertic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3T05:05:05Z</dcterms:modified>
  <cp:revision>8</cp:revision>
  <dc:subject/>
  <dc:title>عرض تقديمي من PowerPoint</dc:title>
</cp:coreProperties>
</file>