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F03-9ED0-4645-84C5-5D8DFC9E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185-62EB-4A64-B243-156E2EF7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88E-316E-401D-8615-6436F502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59E-CC0B-4825-ABBC-F1DD9B64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5A5-4FAD-4D97-9B79-7FC1D2D4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AB0-8C07-4CB0-816F-B6D97088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1C8-C502-4804-9739-A219EBEA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042C-E1A2-4F75-AFF9-E6463DCC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726-E4D1-4F98-BF7C-1F2A2E95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C3E-D72B-4E58-B704-20A0AA4E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512-B922-4023-B0B8-284864F4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B9B-1CA9-43F5-BA6B-172CC751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18FC-1C71-4966-8507-BB1E73EAC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u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•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ing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ed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61760" y="1905120"/>
            <a:ext cx="60948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60948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81480" y="1905120"/>
            <a:ext cx="60984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1905120"/>
            <a:ext cx="60984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Bafayad</cp:lastModifiedBy>
  <dcterms:modified xsi:type="dcterms:W3CDTF">2004-05-01T15:44:15Z</dcterms:modified>
  <cp:revision>5</cp:revision>
  <dc:subject/>
  <dc:title>عرض تقديمي من PowerPoint</dc:title>
</cp:coreProperties>
</file>