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D7EF-E38F-4A9F-9C39-70424A35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D9A-B4F6-449A-A0FD-7015D929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3862-2082-4C88-927E-1D26575B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124-7C39-4735-89EA-2B394733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ACC-46A8-4020-A616-D9AC7164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2AF-1204-4D9C-8BFC-51E41D65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FB5-EF09-49BA-A7D2-F917264E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ED0-4B53-46FB-8C7A-CC7CDF44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4004-54DC-4236-9CE0-71EAE779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FDD6-F89E-4D58-808B-35932BB9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9AF1-9531-4714-90E6-4EC06C80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5849-BDE3-49E8-88B8-7B457825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A21C-421E-476F-A498-9DDF0D347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lligraphy" descr=""/>
          <p:cNvPicPr/>
          <p:nvPr/>
        </p:nvPicPr>
        <p:blipFill>
          <a:blip r:embed="rId1"/>
          <a:stretch/>
        </p:blipFill>
        <p:spPr>
          <a:xfrm>
            <a:off x="2590920" y="4667400"/>
            <a:ext cx="3657600" cy="1962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24280" y="380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rativ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7632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aring Roman Script with Gothic Scrip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87632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man and Gothic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ell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n English script. Roman is mo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omm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han Gothic because It is easi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ea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cause of this , Roman Script is more often  used in print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eryday handwriting than Gothic 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man script is not as heavy as Gothic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less decorativ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 scripts are vertic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4-03T05:05:05Z</dcterms:modified>
  <cp:revision>8</cp:revision>
  <dc:subject/>
  <dc:title>عرض تقديمي من PowerPoint</dc:title>
</cp:coreProperties>
</file>