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0B0-23B2-4307-B381-DDD2788B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55E8-6CA6-442F-8569-4480E0F1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7DC-16D6-4611-BC6A-CAE29571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E8F-C1D6-4BF7-8B85-BD1C8A1E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491-9B1F-4A4E-9548-610F3665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293-09F9-4876-ABEA-6F0C8344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ABC-AE23-45B6-8070-28AB03A5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623-05E1-49A4-A3C2-FC39B818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65AC-82A8-4B05-9F55-3C31D3C8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0CF-F4C7-496A-B1E8-69CAB840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109-7949-4243-930F-D573B36E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6D9-4A9A-49AF-8FD7-68795F83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5AD5-4FD4-4EFA-9F46-49763D89F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cc"/>
                </a:solidFill>
                <a:latin typeface="Times New Roman"/>
              </a:rPr>
              <a:t>Writing Book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CLIPART\HOMEANIM\AG00343_.GIF"/>
          <p:cNvPicPr/>
          <p:nvPr/>
        </p:nvPicPr>
        <p:blipFill>
          <a:blip r:embed="rId1"/>
          <a:stretch/>
        </p:blipFill>
        <p:spPr>
          <a:xfrm>
            <a:off x="1709640" y="3886200"/>
            <a:ext cx="2100240" cy="2590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4648320" y="4191120"/>
            <a:ext cx="29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...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bu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…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6172200" y="609480"/>
            <a:ext cx="1981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4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04920" y="533520"/>
            <a:ext cx="44193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داية الجم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شخاص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لقاب الأشخا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لغ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ماك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عناو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شه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ي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'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' 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ضمير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عنوان 1"/>
          <p:cNvSpPr/>
          <p:nvPr/>
        </p:nvSpPr>
        <p:spPr>
          <a:xfrm>
            <a:off x="4572000" y="228600"/>
            <a:ext cx="4191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روف الكبي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5181480" y="1752480"/>
            <a:ext cx="3581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حروف الكبيرة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i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حالات التا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في نهاية كل جم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بعد الاختصار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371600" y="5335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Full  Stop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النقاط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438280" y="2057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نقاط 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ع المفرد نضع ، ثم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ع الجمع نض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ثم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000000"/>
                </a:solidFill>
                <a:latin typeface="Times New Roman"/>
              </a:rPr>
              <a:t>مع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ar-SA" sz="3600" spc="-1" strike="noStrike">
                <a:solidFill>
                  <a:srgbClr val="000000"/>
                </a:solidFill>
                <a:latin typeface="Times New Roman"/>
              </a:rPr>
              <a:t>و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371600" y="53352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postrophes  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</a:rPr>
              <a:t>الفواصل العلي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438280" y="2057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فواصل العليا 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ين الأشياء في القوائ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كلمات الافتتاح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عبارات الطوي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في نهاية الجم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أسئلة الذي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خانة الأل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ي مواضع خاصة من الرس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371600" y="3808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ommas  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</a:rPr>
              <a:t>الفواص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438280" y="15238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</a:t>
            </a:r>
            <a:r>
              <a:rPr b="1" i="1" lang="ar-SA" sz="3600" spc="-1" strike="noStrike">
                <a:solidFill>
                  <a:srgbClr val="000000"/>
                </a:solidFill>
                <a:latin typeface="Times New Roman"/>
              </a:rPr>
              <a:t>الفواصل </a:t>
            </a: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371600" y="533520"/>
            <a:ext cx="6400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تنسى الفراغ في بداية كل قطعة بمقدار 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5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حر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te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ot out of my fathe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ca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 saw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 o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led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et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bruary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ct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er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 was at his brothe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hospital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said she wanted to lear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ma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kniv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box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omat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sta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app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pa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الجمل المتشابه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الجمل المتناقض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جمل بها اختي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عند الربط نحذف الكلمات المتكر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1981080" y="60948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الروابط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4:22:52Z</dcterms:created>
  <dc:creator>Bafayad</dc:creator>
  <dc:description/>
  <dc:language>en-US</dc:language>
  <cp:lastModifiedBy>- </cp:lastModifiedBy>
  <dcterms:modified xsi:type="dcterms:W3CDTF">2007-02-24T21:08:30Z</dcterms:modified>
  <cp:revision>15</cp:revision>
  <dc:subject/>
  <dc:title>Writing Book</dc:title>
</cp:coreProperties>
</file>