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841A-49CB-46E6-B79B-9DAFC2DC0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6517-812B-4A33-A7BB-F3A61AC05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2C9A-2004-4D39-95B7-F5B0FF127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C7B0-908F-4BA3-BB35-207EBF68A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3F38-1D96-457E-83DD-808C86B1A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3408-8C7B-4BE6-AA3F-8991EBD0B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475B-B6FB-4452-8324-0E9E777B4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016C-D895-4F57-AF7E-58ED7E924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8D5C-203A-4E51-B1A9-9CD20FEB8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6E16-B981-4B11-B2CF-23D42B4B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3907-DB6F-4E41-A09D-455ECCBB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DF89-4579-41F2-B3B6-D6485350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D20F6-254C-480F-AC33-B3FDCFBD0108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52480" y="3524400"/>
            <a:ext cx="1838520" cy="1752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343400" y="3352680"/>
            <a:ext cx="2986200" cy="200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23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447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000000"/>
                </a:solidFill>
                <a:latin typeface="Times New Roman"/>
              </a:rPr>
              <a:t>الاخـتـصـارات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اختصارات بعض الكلم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590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اختصارات الاماك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4419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اختصارات الاعدا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77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770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828800" y="2533680"/>
            <a:ext cx="1838160" cy="1752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4419720" y="23623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24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اختصارات القياس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2133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اختصارات ايام الأسبوع واشهر السن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3657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اختصارات خاص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5105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اختصارات خاص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77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770" fill="hold"/>
                                        <p:tgtEl>
                                          <p:spTgt spid="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77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770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45720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. Common Symbo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267080" y="1980720"/>
            <a:ext cx="41911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Times New Roman"/>
              </a:rPr>
              <a:t>رموز عام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pre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68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Makkah St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7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U.K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8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University R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9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5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10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e.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000000"/>
                </a:solidFill>
                <a:latin typeface="Times New Roman"/>
              </a:rPr>
              <a:t>الـتـمـاريـن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5T19:12:10Z</dcterms:created>
  <dc:creator>Bafayad</dc:creator>
  <dc:description/>
  <dc:language>en-US</dc:language>
  <cp:lastModifiedBy>معمل الانجليزي</cp:lastModifiedBy>
  <dcterms:modified xsi:type="dcterms:W3CDTF">2005-03-27T06:42:15Z</dcterms:modified>
  <cp:revision>8</cp:revision>
  <dc:subject/>
  <dc:title>عرض تقديمي من PowerPoint</dc:title>
</cp:coreProperties>
</file>