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2C6-232E-4F01-8547-CC2417EB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DB5-A795-4663-B883-E1472845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64A-7205-4F9F-89FB-B2FC3458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B45-A9E1-44DF-8ADC-CDFE2A44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C79-A97F-4A8F-9AA4-F59A2F1B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5D2-965C-4ABD-BCBC-8336E440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0EB-3393-46B4-B8FE-4F13D0B8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7A9-01DE-4B5B-B49E-C5A13EA0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D87-A89F-44F8-B440-A89BD733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C2A-5930-47D0-88CB-5F7532E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DE2-38DD-4714-AEC0-BE09BA8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2BF-930C-4637-9559-7D34FA6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2960-6340-4BB5-B277-0C276B289E1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4099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6858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8195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8195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8769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Abbrev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8769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اختصارات اخ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77156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9720" y="160020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3885840"/>
            <a:ext cx="6019920" cy="2514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heq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lif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ty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t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trous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program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ol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te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N.B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10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O.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3-27T08:49:45Z</dcterms:modified>
  <cp:revision>7</cp:revision>
  <dc:subject/>
  <dc:title>عرض تقديمي من PowerPoint</dc:title>
</cp:coreProperties>
</file>