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7456-5DAF-4150-8E67-529B95CD8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A1A9-03FE-4718-B131-F5A2A4999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6F23-ECB9-496F-9345-2EA450435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FE98-BA23-468A-8AC4-32ABEDDDE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E7F1-A8FF-447C-908A-FA1143F52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65FA-8FFF-45DB-8C11-610A9BC65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D3AA-57EA-4338-BBAA-5733121A9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E7EC-D934-45F5-AAD7-B79EBCCDB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D9B5-DCE9-483F-8149-F298C563B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541C-C125-4887-99FB-0892702E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2187-4E1F-49A4-8A3B-C378F21E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00D2-EA38-4E70-A111-3694F466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CD97B-D097-4F6F-84CD-77DCEB688C5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52480" y="3200400"/>
            <a:ext cx="1838520" cy="1752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343400" y="3029040"/>
            <a:ext cx="298620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29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2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الانجليزية البريطانية و الانجليزية الأمريك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449568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- Different Spel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- الكلمات التي تشتمل على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ur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بالبريطاني تتغير الي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بالأمريك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4120" y="609480"/>
            <a:ext cx="32763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حروف مختلف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581280"/>
            <a:ext cx="777240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- الكلمات التي تنتهي ب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re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بالبريطاني تتغير الي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er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بالأمريك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5257800"/>
            <a:ext cx="77724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- الكلمات التي تنتهي ب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L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بالبريطاني تتغير الي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بالأمريكي (لاحظ حرف العلة قبلها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828800" y="2533680"/>
            <a:ext cx="1838160" cy="1752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4419720" y="23623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3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449568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- Different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4120" y="1143000"/>
            <a:ext cx="32763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كلمات مختلف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33530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humour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diall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. travellin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. kilomet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. labour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6. refuel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7. coloure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8. favouri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9. centimetr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0. cent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4191120"/>
            <a:ext cx="7772400" cy="236196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rubber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curt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. fla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. pe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. shop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6. lor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5T19:26:55Z</dcterms:created>
  <dc:creator>Bafayad</dc:creator>
  <dc:description/>
  <dc:language>en-US</dc:language>
  <cp:lastModifiedBy>معمل الانجليزي</cp:lastModifiedBy>
  <dcterms:modified xsi:type="dcterms:W3CDTF">2005-04-04T04:47:35Z</dcterms:modified>
  <cp:revision>7</cp:revision>
  <dc:subject/>
  <dc:title>عرض تقديمي من PowerPoint</dc:title>
</cp:coreProperties>
</file>