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6CE8C-A1C6-422B-A5A8-72CC10D1A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CA9E5-252A-4581-8DB0-C62F0DDDA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90FE8-D7B9-44D6-8149-E90CE16D6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5A5F9-DFA6-4D0B-8E0B-8E859BF3B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F1A11-42F0-4473-81F6-E6EF3BEF3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D85D6-A460-4385-B467-8B4A95A9A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4259D-00A2-47AD-A037-6BFBEF511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8D1CB-5A7B-4068-95BB-469FB44B3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E2E35-1693-4874-86CD-4BF8C721B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D0D28-C807-4442-9433-55227EF28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1F36F-C6FE-41D8-AFF0-19D7E73D5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2B604-9914-4B1B-A202-42F3C9120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9B5F8-6645-4144-A11C-47C3C8AC3F9C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219320" y="3629160"/>
            <a:ext cx="2666880" cy="254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4786200" y="3762360"/>
            <a:ext cx="2986200" cy="2000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P. 9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DIVIDING  WORD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Arial"/>
              </a:rPr>
              <a:t>Ramadan is the ninth </a:t>
            </a:r>
            <a:r>
              <a:rPr b="0" lang="ar-SA" sz="4000" spc="-1" strike="noStrike">
                <a:solidFill>
                  <a:srgbClr val="ff3300"/>
                </a:solidFill>
                <a:latin typeface="Arial"/>
              </a:rPr>
              <a:t>mo- </a:t>
            </a:r>
            <a:br>
              <a:rPr sz="4000"/>
            </a:br>
            <a:r>
              <a:rPr b="0" lang="ar-SA" sz="4000" spc="-1" strike="noStrike">
                <a:solidFill>
                  <a:srgbClr val="ff3300"/>
                </a:solidFill>
                <a:latin typeface="Arial"/>
              </a:rPr>
              <a:t>nth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</a:rPr>
              <a:t> in Islamic calendar. </a:t>
            </a:r>
            <a:br>
              <a:rPr sz="4000"/>
            </a:br>
            <a:r>
              <a:rPr b="0" lang="ar-SA" sz="4000" spc="-1" strike="noStrike">
                <a:solidFill>
                  <a:srgbClr val="000000"/>
                </a:solidFill>
                <a:latin typeface="Arial"/>
              </a:rPr>
              <a:t>All adult must fast </a:t>
            </a:r>
            <a:r>
              <a:rPr b="0" lang="ar-SA" sz="4000" spc="-1" strike="noStrike">
                <a:solidFill>
                  <a:srgbClr val="ff3300"/>
                </a:solidFill>
                <a:latin typeface="Arial"/>
              </a:rPr>
              <a:t>Ram-</a:t>
            </a:r>
            <a:br>
              <a:rPr sz="4000"/>
            </a:br>
            <a:r>
              <a:rPr b="0" lang="ar-SA" sz="4000" spc="-1" strike="noStrike">
                <a:solidFill>
                  <a:srgbClr val="ff3300"/>
                </a:solidFill>
                <a:latin typeface="Arial"/>
              </a:rPr>
              <a:t>adan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</a:rPr>
              <a:t>. They are not allowed to eat or drink between dawn and sunset. Fasting strengthens a person by increasing his self-control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125520" y="457200"/>
            <a:ext cx="2605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mad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amadan is the ninth </a:t>
            </a: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month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in Islamic calendar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ll adult must fast </a:t>
            </a: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Ramadan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y are not allowed to eat or drink between dawn and sunset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asting strengthens a person by increasing his self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trol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5520" y="457200"/>
            <a:ext cx="2605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mad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Do not divide word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t is not necessary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t is difficul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t does not help you to read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304920" y="914040"/>
            <a:ext cx="43336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1001"/>
              </a:spcBef>
              <a:buClr>
                <a:srgbClr val="ff33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huma-niti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001"/>
              </a:spcBef>
              <a:buClr>
                <a:srgbClr val="ff33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harmac-olog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001"/>
              </a:spcBef>
              <a:buClr>
                <a:srgbClr val="ff33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eteri-n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181480" y="914040"/>
            <a:ext cx="3657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1001"/>
              </a:spcBef>
              <a:buClr>
                <a:srgbClr val="ff33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cien-c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001"/>
              </a:spcBef>
              <a:buClr>
                <a:srgbClr val="ff33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oci-et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001"/>
              </a:spcBef>
              <a:buClr>
                <a:srgbClr val="ff33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conom-ic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001"/>
              </a:spcBef>
              <a:buClr>
                <a:srgbClr val="ff33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ocie-t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304920" y="914040"/>
            <a:ext cx="43336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huma-nities </a:t>
            </a:r>
            <a:r>
              <a:rPr b="0" lang="en-US" sz="4000" spc="-1" strike="noStrike">
                <a:solidFill>
                  <a:srgbClr val="ff3300"/>
                </a:solidFill>
                <a:latin typeface="Webdings"/>
                <a:ea typeface="Webdings"/>
              </a:rPr>
              <a:t>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harmac-ology </a:t>
            </a:r>
            <a:r>
              <a:rPr b="0" lang="en-US" sz="4000" spc="-1" strike="noStrike">
                <a:solidFill>
                  <a:srgbClr val="ff3300"/>
                </a:solidFill>
                <a:latin typeface="Webdings"/>
                <a:ea typeface="Webdings"/>
              </a:rPr>
              <a:t>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eteri-nary </a:t>
            </a:r>
            <a:r>
              <a:rPr b="0" lang="en-US" sz="4000" spc="-1" strike="noStrike">
                <a:solidFill>
                  <a:srgbClr val="ff3300"/>
                </a:solidFill>
                <a:latin typeface="Monotype Sorts"/>
                <a:ea typeface="Monotype Sorts"/>
              </a:rPr>
              <a:t>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181480" y="914040"/>
            <a:ext cx="3657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cien-ces </a:t>
            </a:r>
            <a:r>
              <a:rPr b="0" lang="en-US" sz="4000" spc="-1" strike="noStrike">
                <a:solidFill>
                  <a:srgbClr val="ff3300"/>
                </a:solidFill>
                <a:latin typeface="Webdings"/>
                <a:ea typeface="Webdings"/>
              </a:rPr>
              <a:t>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oci-ety </a:t>
            </a:r>
            <a:r>
              <a:rPr b="0" lang="en-US" sz="4000" spc="-1" strike="noStrike">
                <a:solidFill>
                  <a:srgbClr val="ff3300"/>
                </a:solidFill>
                <a:latin typeface="Monotype Sorts"/>
                <a:ea typeface="Monotype Sorts"/>
              </a:rPr>
              <a:t>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conom-ics </a:t>
            </a:r>
            <a:r>
              <a:rPr b="0" lang="en-US" sz="4000" spc="-1" strike="noStrike">
                <a:solidFill>
                  <a:srgbClr val="ff3300"/>
                </a:solidFill>
                <a:latin typeface="Monotype Sorts"/>
                <a:ea typeface="Monotype Sorts"/>
              </a:rPr>
              <a:t>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ocie-ty </a:t>
            </a:r>
            <a:r>
              <a:rPr b="0" lang="en-US" sz="4000" spc="-1" strike="noStrike">
                <a:solidFill>
                  <a:srgbClr val="ff3300"/>
                </a:solidFill>
                <a:latin typeface="Monotype Sorts"/>
                <a:ea typeface="Monotype Sorts"/>
              </a:rPr>
              <a:t>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685440" y="990360"/>
            <a:ext cx="38098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28120" indent="-528120">
              <a:spcBef>
                <a:spcPts val="1001"/>
              </a:spcBef>
              <a:buClr>
                <a:srgbClr val="3333cc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rabi</a:t>
            </a: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28120" indent="-528120">
              <a:spcBef>
                <a:spcPts val="1001"/>
              </a:spcBef>
              <a:buClr>
                <a:srgbClr val="3333cc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ypes </a:t>
            </a: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•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Firs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28120" indent="-528120">
              <a:spcBef>
                <a:spcPts val="1001"/>
              </a:spcBef>
              <a:buClr>
                <a:srgbClr val="3333cc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ff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28120" indent="-528120">
              <a:spcBef>
                <a:spcPts val="1001"/>
              </a:spcBef>
              <a:buClr>
                <a:srgbClr val="3333cc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cienc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28120" indent="-528120">
              <a:spcBef>
                <a:spcPts val="1001"/>
              </a:spcBef>
              <a:buClr>
                <a:srgbClr val="3333cc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•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28120" indent="-528120">
              <a:spcBef>
                <a:spcPts val="1001"/>
              </a:spcBef>
              <a:buClr>
                <a:srgbClr val="3333cc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u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niversit</a:t>
            </a: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i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28120" indent="-528120">
              <a:spcBef>
                <a:spcPts val="1001"/>
              </a:spcBef>
              <a:buClr>
                <a:srgbClr val="3333cc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ubjects </a:t>
            </a: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•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47960" y="990360"/>
            <a:ext cx="38098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1001"/>
              </a:spcBef>
              <a:buClr>
                <a:srgbClr val="3333cc"/>
              </a:buClr>
              <a:buFont typeface="Times New Roman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w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001"/>
              </a:spcBef>
              <a:buClr>
                <a:srgbClr val="3333cc"/>
              </a:buClr>
              <a:buFont typeface="Times New Roman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ampu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001"/>
              </a:spcBef>
              <a:buClr>
                <a:srgbClr val="3333cc"/>
              </a:buClr>
              <a:buFont typeface="Times New Roman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001"/>
              </a:spcBef>
              <a:buClr>
                <a:srgbClr val="3333cc"/>
              </a:buClr>
              <a:buFont typeface="Times New Roman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001"/>
              </a:spcBef>
              <a:buClr>
                <a:srgbClr val="3333cc"/>
              </a:buClr>
              <a:buFont typeface="Times New Roman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dinah </a:t>
            </a: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•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15T18:11:20Z</dcterms:created>
  <dc:creator>Bafayad</dc:creator>
  <dc:description/>
  <dc:language>en-US</dc:language>
  <cp:lastModifiedBy>معمل الانجليزي</cp:lastModifiedBy>
  <dcterms:modified xsi:type="dcterms:W3CDTF">2005-03-19T08:37:29Z</dcterms:modified>
  <cp:revision>11</cp:revision>
  <dc:subject/>
  <dc:title>Ramadan is the ninth mo-  nth in Islamic calendar.  All adult must fast Ram- adan. They are not allowed to eat or drink between dawn and sunset. Fasting strengthens a person by increasing his self-control.</dc:title>
</cp:coreProperties>
</file>