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7.wmf" ContentType="image/x-wmf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9.wmf" ContentType="image/x-wmf"/>
  <Override PartName="/ppt/media/image18.gif" ContentType="image/gif"/>
  <Override PartName="/ppt/media/image4.png" ContentType="image/png"/>
  <Override PartName="/ppt/media/image14.png" ContentType="image/png"/>
  <Override PartName="/ppt/media/image1.png" ContentType="image/png"/>
  <Override PartName="/ppt/media/image6.png" ContentType="image/png"/>
  <Override PartName="/ppt/media/image11.png" ContentType="image/png"/>
  <Override PartName="/ppt/media/image3.wmf" ContentType="image/x-wmf"/>
  <Override PartName="/ppt/media/image15.jpeg" ContentType="image/jpeg"/>
  <Override PartName="/ppt/media/image2.gif" ContentType="image/gif"/>
  <Override PartName="/ppt/media/image5.png" ContentType="image/png"/>
  <Override PartName="/ppt/media/image10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15B3-01CE-43B5-8369-9EE14762A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32981-9172-410D-BA0A-3343022B4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BA439-45B2-4CA2-BEEB-DDD00DBAF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3B38-2264-4AF6-B561-9CDE9103A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EB19-6AAB-4E6A-90F5-CC19E433CC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048CF-E0D6-416B-8B15-AB363FE6B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4252-5734-40B2-B003-4AFC6987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38481-0E31-4596-B6D7-892D3AA9B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9D29-12BA-40B4-B78B-5229EBC14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17960-1B71-414E-A289-CD9872F12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6B9B-DBAE-4965-B8D8-F54EB380E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5508-6378-4939-965A-4ED0307FF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E0DB4-5A36-441C-9582-718D5EB7DA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wmf"/><Relationship Id="rId3" Type="http://schemas.openxmlformats.org/officeDocument/2006/relationships/image" Target="../media/image17.wmf"/><Relationship Id="rId4" Type="http://schemas.openxmlformats.org/officeDocument/2006/relationships/image" Target="../media/image18.gif"/><Relationship Id="rId5" Type="http://schemas.openxmlformats.org/officeDocument/2006/relationships/image" Target="../media/image19.wmf"/><Relationship Id="rId6" Type="http://schemas.openxmlformats.org/officeDocument/2006/relationships/image" Target="../media/image19.wmf"/><Relationship Id="rId7" Type="http://schemas.openxmlformats.org/officeDocument/2006/relationships/image" Target="../media/image19.wmf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99ff"/>
            </a:gs>
            <a:gs pos="100000">
              <a:srgbClr val="e2e2fe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311880" y="2060640"/>
            <a:ext cx="2570040" cy="42829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187280" y="260280"/>
            <a:ext cx="5472360" cy="4824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68686">
                      <a:alpha val="50000"/>
                    </a:srgbClr>
                  </a:outerShdw>
                </a:effectLst>
                <a:latin typeface="PT Bold Heading"/>
              </a:rPr>
              <a:t>آداب الطعا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effectLst>
                <a:outerShdw dist="107932" dir="13500000" blurRad="0" rotWithShape="0">
                  <a:srgbClr val="868686">
                    <a:alpha val="50000"/>
                  </a:srgbClr>
                </a:outerShdw>
              </a:effectLst>
              <a:latin typeface="PT Bold Heading"/>
              <a:ea typeface="PT Bold Heading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1619280" y="476280"/>
            <a:ext cx="2736720" cy="9986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3"/>
          <a:stretch/>
        </p:blipFill>
        <p:spPr>
          <a:xfrm>
            <a:off x="1692360" y="3797280"/>
            <a:ext cx="525456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4211640" y="2565360"/>
            <a:ext cx="2079720" cy="33130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1116000" y="2276640"/>
            <a:ext cx="1860480" cy="34858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2124000" y="1916280"/>
            <a:ext cx="3344760" cy="38368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1908000" y="501336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2411280" y="4699080"/>
            <a:ext cx="1917720" cy="814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3635280" y="5013360"/>
            <a:ext cx="1917720" cy="8143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4500720" y="404640"/>
            <a:ext cx="3743280" cy="223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000080">
                    <a:alpha val="69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مـع السلامة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000080">
                  <a:alpha val="69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8T15:56:24Z</dcterms:created>
  <dc:creator>User</dc:creator>
  <dc:description/>
  <dc:language>en-US</dc:language>
  <cp:lastModifiedBy>User</cp:lastModifiedBy>
  <dcterms:modified xsi:type="dcterms:W3CDTF">2006-05-17T10:51:45Z</dcterms:modified>
  <cp:revision>7</cp:revision>
  <dc:subject/>
  <dc:title>Slide 1</dc:title>
</cp:coreProperties>
</file>