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wmf" ContentType="image/x-wmf"/>
  <Override PartName="/ppt/media/image18.gif" ContentType="image/gif"/>
  <Override PartName="/ppt/media/image4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wmf" ContentType="image/x-wmf"/>
  <Override PartName="/ppt/media/image15.jpeg" ContentType="image/jpe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15E-AD9D-4104-A1A3-2C6D061E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EBC-A72A-4C03-AD6B-FC398888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0C8-9C59-435F-B007-7EC62E0D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849-7AD6-46F3-8EDE-6E738725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949-0FF5-4291-92ED-5434B054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3CB-7D31-49EF-A9B2-0C935421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3D5-072B-430B-968E-2AB00DE3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53A-9EE1-4824-AFD6-D26547CB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DEB-A5A0-4A51-8249-5EA3F809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298-909A-41F3-9643-E5B9323B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BDD-52DF-4947-9F39-6FDDD81C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132-1272-49FC-AA55-8336A4EE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8A71-BA14-45E9-A7B7-BA0B5FEA2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gi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e2e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311880" y="2060640"/>
            <a:ext cx="2570040" cy="428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260280"/>
            <a:ext cx="5472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T Bold Heading"/>
              </a:rPr>
              <a:t>آداب الطعا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2736720" cy="99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92360" y="3797280"/>
            <a:ext cx="52545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2079720" cy="331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16000" y="2276640"/>
            <a:ext cx="1860480" cy="3485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344760" cy="383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908000" y="501336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411280" y="469908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635280" y="5013360"/>
            <a:ext cx="1917720" cy="81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00720" y="404640"/>
            <a:ext cx="37432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80">
                    <a:alpha val="6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ـع السلامة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80">
                  <a:alpha val="6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5:56:24Z</dcterms:created>
  <dc:creator>User</dc:creator>
  <dc:description/>
  <dc:language>en-US</dc:language>
  <cp:lastModifiedBy>User</cp:lastModifiedBy>
  <dcterms:modified xsi:type="dcterms:W3CDTF">2006-05-17T10:51:45Z</dcterms:modified>
  <cp:revision>7</cp:revision>
  <dc:subject/>
  <dc:title>Slide 1</dc:title>
</cp:coreProperties>
</file>